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94863" cy="6858000"/>
  <p:notesSz cx="69342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6E38-3E80-428B-BE99-80DCA2D15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7A2E-69D6-49BC-B557-1DBB4D68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D210-DB99-4B81-ABAC-E7867233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324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8920" y="198108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720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324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8920" y="4130640"/>
            <a:ext cx="2652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CB5-472F-497F-8006-5A8914E8F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1673-D69B-4FEA-AF83-6E9A1EC7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E35E-F8C1-43D3-B315-F7A038B5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2032-90CA-43BB-8B57-06BB5472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7B75-029E-4855-B631-BB39F73A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7200" y="609120"/>
            <a:ext cx="8238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E573-8756-47AC-952E-9CAC02A5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239D-3971-4919-A4FA-CB96350C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48920" y="413064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A694-3AE7-49EA-A6ED-B33A873A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720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48920" y="1981080"/>
            <a:ext cx="4020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7200" y="4130640"/>
            <a:ext cx="8238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03EC-0959-489F-8EF7-EE3B4C16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27200" y="60912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7200" y="1981080"/>
            <a:ext cx="8238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684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11640" y="6248520"/>
            <a:ext cx="307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6560" y="6248520"/>
            <a:ext cx="2019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9600-FCD7-4007-91D8-2EB164354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7440" y="4441680"/>
            <a:ext cx="19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26720" y="0"/>
            <a:ext cx="5477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8000/EMA12000 Fibre Channel Product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21120" y="3324240"/>
            <a:ext cx="246852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Storage controllers, cache, batteries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622-B21   HSG80 RAID Array Controller w/ 256MB Cac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674-B21   HSx80 256MB cache (2*128MB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623-B21   HSG80 Cache bulkhead upgra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35823-B21   Single external cache batter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81240" y="36576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35360" y="5321160"/>
            <a:ext cx="3405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038480" y="3809880"/>
            <a:ext cx="1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225440" y="533520"/>
            <a:ext cx="7920" cy="2152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991200" y="552600"/>
            <a:ext cx="0" cy="24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59880" y="6391440"/>
            <a:ext cx="18334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0" y="5435640"/>
            <a:ext cx="17892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96040" y="3724200"/>
            <a:ext cx="239400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Supported Hard Driv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28939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1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418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2673-B22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3 SCSI 10K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3065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9.1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8144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2GB Ultra2 SCSI 7200 RPM 1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6-B2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6.4GB Ultra3 SCSI 10K RPM 1</a:t>
            </a:r>
            <a:r>
              <a:rPr b="0" lang="en-US" sz="700" spc="-1" strike="noStrike">
                <a:solidFill>
                  <a:srgbClr val="000000"/>
                </a:solidFill>
                <a:latin typeface="Symbol"/>
                <a:ea typeface="Symbol"/>
              </a:rPr>
              <a:t>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64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6” Drive Extenders (Pack of 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94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72.8GB Ultra3 SCSI 10K RPM 1.6”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365200" y="5030640"/>
            <a:ext cx="2310120" cy="17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Compaq 9000 Series Rack, option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3-B22  9142 42U Cab (opal) No PDU- Shock Pall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4-B22  9136 -36U Cab (opal) No PDU- Shock Palle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5-B22  9122 -22U Cab (opal) No PDU- Shock Pall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70-B21 Side Pan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73-B21 Rack Stabiliz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69-B21 Multi-Bay K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677/678-B21 Fan Kit 110/220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9940-B21 Blank Panel Kit (Qty 4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95363-002 PDU DOM 16 Amp - Zero 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6-20P  PDU supports 6 p/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295363-003 PDU DOM 32 Amp - Zero 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 ft L6-30P  PDU supports 6 p/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rder 91xx  with 1 or 2 PD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Not all options show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833480" y="5249880"/>
            <a:ext cx="574920" cy="1474560"/>
            <a:chOff x="1833480" y="5249880"/>
            <a:chExt cx="574920" cy="1474560"/>
          </a:xfrm>
        </p:grpSpPr>
        <p:sp>
          <p:nvSpPr>
            <p:cNvPr id="55" name=""/>
            <p:cNvSpPr/>
            <p:nvPr/>
          </p:nvSpPr>
          <p:spPr>
            <a:xfrm>
              <a:off x="1833480" y="5249880"/>
              <a:ext cx="574920" cy="14079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3480" y="6670440"/>
              <a:ext cx="150120" cy="525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258280" y="6672240"/>
              <a:ext cx="149760" cy="522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761120" y="5326200"/>
            <a:ext cx="7275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ompa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9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er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Ra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Ret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OPAL only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33480" y="6119640"/>
            <a:ext cx="560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No C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63040" y="6399360"/>
            <a:ext cx="201924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Power Cord: IEC320-C13 to IEC320-C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5S-02    2.5M IEC cable, black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N30B-02    2.5M IEC cable, gray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91080" y="5934240"/>
            <a:ext cx="21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240400" y="0"/>
            <a:ext cx="113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ugust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26240" y="2911320"/>
            <a:ext cx="18414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Multi-path Softw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5989-B21 Secure Path V3.1 for W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5991-B21 Secure Path V2.1 for S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A/F500 Clus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Basic 103250-B2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3045960" y="2698560"/>
            <a:ext cx="3240" cy="223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6999120" y="3015720"/>
            <a:ext cx="8812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65160" y="5587920"/>
            <a:ext cx="210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747520" y="3049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608360" y="5454360"/>
            <a:ext cx="3225960" cy="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6600" y="298440"/>
            <a:ext cx="350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CTO orders require Part Number118102-888 on the first 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23840"/>
            <a:ext cx="1384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odel 2200 (M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ontroller Enclos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3440" y="1095480"/>
            <a:ext cx="43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ro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1680" y="1711440"/>
            <a:ext cx="41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1768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35820-B2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906560"/>
            <a:ext cx="1230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(2) 180W Power Supplies, (3) Fans,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UltraSCSI I/O Modules, EMU, (2) IEC C13-C14 Power Cords, RETMA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ounting k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14480" y="2673360"/>
            <a:ext cx="688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95440" y="4191120"/>
            <a:ext cx="1682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U Model 43x0 Device Enclo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608000" y="4946760"/>
            <a:ext cx="3240" cy="19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11600" y="4873680"/>
            <a:ext cx="3061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SCSI Cables - VHDCI to VHDCI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68256-B21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Meter,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68257-B21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2M, 189505-B21 3M,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400983-005 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5M,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400985-010 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0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643280" y="5506920"/>
            <a:ext cx="555840" cy="1226880"/>
            <a:chOff x="4643280" y="5506920"/>
            <a:chExt cx="555840" cy="1226880"/>
          </a:xfrm>
        </p:grpSpPr>
        <p:sp>
          <p:nvSpPr>
            <p:cNvPr id="80" name=""/>
            <p:cNvSpPr/>
            <p:nvPr/>
          </p:nvSpPr>
          <p:spPr>
            <a:xfrm>
              <a:off x="4643280" y="5506920"/>
              <a:ext cx="555840" cy="11718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144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43280" y="6689160"/>
              <a:ext cx="145080" cy="435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54040" y="6690600"/>
              <a:ext cx="144720" cy="432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5153040" y="5433840"/>
            <a:ext cx="2851200" cy="11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Modular Storage Cabinet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1-B21  42U  (opal) 60Hz w/ (26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2-B22  42U  (opal) 50Hz w/ (26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3-B21  36U  (opal) 60Hz w/ (2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4-B22  36U  (opal) 50Hz w/ (2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5-B21  22U  (opal) 60Hz w/ (1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6-B22  22U  (opal) 50Hz w/ (12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7-B21  41U  (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) 60Hz w/ (26) IEC320-C13 - C14 Power Cords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0318-B22  41U  (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) 50Hz w/ (26) IEC320-C13 - C14 Power Cor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4160" y="5608800"/>
            <a:ext cx="694080" cy="7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Modular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Cabin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TO avail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10360" y="6446880"/>
            <a:ext cx="2515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ll Modular Storage Cabs include: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ront &amp; back doors, Side panels, (2) 2U 24Amp PDUs each with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15’ L6-30P input Power Cord, (16) IEC320-C13 receptac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85160" y="598320"/>
            <a:ext cx="651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A8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958800" y="1774800"/>
            <a:ext cx="1003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2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22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3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7104240" y="820800"/>
            <a:ext cx="632880" cy="947520"/>
            <a:chOff x="7104240" y="820800"/>
            <a:chExt cx="632880" cy="947520"/>
          </a:xfrm>
        </p:grpSpPr>
        <p:sp>
          <p:nvSpPr>
            <p:cNvPr id="89" name=""/>
            <p:cNvSpPr/>
            <p:nvPr/>
          </p:nvSpPr>
          <p:spPr>
            <a:xfrm>
              <a:off x="7104240" y="820800"/>
              <a:ext cx="632880" cy="90468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04240" y="1733400"/>
              <a:ext cx="164880" cy="338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72240" y="1734480"/>
              <a:ext cx="164880" cy="338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8620560" y="368280"/>
            <a:ext cx="9928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MA12000 Blu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687520" y="2097000"/>
            <a:ext cx="100332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3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41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3) 435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8799480" y="561960"/>
            <a:ext cx="633240" cy="1550880"/>
            <a:chOff x="8799480" y="561960"/>
            <a:chExt cx="633240" cy="1550880"/>
          </a:xfrm>
        </p:grpSpPr>
        <p:sp>
          <p:nvSpPr>
            <p:cNvPr id="95" name=""/>
            <p:cNvSpPr/>
            <p:nvPr/>
          </p:nvSpPr>
          <p:spPr>
            <a:xfrm>
              <a:off x="8799480" y="561960"/>
              <a:ext cx="633240" cy="148104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799480" y="2055600"/>
              <a:ext cx="164880" cy="558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267840" y="2057400"/>
              <a:ext cx="164880" cy="5544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 flipH="1" flipV="1">
            <a:off x="7838640" y="3022560"/>
            <a:ext cx="1260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6840" y="5442120"/>
            <a:ext cx="190296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C Storage Area Network 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FC  SAN Switch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8223-B21  FC SAN Switch 16 por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58222-B21  FC SAN Switch 8 por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219-B21  FC SAN Switch 8-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7365-B21  8/16 SAN Switch Brac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407-B21  8/16 SAN Switch Power o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BICs, Connection Ki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61-B21 Optical Short Wave GB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9-B21 Kit 3 SW  GBIC, 2-2M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96-B21 Kit 2 SW GBIC, 2-2M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7508-B21 Optical Long Wave GB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520" y="576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71440" y="523800"/>
            <a:ext cx="5862600" cy="23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Platform kit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required per platform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, adapters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 per host connection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O.S. Version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G80 SFT Kit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FC Adapters(AKA);Bu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ACS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Multi Path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igh Availability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FC Sup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NT X86 NT4.0/W2K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1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479-B21(DS-KGPSA-CB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cure Path V2.2.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SCSV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, Loop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T   4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6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4-001 (KGPSA-BC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cure Path V2.2.2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MSCSV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64 4.0F/5.0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3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794-B21(DS-KGPSA-CA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Tru64 5.0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Cluster 1.6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64 UNIX 4.0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Configured and ordered through CSS only)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u64 UNIX 5.0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3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794-B21(KGPSA-CA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OS    (NOT YET AVAILABLE)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7.2-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5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8794-B21(DS-KGPSA-CA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O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Cluster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            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7.2-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4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4-001(KGPSA-BC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 O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penVMS Cluster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olaris 2.6, 7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4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3503-001(DS-SWSA4-SC); SBU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ecure Path  V2.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irstWatch onV2.6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witch, 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6-001(SWSA4-PC);PCI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CS V1.01 on V2.6,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7.0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etWare  4.2,5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9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0186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,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CSV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GI IRIX 6.5..3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6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rigin 2000 SGI XT-FC-2P:XIO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rigin 200 SGI PCI-FC-IP;PCI (requires X-F-OE-KIT (MIA)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P-UX 10.2, 11.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7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P9000/800 K Class A3404A;HSC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         Pvlinks in HP-UX 10.2 MC Service Guard Switch,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P9000/800 D Class A3591A;GS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BM AIX 4.2.1, 4.3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58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9841-B21 PCI for RS/6000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HACMP V4.3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nux Alpha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088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7432-001 PCI for Linux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542960"/>
                <a:tab algn="l" pos="2914560"/>
                <a:tab algn="l" pos="3371760"/>
                <a:tab algn="l" pos="4172040"/>
                <a:tab algn="l" pos="5143680"/>
                <a:tab algn="l" pos="5657760"/>
                <a:tab algn="l" pos="6286680"/>
                <a:tab algn="l" pos="6915240"/>
                <a:tab algn="l" pos="7543800"/>
                <a:tab algn="l" pos="8172360"/>
                <a:tab algn="l" pos="8801280"/>
                <a:tab algn="l" pos="9429840"/>
                <a:tab algn="l" pos="10058400"/>
                <a:tab algn="l" pos="106869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nux ProLiant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088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7432-001 PCI for Linux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8.5G,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oo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5800" y="2685960"/>
            <a:ext cx="2828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HSG80 Array Controller Software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(1 per controller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80577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8.5G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-AL Softwa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7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8.5F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-AL/SW  Software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60091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V8.5S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/SW Software w/CLONE+SNAPSHOT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74304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28698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S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V8.5P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/SW Data Replication Softwa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1809720" y="4946400"/>
            <a:ext cx="1440" cy="19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05040" y="4930920"/>
            <a:ext cx="603576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3880" y="355680"/>
            <a:ext cx="119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Predefined 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956720" y="785880"/>
            <a:ext cx="632880" cy="1417320"/>
            <a:chOff x="7956720" y="785880"/>
            <a:chExt cx="632880" cy="1417320"/>
          </a:xfrm>
        </p:grpSpPr>
        <p:sp>
          <p:nvSpPr>
            <p:cNvPr id="107" name=""/>
            <p:cNvSpPr/>
            <p:nvPr/>
          </p:nvSpPr>
          <p:spPr>
            <a:xfrm>
              <a:off x="7956720" y="785880"/>
              <a:ext cx="632880" cy="135360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956720" y="2151000"/>
              <a:ext cx="164880" cy="5076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24720" y="2152800"/>
              <a:ext cx="164880" cy="5040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856280" y="592200"/>
            <a:ext cx="950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EMA12000 S1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39720" y="2181240"/>
            <a:ext cx="10033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5991-B21/60H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 36U Modula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Storage Cab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1)   M2200 Enclosu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  4314 Enclosu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(6) SCSI VHD-VH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ontrollers, Batteri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nd Disks ordered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eparate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04760" y="5113440"/>
            <a:ext cx="29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imes New Roman"/>
              </a:rPr>
              <a:t>FC Cables 50 Micron Short Wave Multi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34457-B21/B22/B23/B24/B25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Optical cables (2/5/15/30/50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081240"/>
            <a:ext cx="3040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0338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14R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90209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4R - Single Bus, 14 Bay Device Enclosure, RETMA mounting kit, (2) Blowers, (1) Power Supply, (1) IEC-C13 to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557520"/>
            <a:ext cx="3137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38151-00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 - 4254 (Ultra 2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90211-00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54R - Dual Bus, 14 Bay Device Enclosure, RETMA mounting kit, (2) Blowers,  (2) Power Supplies, (2) IEC-C13 to NEMA 5-15P Power Cords, (2) IEC-C13 to IEC-C14 Power Cords.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4500720"/>
            <a:ext cx="3030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4631-B2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10R - Single Bus, 10 Bay Device Enclosure, RETMA mounting kit, (2) Blowers, (2) Power Supplies, (1) IEC-C13 to NEMA 5-15P Power Cord, (1) 3.7M VHD - VHD SCSI Cab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834080"/>
            <a:ext cx="18032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74630-B21 - 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350R - Dual Bus, 10 Bay Device Enclosure, RETMA mounting kit, (2) Blowers, (2) Power Supplies (2) IEC-C13 to NEMA 5-15P Power Cords, (2) 3.7M VHD - VHD SCSI Cabl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24000" y="2805120"/>
            <a:ext cx="186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U Model 42x4, 43x4 Device Enclo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05680" y="971640"/>
            <a:ext cx="622440" cy="1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37360" y="939960"/>
            <a:ext cx="584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112160" y="1181160"/>
            <a:ext cx="61596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24760" y="12063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3 dual bus 14-bay drive enclos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50240" y="1066680"/>
            <a:ext cx="635040" cy="1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1920" y="1035000"/>
            <a:ext cx="584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956720" y="1276200"/>
            <a:ext cx="622080" cy="58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69320" y="1301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6 single bus 14-bay drive enclos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801560" y="3359160"/>
            <a:ext cx="1003320" cy="2876760"/>
            <a:chOff x="7801560" y="3359160"/>
            <a:chExt cx="1003320" cy="2876760"/>
          </a:xfrm>
        </p:grpSpPr>
        <p:grpSp>
          <p:nvGrpSpPr>
            <p:cNvPr id="127" name=""/>
            <p:cNvGrpSpPr/>
            <p:nvPr/>
          </p:nvGrpSpPr>
          <p:grpSpPr>
            <a:xfrm>
              <a:off x="7918560" y="3543480"/>
              <a:ext cx="632880" cy="1540800"/>
              <a:chOff x="7918560" y="3543480"/>
              <a:chExt cx="632880" cy="1540800"/>
            </a:xfrm>
          </p:grpSpPr>
          <p:sp>
            <p:nvSpPr>
              <p:cNvPr id="128" name=""/>
              <p:cNvSpPr/>
              <p:nvPr/>
            </p:nvSpPr>
            <p:spPr>
              <a:xfrm>
                <a:off x="7918560" y="3543480"/>
                <a:ext cx="632880" cy="1471680"/>
              </a:xfrm>
              <a:prstGeom prst="rect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918560" y="5027760"/>
                <a:ext cx="164880" cy="5544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386560" y="5029200"/>
                <a:ext cx="164880" cy="55080"/>
              </a:xfrm>
              <a:prstGeom prst="ellipse">
                <a:avLst/>
              </a:prstGeom>
              <a:solidFill>
                <a:srgbClr val="b2b2b2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7801560" y="3359160"/>
              <a:ext cx="1003320" cy="2876760"/>
              <a:chOff x="7801560" y="3359160"/>
              <a:chExt cx="1003320" cy="2876760"/>
            </a:xfrm>
          </p:grpSpPr>
          <p:sp>
            <p:nvSpPr>
              <p:cNvPr id="132" name=""/>
              <p:cNvSpPr/>
              <p:nvPr/>
            </p:nvSpPr>
            <p:spPr>
              <a:xfrm>
                <a:off x="7808760" y="3359160"/>
                <a:ext cx="95004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EMA12000 S1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801560" y="5062680"/>
                <a:ext cx="1003320" cy="11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75994-B21/60H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)  42U Modula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Storage Cab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)   M2200 Enclosure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6)   4310 Enclosur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6) SCSI VHD-VH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Cabl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Controllers, Batteri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and Disks ordered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separatel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912080" y="3962520"/>
                <a:ext cx="635040" cy="196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943760" y="3930480"/>
                <a:ext cx="584280" cy="27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(1) M2200 enclosure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7918560" y="4172040"/>
                <a:ext cx="628560" cy="58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931160" y="4197240"/>
                <a:ext cx="59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6 single bus 10-bay drive enclosures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8807400" y="882720"/>
            <a:ext cx="622440" cy="19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39080" y="841320"/>
            <a:ext cx="58428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(1) M2200 enclos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807400" y="1092240"/>
            <a:ext cx="622440" cy="37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826480" y="11174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3 single bus 14-bay drive enclos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643960" y="3314880"/>
            <a:ext cx="1047240" cy="2927160"/>
            <a:chOff x="8643960" y="3314880"/>
            <a:chExt cx="1047240" cy="2927160"/>
          </a:xfrm>
        </p:grpSpPr>
        <p:grpSp>
          <p:nvGrpSpPr>
            <p:cNvPr id="143" name=""/>
            <p:cNvGrpSpPr/>
            <p:nvPr/>
          </p:nvGrpSpPr>
          <p:grpSpPr>
            <a:xfrm>
              <a:off x="8643960" y="3314880"/>
              <a:ext cx="1047240" cy="2927160"/>
              <a:chOff x="8643960" y="3314880"/>
              <a:chExt cx="1047240" cy="292716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8807400" y="3527280"/>
                <a:ext cx="633240" cy="1550880"/>
                <a:chOff x="8807400" y="3527280"/>
                <a:chExt cx="633240" cy="1550880"/>
              </a:xfrm>
            </p:grpSpPr>
            <p:grpSp>
              <p:nvGrpSpPr>
                <p:cNvPr id="145" name=""/>
                <p:cNvGrpSpPr/>
                <p:nvPr/>
              </p:nvGrpSpPr>
              <p:grpSpPr>
                <a:xfrm>
                  <a:off x="8807400" y="3527280"/>
                  <a:ext cx="633240" cy="1550880"/>
                  <a:chOff x="8807400" y="3527280"/>
                  <a:chExt cx="633240" cy="155088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8807400" y="3527280"/>
                    <a:ext cx="633240" cy="1481040"/>
                  </a:xfrm>
                  <a:prstGeom prst="rect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8807400" y="5020920"/>
                    <a:ext cx="164880" cy="5580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6840" bIns="-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9275760" y="5022720"/>
                    <a:ext cx="164880" cy="55440"/>
                  </a:xfrm>
                  <a:prstGeom prst="ellipse">
                    <a:avLst/>
                  </a:prstGeom>
                  <a:solidFill>
                    <a:srgbClr val="b2b2b2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9" name=""/>
                <p:cNvSpPr/>
                <p:nvPr/>
              </p:nvSpPr>
              <p:spPr>
                <a:xfrm>
                  <a:off x="8807400" y="3543480"/>
                  <a:ext cx="622440" cy="1965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813880" y="3746520"/>
                  <a:ext cx="615960" cy="272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8807400" y="4019400"/>
                  <a:ext cx="622440" cy="196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813880" y="4222800"/>
                  <a:ext cx="615960" cy="272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807400" y="4502160"/>
                  <a:ext cx="622440" cy="196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813880" y="4705200"/>
                  <a:ext cx="615960" cy="2732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" name=""/>
              <p:cNvSpPr/>
              <p:nvPr/>
            </p:nvSpPr>
            <p:spPr>
              <a:xfrm>
                <a:off x="8643960" y="3314880"/>
                <a:ext cx="968400" cy="22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EMA12000 D14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664840" y="5068800"/>
                <a:ext cx="1026360" cy="11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175990-B21/60Hz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)   42U Modular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Storage Cab.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3)   M2200 Enclosur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9)   4354 Enclosures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(18) SCSI VHD-VH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Cable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Controllers, Batteries 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and Disks ordered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Times New Roman"/>
                  </a:rPr>
                  <a:t>separately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8807400" y="3508200"/>
              <a:ext cx="584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1) M2200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826480" y="370188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 dual bus 14-bay drive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807400" y="3984480"/>
              <a:ext cx="584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1) M2200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826480" y="417816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 dual bus 14-bay drive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807400" y="4467240"/>
              <a:ext cx="58428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(1) M2200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826480" y="4660920"/>
              <a:ext cx="59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3 dual bus 14-bay drive enclosures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038400" y="4133880"/>
            <a:ext cx="18766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Times New Roman"/>
              </a:rPr>
              <a:t>Enclosure  op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6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14R Redundant power suppl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982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4214R Dual Bus I/O Modu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0212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Ultra3 Single Bus I/O Modu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0213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Ultra3 Dual Bus I/0 Modul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M2_Front" descr=""/>
          <p:cNvPicPr/>
          <p:nvPr/>
        </p:nvPicPr>
        <p:blipFill>
          <a:blip r:embed="rId1"/>
          <a:stretch/>
        </p:blipFill>
        <p:spPr>
          <a:xfrm>
            <a:off x="160200" y="766800"/>
            <a:ext cx="1009800" cy="314280"/>
          </a:xfrm>
          <a:prstGeom prst="rect">
            <a:avLst/>
          </a:prstGeom>
          <a:ln w="0">
            <a:noFill/>
          </a:ln>
        </p:spPr>
      </p:pic>
      <p:pic>
        <p:nvPicPr>
          <p:cNvPr id="165" name="M2_Rear" descr=""/>
          <p:cNvPicPr/>
          <p:nvPr/>
        </p:nvPicPr>
        <p:blipFill>
          <a:blip r:embed="rId2"/>
          <a:stretch/>
        </p:blipFill>
        <p:spPr>
          <a:xfrm>
            <a:off x="160200" y="1355760"/>
            <a:ext cx="951120" cy="353880"/>
          </a:xfrm>
          <a:prstGeom prst="rect">
            <a:avLst/>
          </a:prstGeom>
          <a:ln w="0">
            <a:noFill/>
          </a:ln>
        </p:spPr>
      </p:pic>
      <p:pic>
        <p:nvPicPr>
          <p:cNvPr id="166" name="Star10c" descr=""/>
          <p:cNvPicPr/>
          <p:nvPr/>
        </p:nvPicPr>
        <p:blipFill>
          <a:blip r:embed="rId3"/>
          <a:stretch/>
        </p:blipFill>
        <p:spPr>
          <a:xfrm>
            <a:off x="125280" y="4133880"/>
            <a:ext cx="1155960" cy="380880"/>
          </a:xfrm>
          <a:prstGeom prst="rect">
            <a:avLst/>
          </a:prstGeom>
          <a:ln w="0">
            <a:noFill/>
          </a:ln>
        </p:spPr>
      </p:pic>
      <p:pic>
        <p:nvPicPr>
          <p:cNvPr id="167" name="Star14a" descr=""/>
          <p:cNvPicPr/>
          <p:nvPr/>
        </p:nvPicPr>
        <p:blipFill>
          <a:blip r:embed="rId4"/>
          <a:stretch/>
        </p:blipFill>
        <p:spPr>
          <a:xfrm>
            <a:off x="0" y="2705040"/>
            <a:ext cx="1257480" cy="419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19440" y="3171960"/>
            <a:ext cx="50194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76219-B21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C SAN Switch 8-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0T16:16:58Z</dcterms:created>
  <dc:creator>Brian Montaquila</dc:creator>
  <dc:description/>
  <dc:language>en-US</dc:language>
  <cp:lastModifiedBy>GilmerK</cp:lastModifiedBy>
  <cp:lastPrinted>2000-07-18T16:33:02Z</cp:lastPrinted>
  <dcterms:modified xsi:type="dcterms:W3CDTF">2000-08-01T16:51:07Z</dcterms:modified>
  <cp:revision>72</cp:revision>
  <dc:subject/>
  <dc:title>No Slide Title</dc:title>
</cp:coreProperties>
</file>