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1.png" ContentType="image/png"/>
  <Override PartName="/ppt/media/image6.wmf" ContentType="image/x-wmf"/>
  <Override PartName="/ppt/media/image19.jpeg" ContentType="image/jpeg"/>
  <Override PartName="/ppt/media/image7.jpeg" ContentType="image/jpeg"/>
  <Override PartName="/ppt/media/image18.png" ContentType="image/png"/>
  <Override PartName="/ppt/media/image20.png" ContentType="image/png"/>
  <Override PartName="/ppt/media/image12.png" ContentType="image/png"/>
  <Override PartName="/ppt/media/image23.wmf" ContentType="image/x-wmf"/>
  <Override PartName="/ppt/media/image22.wmf" ContentType="image/x-wmf"/>
  <Override PartName="/ppt/media/image21.jpeg" ContentType="image/jpeg"/>
  <Override PartName="/ppt/media/image16.png" ContentType="image/png"/>
  <Override PartName="/ppt/media/image17.png" ContentType="image/png"/>
  <Override PartName="/ppt/media/image4.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7DD7-44F8-472B-A297-2FF4B7974DB0}"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70160" y="352440"/>
            <a:ext cx="4116240" cy="3087720"/>
          </a:xfrm>
          <a:prstGeom prst="rect">
            <a:avLst/>
          </a:prstGeom>
          <a:ln w="0">
            <a:noFill/>
          </a:ln>
        </p:spPr>
      </p:sp>
      <p:sp>
        <p:nvSpPr>
          <p:cNvPr id="580"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9" name="PlaceHolder 1"/>
          <p:cNvSpPr>
            <a:spLocks noGrp="1"/>
          </p:cNvSpPr>
          <p:nvPr>
            <p:ph type="sldImg"/>
          </p:nvPr>
        </p:nvSpPr>
        <p:spPr>
          <a:xfrm>
            <a:off x="1370160" y="352440"/>
            <a:ext cx="4116240" cy="3087720"/>
          </a:xfrm>
          <a:prstGeom prst="rect">
            <a:avLst/>
          </a:prstGeom>
          <a:ln w="0">
            <a:noFill/>
          </a:ln>
        </p:spPr>
      </p:sp>
      <p:sp>
        <p:nvSpPr>
          <p:cNvPr id="61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13" name="PlaceHolder 1"/>
          <p:cNvSpPr>
            <a:spLocks noGrp="1"/>
          </p:cNvSpPr>
          <p:nvPr>
            <p:ph type="sldImg"/>
          </p:nvPr>
        </p:nvSpPr>
        <p:spPr>
          <a:xfrm>
            <a:off x="1370160" y="352440"/>
            <a:ext cx="4116240" cy="3087720"/>
          </a:xfrm>
          <a:prstGeom prst="rect">
            <a:avLst/>
          </a:prstGeom>
          <a:ln w="0">
            <a:noFill/>
          </a:ln>
        </p:spPr>
      </p:sp>
      <p:sp>
        <p:nvSpPr>
          <p:cNvPr id="61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17" name="PlaceHolder 1"/>
          <p:cNvSpPr>
            <a:spLocks noGrp="1"/>
          </p:cNvSpPr>
          <p:nvPr>
            <p:ph type="sldImg"/>
          </p:nvPr>
        </p:nvSpPr>
        <p:spPr>
          <a:xfrm>
            <a:off x="1370160" y="352440"/>
            <a:ext cx="4116240" cy="30877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370160" y="352440"/>
            <a:ext cx="4116240" cy="3087720"/>
          </a:xfrm>
          <a:prstGeom prst="rect">
            <a:avLst/>
          </a:prstGeom>
          <a:ln w="0">
            <a:noFill/>
          </a:ln>
        </p:spPr>
      </p:sp>
      <p:sp>
        <p:nvSpPr>
          <p:cNvPr id="58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ProLiant ML150 G5 (ML150 G5) server is an Intel-based, 5U form factor, tower server with up to two Intel Xeon 5400 sequence quad-core or up to two 5200 sequence dual-core processors.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PMingLiU"/>
              </a:rPr>
              <a:t>This product will significantly reduce total cost of ownership (TCO) from the previous generation. There is Increased internal efficiency by leveraging the MPH chassis infrastructure. The ML150 G5 provides the best cost performance 2P Tower server which deploys the most updated Intel architecture processor. Companies with remote locations or trusted advisors can take advantage of the available Lights-Out 100c remote management card to decrease server/company downtime and increase productivity.</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L150 G5 will utilize the latest Intel processor technolog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Performance</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Two quad-core Xeon processors and up to 12M L2 cache that deliver ultimate processor performance with eight cores using optimized L2 cache</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Options</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4x SAS/SATA hot plug HDD cage kit standard package also upgradeable to 8x hot plug HDD SAS provides increased performance, simplified cabling, and better fault isolation than parallel SCSI without cost premium, also SATA HDD provide high capacity at a lower cost</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Redundancy</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1+1 750W Power Supply,</a:t>
            </a:r>
            <a:r>
              <a:rPr b="0" lang="en-US" sz="1600" spc="-1" strike="noStrike">
                <a:solidFill>
                  <a:srgbClr val="000000"/>
                </a:solidFill>
                <a:latin typeface="Futura Bk"/>
              </a:rPr>
              <a:t> t</a:t>
            </a:r>
            <a:r>
              <a:rPr b="0" lang="en-US" sz="1600" spc="-1" strike="noStrike">
                <a:solidFill>
                  <a:srgbClr val="000000"/>
                </a:solidFill>
                <a:latin typeface="Futura Bk"/>
                <a:ea typeface="PMingLiU"/>
              </a:rPr>
              <a:t>o keep the system running at no risk if one power supply's dead</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Rack Option Kit</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High flexibility for future in terms of expandability, consolidation and re-location</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Management</a:t>
            </a:r>
            <a:r>
              <a:rPr b="0" lang="en-US" sz="1600" spc="-1" strike="noStrike">
                <a:solidFill>
                  <a:srgbClr val="000000"/>
                </a:solidFill>
                <a:latin typeface="Futura Bk"/>
                <a:ea typeface="PMingLiU"/>
              </a:rPr>
              <a:t> </a:t>
            </a:r>
            <a:r>
              <a:rPr b="0" lang="en-US" sz="1600" spc="-1" strike="noStrike">
                <a:solidFill>
                  <a:srgbClr val="000000"/>
                </a:solidFill>
                <a:latin typeface="Futura Bk"/>
              </a:rPr>
              <a:t>— Optional HP ProLiant Lights-Out 100</a:t>
            </a:r>
            <a:r>
              <a:rPr b="0" lang="en-US" sz="1600" spc="-1" strike="noStrike">
                <a:solidFill>
                  <a:srgbClr val="000000"/>
                </a:solidFill>
                <a:latin typeface="Futura Bk"/>
                <a:ea typeface="PMingLiU"/>
              </a:rPr>
              <a:t>c remote management C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andard warranty includes (1-1-1) 1 year parts, 1 year labor, and 1 year on-site support</a:t>
            </a:r>
            <a:endParaRPr b="0" lang="en-US" sz="16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8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85" name="PlaceHolder 1"/>
          <p:cNvSpPr>
            <a:spLocks noGrp="1"/>
          </p:cNvSpPr>
          <p:nvPr>
            <p:ph type="sldImg"/>
          </p:nvPr>
        </p:nvSpPr>
        <p:spPr>
          <a:xfrm>
            <a:off x="1370160" y="352440"/>
            <a:ext cx="4116240" cy="3087720"/>
          </a:xfrm>
          <a:prstGeom prst="rect">
            <a:avLst/>
          </a:prstGeom>
          <a:ln w="0">
            <a:noFill/>
          </a:ln>
        </p:spPr>
      </p:sp>
      <p:sp>
        <p:nvSpPr>
          <p:cNvPr id="58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and modems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pplications, such as email,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onnectivity is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condly, the ML150 G5 was specifically designed for and rigorously tested with server applications in demanding server configurations. This testing cycle ensures optimal performance and dependability when deployed as a server.</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8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89" name="PlaceHolder 1"/>
          <p:cNvSpPr>
            <a:spLocks noGrp="1"/>
          </p:cNvSpPr>
          <p:nvPr>
            <p:ph type="sldImg"/>
          </p:nvPr>
        </p:nvSpPr>
        <p:spPr>
          <a:xfrm>
            <a:off x="1370160" y="352440"/>
            <a:ext cx="4116240" cy="3087720"/>
          </a:xfrm>
          <a:prstGeom prst="rect">
            <a:avLst/>
          </a:prstGeom>
          <a:ln w="0">
            <a:noFill/>
          </a:ln>
        </p:spPr>
      </p:sp>
      <p:sp>
        <p:nvSpPr>
          <p:cNvPr id="59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Core Intel Xeon processor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93" name="PlaceHolder 1"/>
          <p:cNvSpPr>
            <a:spLocks noGrp="1"/>
          </p:cNvSpPr>
          <p:nvPr>
            <p:ph type="sldImg"/>
          </p:nvPr>
        </p:nvSpPr>
        <p:spPr>
          <a:xfrm>
            <a:off x="1370160" y="352440"/>
            <a:ext cx="4116240" cy="3087720"/>
          </a:xfrm>
          <a:prstGeom prst="rect">
            <a:avLst/>
          </a:prstGeom>
          <a:ln w="0">
            <a:noFill/>
          </a:ln>
        </p:spPr>
      </p:sp>
      <p:sp>
        <p:nvSpPr>
          <p:cNvPr id="59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HP product family position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ML150 G5 server supports the latest Intel processor and is positioned to leverage the 150 series ProLiant portfolio. </a:t>
            </a:r>
            <a:r>
              <a:rPr b="0" lang="en-US" sz="1600" spc="-1" strike="noStrike">
                <a:solidFill>
                  <a:srgbClr val="000000"/>
                </a:solidFill>
                <a:latin typeface="Futura Bk"/>
              </a:rPr>
              <a:t>The ML150 G5 server offers great value and best in class price performance dual and quad core architecture which provides more than enough through put for data processing. The ML150 G5 server is also an affordable dual processor server with essential management and redundancy and enough power to handle complex business requirements. The ML150 G5 server differentiates from the ML350 on the high end and the ML110 on the low end. Also the ML150 G5 has a more appealing feature set than the ML150 G3 and has less cost and features then the ML350 (management, redundant fan). The ML150 G5 has additional expansion capability (processor, memory, drives) than the ML 110.</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arget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B applic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OHO / workshop with limited IT resourc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afe</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pplication or Us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le and pr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eb messag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all vertical applications or databas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hared internet access and LAN infrastructure</a:t>
            </a: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97" name="PlaceHolder 1"/>
          <p:cNvSpPr>
            <a:spLocks noGrp="1"/>
          </p:cNvSpPr>
          <p:nvPr>
            <p:ph type="sldImg"/>
          </p:nvPr>
        </p:nvSpPr>
        <p:spPr>
          <a:xfrm>
            <a:off x="1370160" y="352440"/>
            <a:ext cx="4116240" cy="3087720"/>
          </a:xfrm>
          <a:prstGeom prst="rect">
            <a:avLst/>
          </a:prstGeom>
          <a:ln w="0">
            <a:noFill/>
          </a:ln>
        </p:spPr>
      </p:sp>
      <p:sp>
        <p:nvSpPr>
          <p:cNvPr id="59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Quad-core processing capability at an affordable price</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PMingLiU"/>
              </a:rPr>
              <a:t>The ML150 G5 is the lowest cost DP server in the HP portfolio</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It can provide basic file/print, database server functionality at an appropriate price po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Expandability and affordable over and beyond a typical DP tower serve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PMingLiU"/>
              </a:rPr>
              <a:t>ML150 G5 is flexible in deployment</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Provides a server management upgrade, Hot Plug HDD kit, and a redundancy power supply ki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Deploy the server in a rack</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The ML150 offers a rack convertible option kit to meet customers need in terms of server consolid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Remotely mange the serve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Although not available with on board support, the ML150 G5 comes with standard IPMI reporting, also, via a Lights-Out 100 card (418280-B21), the ML150 G5 is accessible via remote KVM over a secure connection</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1" name="PlaceHolder 1"/>
          <p:cNvSpPr>
            <a:spLocks noGrp="1"/>
          </p:cNvSpPr>
          <p:nvPr>
            <p:ph type="sldImg"/>
          </p:nvPr>
        </p:nvSpPr>
        <p:spPr>
          <a:xfrm>
            <a:off x="1370160" y="352440"/>
            <a:ext cx="4116240" cy="3087720"/>
          </a:xfrm>
          <a:prstGeom prst="rect">
            <a:avLst/>
          </a:prstGeom>
          <a:ln w="0">
            <a:noFill/>
          </a:ln>
        </p:spPr>
      </p:sp>
      <p:sp>
        <p:nvSpPr>
          <p:cNvPr id="60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ea typeface="ＭＳ Ｐゴシック"/>
              </a:rPr>
              <a:t>Use case scenario 1 — Lights-Out 100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Using Lights-Out remote management the customer ca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You can remotely control the system console and power as well as view the system environmental health and system event lo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ability to update software and firmware as well as to remotely control attached USB storag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dditionally you can remotely administrate your OS and remotely control the system console</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customers are currently do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urrently, customers need to walk or drive to the site if something goes wrong with the server.</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ing Lights-Out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rovides standards based remote control that is consistent with the overall strategy for ProLiant 10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is based on the Intelligent Platform Management Interface (IPMI) standard</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5" name="PlaceHolder 1"/>
          <p:cNvSpPr>
            <a:spLocks noGrp="1"/>
          </p:cNvSpPr>
          <p:nvPr>
            <p:ph type="sldImg"/>
          </p:nvPr>
        </p:nvSpPr>
        <p:spPr>
          <a:xfrm>
            <a:off x="1370160" y="352440"/>
            <a:ext cx="4116240" cy="3087720"/>
          </a:xfrm>
          <a:prstGeom prst="rect">
            <a:avLst/>
          </a:prstGeom>
          <a:ln w="0">
            <a:noFill/>
          </a:ln>
        </p:spPr>
      </p:sp>
      <p:sp>
        <p:nvSpPr>
          <p:cNvPr id="60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werEdge SC1430 Server Spec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s (up to two):</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55, (quad-core) 2.0 GHz/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45, (quad-core) 2.33GHz/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35, (quad-core) 2.00GHz/ 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20, (quad-core) 1.86GHz/1066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10, (quad-core) 1.60GHz/1066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30, (dual-core) 2.0GHz/1333MHz FSB 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10, (dual-core) 1.60GHz/1066MHz FSB 4MB cach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Memory:</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8GB FBD SDRA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 total 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 PCI Express slots (x4 with x8 connecto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 64-bit/100MHz PCI-X slots 3.3V, 1 32-bit/33MHz PCI slot 5V</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ne full height, full length slot; remaining slots are full height, half length</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m Fact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ower (Not Rackable)</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7A7F0F-CC3E-4728-92A6-6DE4B8D2BA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20D5E2-EB9D-4AC2-AD46-D0DDE71C48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D69918-DCF5-48A7-BF88-99A9054022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6020D8-7117-4BE8-902F-5979F47130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DF2052-1735-4A97-8E28-E241314BB5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5FDD1C-C80A-44C0-8759-988AA476D94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4224A8-D52B-42A8-B4BD-37BB910F68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60CC8C-722E-46D6-9C75-546D752F49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DB9808-5EF7-4C00-83F7-4F10B588D9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6F013E-B694-4BED-A4E8-90E01599D2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0B224C-5334-40A9-B12B-CC10C1D545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0040FE-155E-4BCE-9491-27F7612EF2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958B-B75F-4A01-AA80-7B1978F06AD4}"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hyperlink" Target="http://h20000.www2.hp.com/bizsupport/TechSupport/Home.jsp?&amp;lang=en&amp;cc=us&amp;prodTypeId=15351&amp;prodSeriesId=3232017&amp;lang=en&amp;cc=us&amp;y=0ML150&amp;x=0" TargetMode="External"/><Relationship Id="rId3" Type="http://schemas.openxmlformats.org/officeDocument/2006/relationships/hyperlink" Target="http://www.hp.com/servers/proliantessentials" TargetMode="External"/><Relationship Id="rId4" Type="http://schemas.openxmlformats.org/officeDocument/2006/relationships/hyperlink" Target="http://h18004.www1.hp.com/products/servers/platforms/options.html" TargetMode="External"/><Relationship Id="rId5" Type="http://schemas.openxmlformats.org/officeDocument/2006/relationships/hyperlink" Target="http://www.hp.com/go/factory-express" TargetMode="External"/><Relationship Id="rId6" Type="http://schemas.openxmlformats.org/officeDocument/2006/relationships/hyperlink" Target="http://h18004.www1.hp.com/products/servers/platforms/warranty/index.html" TargetMode="External"/><Relationship Id="rId7" Type="http://schemas.openxmlformats.org/officeDocument/2006/relationships/hyperlink" Target="http://www.hp.com/go/proliant/carepack" TargetMode="External"/><Relationship Id="rId8" Type="http://schemas.openxmlformats.org/officeDocument/2006/relationships/slideLayout" Target="../slideLayouts/slideLayout4.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pj.lu@hp.com" TargetMode="External"/><Relationship Id="rId2" Type="http://schemas.openxmlformats.org/officeDocument/2006/relationships/hyperlink" Target="mailto:bauman@hp.com" TargetMode="External"/><Relationship Id="rId3" Type="http://schemas.openxmlformats.org/officeDocument/2006/relationships/hyperlink" Target="mailto:carlos.cuina@hp.com" TargetMode="External"/><Relationship Id="rId4" Type="http://schemas.openxmlformats.org/officeDocument/2006/relationships/hyperlink" Target="mailto:Yan-fei.yang@hp.com" TargetMode="External"/><Relationship Id="rId5" Type="http://schemas.openxmlformats.org/officeDocument/2006/relationships/hyperlink" Target="mailto:naren@hp.com" TargetMode="External"/><Relationship Id="rId6" Type="http://schemas.openxmlformats.org/officeDocument/2006/relationships/hyperlink" Target="mailto:Iekazu.okano@hp.com"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3.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4.jpeg"/><Relationship Id="rId14" Type="http://schemas.openxmlformats.org/officeDocument/2006/relationships/image" Target="../media/image15.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image" Target="../media/image19.jpeg"/><Relationship Id="rId18" Type="http://schemas.openxmlformats.org/officeDocument/2006/relationships/slideLayout" Target="../slideLayouts/slideLayout1.xml"/><Relationship Id="rId1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image" Target="../media/image21.jpeg"/><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oleObject" Target="../embeddings/oleObject2.bin"/><Relationship Id="rId10" Type="http://schemas.openxmlformats.org/officeDocument/2006/relationships/image" Target="../media/image20.png"/><Relationship Id="rId11" Type="http://schemas.openxmlformats.org/officeDocument/2006/relationships/oleObject" Target="../embeddings/oleObject3.bin"/><Relationship Id="rId12" Type="http://schemas.openxmlformats.org/officeDocument/2006/relationships/image" Target="../media/image20.png"/><Relationship Id="rId13" Type="http://schemas.openxmlformats.org/officeDocument/2006/relationships/image" Target="../media/image21.jpeg"/><Relationship Id="rId14" Type="http://schemas.openxmlformats.org/officeDocument/2006/relationships/image" Target="../media/image21.jpeg"/><Relationship Id="rId15" Type="http://schemas.openxmlformats.org/officeDocument/2006/relationships/image" Target="../media/image21.jpeg"/><Relationship Id="rId16" Type="http://schemas.openxmlformats.org/officeDocument/2006/relationships/image" Target="../media/image21.jpeg"/><Relationship Id="rId17" Type="http://schemas.openxmlformats.org/officeDocument/2006/relationships/slideLayout" Target="../slideLayouts/slideLayout1.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000" y="274680"/>
            <a:ext cx="567540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Futura Lt"/>
              </a:rPr>
              <a:t>HP ProLiant ML150 Generation 5 (G5)</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1 February 2008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9bd"/>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573"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ML150 on HP.com</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1"/>
              </a:rPr>
              <a:t>http://www.hp.com/servers/proliantml15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Business Support Center</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2"/>
              </a:rPr>
              <a:t>http://h20000.www2.hp.com/bizsupport/TechSupport/Home.jsp?&amp;lang=en&amp;cc=us&amp;prodTypeId=15351&amp;prodSeriesId=3232017&amp;lang=en&amp;cc=us&amp;y=0ML150&amp;x=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Essentials management software</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3"/>
              </a:rPr>
              <a:t>http://www.hp.com/servers/proliantessentials</a:t>
            </a:r>
            <a:endParaRPr b="0" lang="en-US" sz="2000" spc="-1" strike="noStrike">
              <a:solidFill>
                <a:srgbClr val="000000"/>
              </a:solidFill>
              <a:latin typeface="Futura Bk"/>
            </a:endParaRPr>
          </a:p>
        </p:txBody>
      </p:sp>
      <p:sp>
        <p:nvSpPr>
          <p:cNvPr id="574"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option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4"/>
              </a:rPr>
              <a:t>http://h18004.www1.hp.com/products/servers/platforms/options.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Factory Expres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5"/>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Worldwide limited warranty and technical support</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6"/>
              </a:rPr>
              <a:t>http://h18004.www1.hp.com/products/servers/platforms/warranty/index.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Care Pack service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7"/>
              </a:rPr>
              <a:t>http://www.hp.com/go/proliant/carepack</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B668E2E1-F301-4E71-95FC-AF4C3FB5D1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576" name=""/>
          <p:cNvGraphicFramePr/>
          <p:nvPr/>
        </p:nvGraphicFramePr>
        <p:xfrm>
          <a:off x="399960" y="992160"/>
          <a:ext cx="8586720" cy="508968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W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J Lu</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pj.lu@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ipei, T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dy Baum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bauma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atin Americ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Carlos Cuin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3"/>
                        </a:rPr>
                        <a:t>carlos.cuina@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Yan-Fei Yan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4"/>
                        </a:rPr>
                        <a:t>Yan-fei.yang@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yrin, CH</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Naren Nuggehalli</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5"/>
                        </a:rPr>
                        <a:t>nar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S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6"/>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P</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8EB0CEA9-4D23-4AC6-B0E9-B7E7A25E60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r more information, go to:</a:t>
            </a:r>
            <a:endParaRPr b="0" lang="en-US" sz="2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Hv"/>
              </a:rPr>
              <a:t>http://www.hp.com/servers/proliantml150</a:t>
            </a:r>
            <a:endParaRPr b="0" lang="en-US" sz="2800" spc="-1" strike="noStrike">
              <a:solidFill>
                <a:srgbClr val="000000"/>
              </a:solidFill>
              <a:latin typeface="Futura Bk"/>
            </a:endParaRPr>
          </a:p>
        </p:txBody>
      </p:sp>
      <p:pic>
        <p:nvPicPr>
          <p:cNvPr id="578"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8DD214A0-90A0-4022-97A6-3BC37B0BA38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961160" cy="5130720"/>
        </p:xfrm>
        <a:graphic>
          <a:graphicData uri="http://schemas.openxmlformats.org/drawingml/2006/table">
            <a:tbl>
              <a:tblPr/>
              <a:tblGrid>
                <a:gridCol w="4961160"/>
              </a:tblGrid>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Futura Bk"/>
                        </a:rPr>
                        <a:t>HP ProLiant ML150 Generation 5 (G5)</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703800">
                <a:tc>
                  <a:txBody>
                    <a:bodyPr lIns="90000" rIns="45720" tIns="46800" bIns="46800" anchor="ctr">
                      <a:noAutofit/>
                    </a:bodyPr>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w </a:t>
                      </a:r>
                      <a:r>
                        <a:rPr b="0" lang="en-US" sz="2000" spc="-1" strike="noStrike">
                          <a:solidFill>
                            <a:srgbClr val="000000"/>
                          </a:solidFill>
                          <a:latin typeface="Futura Bk"/>
                          <a:ea typeface="PMingLiU"/>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rPr>
                        <a:t> quad-core dual processor technology</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Key new features or capabilities</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234240">
                <a:tc>
                  <a:txBody>
                    <a:bodyPr lIns="90000" rIns="45720" tIns="46800" bIns="46800" anchor="ctr">
                      <a:noAutofit/>
                    </a:bodyPr>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rPr>
                        <a:t> Harpertown QC or Wolfdale DC processors</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ea typeface="PMingLiU"/>
                        </a:rPr>
                        <a:t> Xeon™ q</a:t>
                      </a:r>
                      <a:r>
                        <a:rPr b="0" lang="en-US" sz="2000" spc="-1" strike="noStrike">
                          <a:solidFill>
                            <a:srgbClr val="000000"/>
                          </a:solidFill>
                          <a:latin typeface="Futura Bk"/>
                        </a:rPr>
                        <a:t>uad or dual core:</a:t>
                      </a:r>
                      <a:endParaRPr b="0" lang="en-US" sz="2000" spc="-1" strike="noStrike">
                        <a:solidFill>
                          <a:srgbClr val="000000"/>
                        </a:solidFill>
                        <a:latin typeface="Futura Bk"/>
                      </a:endParaRPr>
                    </a:p>
                    <a:p>
                      <a:pPr marL="228600" indent="-22860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   </a:t>
                      </a:r>
                      <a:r>
                        <a:rPr b="0" lang="en-US" sz="2000" spc="-1" strike="noStrike">
                          <a:solidFill>
                            <a:srgbClr val="000000"/>
                          </a:solidFill>
                          <a:latin typeface="Futura Bk"/>
                        </a:rPr>
                        <a:t>5400 and 5200 sequence</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1333/1066 MHz front side bus</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PC2-5300 registered buffered DIMMs (DDR2-667), 1GB min, 16GB max</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Redundant power supply 1+1 750W via option kit (ready on March Launch)</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429120">
                <a:tc>
                  <a:txBody>
                    <a:bodyPr lIns="90000" rIns="45720" tIns="46800" bIns="46800" anchor="ctr">
                      <a:noAutofit/>
                    </a:bodyPr>
                    <a:p>
                      <a:pPr>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Availability: </a:t>
                      </a:r>
                      <a:r>
                        <a:rPr b="0" lang="en-US" sz="2200" spc="-1" strike="noStrike">
                          <a:solidFill>
                            <a:srgbClr val="ffffff"/>
                          </a:solidFill>
                          <a:latin typeface="Futura Bk"/>
                        </a:rPr>
                        <a:t>11 February 2008</a:t>
                      </a:r>
                      <a:endParaRPr b="0" lang="en-US" sz="22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grpSp>
        <p:nvGrpSpPr>
          <p:cNvPr id="144" name=""/>
          <p:cNvGrpSpPr/>
          <p:nvPr/>
        </p:nvGrpSpPr>
        <p:grpSpPr>
          <a:xfrm>
            <a:off x="495360" y="6110280"/>
            <a:ext cx="6512040" cy="342000"/>
            <a:chOff x="495360" y="6110280"/>
            <a:chExt cx="6512040" cy="342000"/>
          </a:xfrm>
        </p:grpSpPr>
        <p:grpSp>
          <p:nvGrpSpPr>
            <p:cNvPr id="145" name=""/>
            <p:cNvGrpSpPr/>
            <p:nvPr/>
          </p:nvGrpSpPr>
          <p:grpSpPr>
            <a:xfrm>
              <a:off x="495360" y="6126120"/>
              <a:ext cx="282600" cy="282600"/>
              <a:chOff x="495360" y="6126120"/>
              <a:chExt cx="282600" cy="282600"/>
            </a:xfrm>
          </p:grpSpPr>
          <p:sp>
            <p:nvSpPr>
              <p:cNvPr id="146" name=""/>
              <p:cNvSpPr/>
              <p:nvPr/>
            </p:nvSpPr>
            <p:spPr>
              <a:xfrm>
                <a:off x="495360" y="612612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47" name=""/>
              <p:cNvSpPr/>
              <p:nvPr/>
            </p:nvSpPr>
            <p:spPr>
              <a:xfrm>
                <a:off x="496440" y="613188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48" name=""/>
            <p:cNvSpPr/>
            <p:nvPr/>
          </p:nvSpPr>
          <p:spPr>
            <a:xfrm>
              <a:off x="733680" y="6110280"/>
              <a:ext cx="627372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5 on HP.com: </a:t>
              </a:r>
              <a:r>
                <a:rPr b="0" lang="en-US" sz="1600" spc="-1" strike="noStrike" u="sng">
                  <a:solidFill>
                    <a:srgbClr val="eb5f01"/>
                  </a:solidFill>
                  <a:uFillTx/>
                  <a:latin typeface="Futura Hv"/>
                  <a:hlinkClick r:id="rId1"/>
                </a:rPr>
                <a:t>http://www.hp.com/servers/proliantml150</a:t>
              </a:r>
              <a:endParaRPr b="0" lang="en-US" sz="1600" spc="-1" strike="noStrike">
                <a:solidFill>
                  <a:srgbClr val="000000"/>
                </a:solidFill>
                <a:latin typeface="Futura Bk"/>
              </a:endParaRPr>
            </a:p>
          </p:txBody>
        </p:sp>
      </p:grpSp>
      <p:sp>
        <p:nvSpPr>
          <p:cNvPr id="149" name=""/>
          <p:cNvSpPr/>
          <p:nvPr/>
        </p:nvSpPr>
        <p:spPr>
          <a:xfrm>
            <a:off x="6054840" y="2940120"/>
            <a:ext cx="2762280" cy="2727720"/>
          </a:xfrm>
          <a:prstGeom prst="rect">
            <a:avLst/>
          </a:prstGeom>
          <a:noFill/>
          <a:ln w="0">
            <a:noFill/>
          </a:ln>
        </p:spPr>
        <p:style>
          <a:lnRef idx="0"/>
          <a:fillRef idx="0"/>
          <a:effectRef idx="0"/>
          <a:fontRef idx="minor"/>
        </p:style>
        <p:txBody>
          <a:bodyPr lIns="45720" rIns="45720" tIns="46800" bIns="46800" anchor="t">
            <a:spAutoFit/>
          </a:bodyPr>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Power supply</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Processor air duct</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Six expansion slots</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Main system board</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Front system fan </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Hard drive bays (up to 8)</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DVD-ROM drive</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Lockable bezel</a:t>
            </a:r>
            <a:endParaRPr b="0" lang="en-US" sz="1600" spc="-1" strike="noStrike">
              <a:solidFill>
                <a:srgbClr val="000000"/>
              </a:solidFill>
              <a:latin typeface="Futura Bk"/>
            </a:endParaRPr>
          </a:p>
        </p:txBody>
      </p:sp>
      <p:grpSp>
        <p:nvGrpSpPr>
          <p:cNvPr id="150" name=""/>
          <p:cNvGrpSpPr/>
          <p:nvPr/>
        </p:nvGrpSpPr>
        <p:grpSpPr>
          <a:xfrm>
            <a:off x="5891040" y="219240"/>
            <a:ext cx="2846520" cy="2743200"/>
            <a:chOff x="5891040" y="219240"/>
            <a:chExt cx="2846520" cy="2743200"/>
          </a:xfrm>
        </p:grpSpPr>
        <p:pic>
          <p:nvPicPr>
            <p:cNvPr id="151" name="" descr=""/>
            <p:cNvPicPr/>
            <p:nvPr/>
          </p:nvPicPr>
          <p:blipFill>
            <a:blip r:embed="rId2"/>
            <a:stretch/>
          </p:blipFill>
          <p:spPr>
            <a:xfrm>
              <a:off x="5934240" y="219240"/>
              <a:ext cx="2761920" cy="2743200"/>
            </a:xfrm>
            <a:prstGeom prst="rect">
              <a:avLst/>
            </a:prstGeom>
            <a:ln w="0">
              <a:noFill/>
            </a:ln>
          </p:spPr>
        </p:pic>
        <p:sp>
          <p:nvSpPr>
            <p:cNvPr id="152" name=""/>
            <p:cNvSpPr/>
            <p:nvPr/>
          </p:nvSpPr>
          <p:spPr>
            <a:xfrm>
              <a:off x="5891040" y="888840"/>
              <a:ext cx="257400" cy="2397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1</a:t>
              </a:r>
              <a:endParaRPr b="0" lang="en-US" sz="1600" spc="-1" strike="noStrike">
                <a:solidFill>
                  <a:srgbClr val="000000"/>
                </a:solidFill>
                <a:latin typeface="Futura Bk"/>
              </a:endParaRPr>
            </a:p>
          </p:txBody>
        </p:sp>
        <p:sp>
          <p:nvSpPr>
            <p:cNvPr id="153" name=""/>
            <p:cNvSpPr/>
            <p:nvPr/>
          </p:nvSpPr>
          <p:spPr>
            <a:xfrm>
              <a:off x="5923080" y="134316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2</a:t>
              </a:r>
              <a:endParaRPr b="0" lang="en-US" sz="1600" spc="-1" strike="noStrike">
                <a:solidFill>
                  <a:srgbClr val="000000"/>
                </a:solidFill>
                <a:latin typeface="Futura Bk"/>
              </a:endParaRPr>
            </a:p>
          </p:txBody>
        </p:sp>
        <p:sp>
          <p:nvSpPr>
            <p:cNvPr id="154" name=""/>
            <p:cNvSpPr/>
            <p:nvPr/>
          </p:nvSpPr>
          <p:spPr>
            <a:xfrm>
              <a:off x="5951520" y="208908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3</a:t>
              </a:r>
              <a:endParaRPr b="0" lang="en-US" sz="1600" spc="-1" strike="noStrike">
                <a:solidFill>
                  <a:srgbClr val="000000"/>
                </a:solidFill>
                <a:latin typeface="Futura Bk"/>
              </a:endParaRPr>
            </a:p>
          </p:txBody>
        </p:sp>
        <p:sp>
          <p:nvSpPr>
            <p:cNvPr id="155" name=""/>
            <p:cNvSpPr/>
            <p:nvPr/>
          </p:nvSpPr>
          <p:spPr>
            <a:xfrm>
              <a:off x="6316560" y="242892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4</a:t>
              </a:r>
              <a:endParaRPr b="0" lang="en-US" sz="1600" spc="-1" strike="noStrike">
                <a:solidFill>
                  <a:srgbClr val="000000"/>
                </a:solidFill>
                <a:latin typeface="Futura Bk"/>
              </a:endParaRPr>
            </a:p>
          </p:txBody>
        </p:sp>
        <p:sp>
          <p:nvSpPr>
            <p:cNvPr id="156" name=""/>
            <p:cNvSpPr/>
            <p:nvPr/>
          </p:nvSpPr>
          <p:spPr>
            <a:xfrm>
              <a:off x="6713640" y="251784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5</a:t>
              </a:r>
              <a:endParaRPr b="0" lang="en-US" sz="1600" spc="-1" strike="noStrike">
                <a:solidFill>
                  <a:srgbClr val="000000"/>
                </a:solidFill>
                <a:latin typeface="Futura Bk"/>
              </a:endParaRPr>
            </a:p>
          </p:txBody>
        </p:sp>
        <p:sp>
          <p:nvSpPr>
            <p:cNvPr id="157" name=""/>
            <p:cNvSpPr/>
            <p:nvPr/>
          </p:nvSpPr>
          <p:spPr>
            <a:xfrm>
              <a:off x="7116840" y="259236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6</a:t>
              </a:r>
              <a:endParaRPr b="0" lang="en-US" sz="1600" spc="-1" strike="noStrike">
                <a:solidFill>
                  <a:srgbClr val="000000"/>
                </a:solidFill>
                <a:latin typeface="Futura Bk"/>
              </a:endParaRPr>
            </a:p>
          </p:txBody>
        </p:sp>
        <p:sp>
          <p:nvSpPr>
            <p:cNvPr id="158" name=""/>
            <p:cNvSpPr/>
            <p:nvPr/>
          </p:nvSpPr>
          <p:spPr>
            <a:xfrm>
              <a:off x="8443800" y="70164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7</a:t>
              </a:r>
              <a:endParaRPr b="0" lang="en-US" sz="1600" spc="-1" strike="noStrike">
                <a:solidFill>
                  <a:srgbClr val="000000"/>
                </a:solidFill>
                <a:latin typeface="Futura Bk"/>
              </a:endParaRPr>
            </a:p>
          </p:txBody>
        </p:sp>
        <p:sp>
          <p:nvSpPr>
            <p:cNvPr id="159" name=""/>
            <p:cNvSpPr/>
            <p:nvPr/>
          </p:nvSpPr>
          <p:spPr>
            <a:xfrm>
              <a:off x="8478720" y="164448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8</a:t>
              </a:r>
              <a:endParaRPr b="0" lang="en-US" sz="16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B406E264-8485-4DF6-980B-C4231B7444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61"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Remote site or branch offices of small-medium size busines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Small medium businesses running light application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ile and print</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Web messaging</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all vertical applications or databa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hared internet access and LAN infrastructure</a:t>
            </a:r>
            <a:endParaRPr b="0" lang="en-US" sz="1800" spc="-1" strike="noStrike">
              <a:solidFill>
                <a:srgbClr val="000000"/>
              </a:solidFill>
              <a:latin typeface="Futura Bk"/>
            </a:endParaRPr>
          </a:p>
        </p:txBody>
      </p:sp>
      <p:sp>
        <p:nvSpPr>
          <p:cNvPr id="162" name="PlaceHolder 3"/>
          <p:cNvSpPr>
            <a:spLocks noGrp="1"/>
          </p:cNvSpPr>
          <p:nvPr>
            <p:ph/>
          </p:nvPr>
        </p:nvSpPr>
        <p:spPr>
          <a:xfrm>
            <a:off x="4768920" y="991800"/>
            <a:ext cx="4217760" cy="320508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L150 G5 server</a:t>
            </a:r>
            <a:endParaRPr b="0" lang="en-US" sz="22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An entry-level, dual processor server solution for budget conscious busines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Growth and adaptability are achieved through memory, HDD, and PCI card expandability</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Optional, industry standard remote manageability to manage remote locations</a:t>
            </a:r>
            <a:endParaRPr b="0" lang="en-US" sz="1800" spc="-1" strike="noStrike">
              <a:solidFill>
                <a:srgbClr val="000000"/>
              </a:solidFill>
              <a:latin typeface="Futura Bk"/>
            </a:endParaRPr>
          </a:p>
        </p:txBody>
      </p:sp>
      <p:pic>
        <p:nvPicPr>
          <p:cNvPr id="163" name="" descr=""/>
          <p:cNvPicPr/>
          <p:nvPr/>
        </p:nvPicPr>
        <p:blipFill>
          <a:blip r:embed="rId1"/>
          <a:stretch/>
        </p:blipFill>
        <p:spPr>
          <a:xfrm>
            <a:off x="5938920" y="4181400"/>
            <a:ext cx="1066680" cy="22957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7B310272-252C-4724-B95E-6DA70337FD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wo Quad-Core Xeo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test Quad-Core processor</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s 45nm technology enables great performance leap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aximize data center performance and density, while reducing cooling challeng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otential for cost savings with low-voltage Quad-Core Intel</a:t>
            </a:r>
            <a:r>
              <a:rPr b="0" lang="en-US" sz="2000" spc="-1" strike="noStrike">
                <a:solidFill>
                  <a:srgbClr val="000000"/>
                </a:solidFill>
                <a:latin typeface="Futura Bk"/>
                <a:ea typeface="PMingLiU"/>
              </a:rPr>
              <a:t>®</a:t>
            </a:r>
            <a:r>
              <a:rPr b="0" lang="en-US" sz="2000" spc="-1" strike="noStrike">
                <a:solidFill>
                  <a:srgbClr val="000000"/>
                </a:solidFill>
                <a:latin typeface="Futura Bk"/>
              </a:rPr>
              <a:t> Xeon™ processors</a:t>
            </a:r>
            <a:endParaRPr b="0" lang="en-US" sz="2000" spc="-1" strike="noStrike">
              <a:solidFill>
                <a:srgbClr val="000000"/>
              </a:solidFill>
              <a:latin typeface="Futura Bk"/>
            </a:endParaRPr>
          </a:p>
        </p:txBody>
      </p:sp>
      <p:sp>
        <p:nvSpPr>
          <p:cNvPr id="165" name="PlaceHolder 2"/>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Delivers ultimate processor performance with eight cores using optimized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45nm next-generation Intel® core micro architecture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Up to 50-percent larger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Large cache size yields more transaction processing</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New levels of breakthrough energy efficiency.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1333MHz front-side bus speeds information access within the system</a:t>
            </a:r>
            <a:endParaRPr b="0" lang="en-US" sz="2000" spc="-1" strike="noStrike">
              <a:solidFill>
                <a:srgbClr val="000000"/>
              </a:solidFill>
              <a:latin typeface="Futura Bk"/>
            </a:endParaRPr>
          </a:p>
        </p:txBody>
      </p:sp>
      <p:sp>
        <p:nvSpPr>
          <p:cNvPr id="166" name="PlaceHolder 3"/>
          <p:cNvSpPr>
            <a:spLocks noGrp="1"/>
          </p:cNvSpPr>
          <p:nvPr>
            <p:ph type="title"/>
          </p:nvPr>
        </p:nvSpPr>
        <p:spPr>
          <a:xfrm>
            <a:off x="398160" y="0"/>
            <a:ext cx="711684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Quad-Core Intel® Xeon™ processors</a:t>
            </a:r>
            <a:endParaRPr b="0" lang="en-US" sz="3200" spc="-1" strike="noStrike">
              <a:solidFill>
                <a:srgbClr val="000000"/>
              </a:solidFill>
              <a:latin typeface="Futura Bk"/>
            </a:endParaRPr>
          </a:p>
        </p:txBody>
      </p:sp>
      <p:pic>
        <p:nvPicPr>
          <p:cNvPr id="167" name="" descr=""/>
          <p:cNvPicPr/>
          <p:nvPr/>
        </p:nvPicPr>
        <p:blipFill>
          <a:blip r:embed="rId1"/>
          <a:stretch/>
        </p:blipFill>
        <p:spPr>
          <a:xfrm>
            <a:off x="7816680" y="138240"/>
            <a:ext cx="590760" cy="733320"/>
          </a:xfrm>
          <a:prstGeom prst="rect">
            <a:avLst/>
          </a:prstGeom>
          <a:ln w="0">
            <a:noFill/>
          </a:ln>
        </p:spPr>
      </p:pic>
      <p:pic>
        <p:nvPicPr>
          <p:cNvPr id="168" name="" descr=""/>
          <p:cNvPicPr/>
          <p:nvPr/>
        </p:nvPicPr>
        <p:blipFill>
          <a:blip r:embed="rId2"/>
          <a:stretch/>
        </p:blipFill>
        <p:spPr>
          <a:xfrm>
            <a:off x="2673360" y="4894200"/>
            <a:ext cx="1795320" cy="12812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84673CC9-4BFC-40C1-99A0-FC2FFFB848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HP ProLiant DL160 G5 Server - Support &amp;amp; Troubleshooting"/>
          <p:cNvPicPr/>
          <p:nvPr/>
        </p:nvPicPr>
        <p:blipFill>
          <a:blip r:embed="rId1"/>
          <a:stretch/>
        </p:blipFill>
        <p:spPr>
          <a:xfrm>
            <a:off x="4943520" y="4438800"/>
            <a:ext cx="952560" cy="647640"/>
          </a:xfrm>
          <a:prstGeom prst="rect">
            <a:avLst/>
          </a:prstGeom>
          <a:ln w="0">
            <a:noFill/>
          </a:ln>
        </p:spPr>
      </p:pic>
      <p:sp>
        <p:nvSpPr>
          <p:cNvPr id="170" name=""/>
          <p:cNvSpPr/>
          <p:nvPr/>
        </p:nvSpPr>
        <p:spPr>
          <a:xfrm rot="5400000">
            <a:off x="3463560" y="4556160"/>
            <a:ext cx="1145880" cy="965160"/>
          </a:xfrm>
          <a:prstGeom prst="ellipse">
            <a:avLst/>
          </a:prstGeom>
          <a:gradFill rotWithShape="0">
            <a:gsLst>
              <a:gs pos="0">
                <a:srgbClr val="ffff99"/>
              </a:gs>
              <a:gs pos="50000">
                <a:srgbClr val="fefefe"/>
              </a:gs>
              <a:gs pos="100000">
                <a:srgbClr val="ffff99"/>
              </a:gs>
            </a:gsLst>
            <a:lin ang="0"/>
          </a:gra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duct family positioning</a:t>
            </a:r>
            <a:endParaRPr b="0" lang="en-US" sz="3200" spc="-1" strike="noStrike">
              <a:solidFill>
                <a:srgbClr val="000000"/>
              </a:solidFill>
              <a:latin typeface="Futura Bk"/>
            </a:endParaRPr>
          </a:p>
        </p:txBody>
      </p:sp>
      <p:sp>
        <p:nvSpPr>
          <p:cNvPr id="172" name=""/>
          <p:cNvSpPr/>
          <p:nvPr/>
        </p:nvSpPr>
        <p:spPr>
          <a:xfrm>
            <a:off x="7454880" y="4622760"/>
            <a:ext cx="1270080" cy="965160"/>
          </a:xfrm>
          <a:prstGeom prst="ellipse">
            <a:avLst/>
          </a:prstGeom>
          <a:solidFill>
            <a:srgbClr val="ffffff"/>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173" name="" descr=""/>
          <p:cNvPicPr/>
          <p:nvPr/>
        </p:nvPicPr>
        <p:blipFill>
          <a:blip r:embed="rId2"/>
          <a:stretch/>
        </p:blipFill>
        <p:spPr>
          <a:xfrm>
            <a:off x="7140600" y="1762200"/>
            <a:ext cx="1390680" cy="1554120"/>
          </a:xfrm>
          <a:prstGeom prst="rect">
            <a:avLst/>
          </a:prstGeom>
          <a:ln w="0">
            <a:noFill/>
          </a:ln>
        </p:spPr>
      </p:pic>
      <p:pic>
        <p:nvPicPr>
          <p:cNvPr id="174" name="" descr=""/>
          <p:cNvPicPr/>
          <p:nvPr/>
        </p:nvPicPr>
        <p:blipFill>
          <a:blip r:embed="rId3"/>
          <a:stretch/>
        </p:blipFill>
        <p:spPr>
          <a:xfrm>
            <a:off x="2365200" y="2917800"/>
            <a:ext cx="1505160" cy="1682640"/>
          </a:xfrm>
          <a:prstGeom prst="rect">
            <a:avLst/>
          </a:prstGeom>
          <a:ln w="0">
            <a:noFill/>
          </a:ln>
        </p:spPr>
      </p:pic>
      <p:sp>
        <p:nvSpPr>
          <p:cNvPr id="175" name=""/>
          <p:cNvSpPr/>
          <p:nvPr/>
        </p:nvSpPr>
        <p:spPr>
          <a:xfrm>
            <a:off x="4064040" y="3260880"/>
            <a:ext cx="4691160" cy="1133280"/>
          </a:xfrm>
          <a:prstGeom prst="rect">
            <a:avLst/>
          </a:prstGeom>
          <a:noFill/>
          <a:ln w="38160">
            <a:solidFill>
              <a:srgbClr val="85aac1"/>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76" name=""/>
          <p:cNvSpPr/>
          <p:nvPr/>
        </p:nvSpPr>
        <p:spPr>
          <a:xfrm>
            <a:off x="4167000" y="402912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20 G5</a:t>
            </a:r>
            <a:endParaRPr b="0" lang="en-US" sz="1600" spc="-1" strike="noStrike">
              <a:solidFill>
                <a:srgbClr val="000000"/>
              </a:solidFill>
              <a:latin typeface="Futura Bk"/>
            </a:endParaRPr>
          </a:p>
        </p:txBody>
      </p:sp>
      <p:sp>
        <p:nvSpPr>
          <p:cNvPr id="177" name=""/>
          <p:cNvSpPr/>
          <p:nvPr/>
        </p:nvSpPr>
        <p:spPr>
          <a:xfrm>
            <a:off x="5378400" y="400860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60 G5</a:t>
            </a:r>
            <a:endParaRPr b="0" lang="en-US" sz="1600" spc="-1" strike="noStrike">
              <a:solidFill>
                <a:srgbClr val="000000"/>
              </a:solidFill>
              <a:latin typeface="Futura Bk"/>
            </a:endParaRPr>
          </a:p>
        </p:txBody>
      </p:sp>
      <p:sp>
        <p:nvSpPr>
          <p:cNvPr id="178" name=""/>
          <p:cNvSpPr/>
          <p:nvPr/>
        </p:nvSpPr>
        <p:spPr>
          <a:xfrm>
            <a:off x="6570720" y="39988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0 G5</a:t>
            </a:r>
            <a:endParaRPr b="0" lang="en-US" sz="1600" spc="-1" strike="noStrike">
              <a:solidFill>
                <a:srgbClr val="000000"/>
              </a:solidFill>
              <a:latin typeface="Futura Bk"/>
            </a:endParaRPr>
          </a:p>
        </p:txBody>
      </p:sp>
      <p:pic>
        <p:nvPicPr>
          <p:cNvPr id="179" name="" descr=""/>
          <p:cNvPicPr/>
          <p:nvPr/>
        </p:nvPicPr>
        <p:blipFill>
          <a:blip r:embed="rId4"/>
          <a:stretch/>
        </p:blipFill>
        <p:spPr>
          <a:xfrm>
            <a:off x="4160880" y="3718080"/>
            <a:ext cx="1035000" cy="226800"/>
          </a:xfrm>
          <a:prstGeom prst="rect">
            <a:avLst/>
          </a:prstGeom>
          <a:ln w="0">
            <a:noFill/>
          </a:ln>
        </p:spPr>
      </p:pic>
      <p:sp>
        <p:nvSpPr>
          <p:cNvPr id="180" name=""/>
          <p:cNvSpPr/>
          <p:nvPr/>
        </p:nvSpPr>
        <p:spPr>
          <a:xfrm>
            <a:off x="7675560" y="39862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5 G2</a:t>
            </a:r>
            <a:endParaRPr b="0" lang="en-US" sz="1600" spc="-1" strike="noStrike">
              <a:solidFill>
                <a:srgbClr val="000000"/>
              </a:solidFill>
              <a:latin typeface="Futura Bk"/>
            </a:endParaRPr>
          </a:p>
        </p:txBody>
      </p:sp>
      <p:pic>
        <p:nvPicPr>
          <p:cNvPr id="181" name="" descr=""/>
          <p:cNvPicPr/>
          <p:nvPr/>
        </p:nvPicPr>
        <p:blipFill>
          <a:blip r:embed="rId5"/>
          <a:stretch/>
        </p:blipFill>
        <p:spPr>
          <a:xfrm>
            <a:off x="1882800" y="2003400"/>
            <a:ext cx="1154160" cy="1289160"/>
          </a:xfrm>
          <a:prstGeom prst="rect">
            <a:avLst/>
          </a:prstGeom>
          <a:ln w="0">
            <a:noFill/>
          </a:ln>
        </p:spPr>
      </p:pic>
      <p:sp>
        <p:nvSpPr>
          <p:cNvPr id="182" name=""/>
          <p:cNvSpPr/>
          <p:nvPr/>
        </p:nvSpPr>
        <p:spPr>
          <a:xfrm>
            <a:off x="973080" y="1562040"/>
            <a:ext cx="3970440" cy="38340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ML server series</a:t>
            </a:r>
            <a:endParaRPr b="0" lang="en-US" sz="2000" spc="-1" strike="noStrike">
              <a:solidFill>
                <a:srgbClr val="000000"/>
              </a:solidFill>
              <a:latin typeface="Futura Bk"/>
            </a:endParaRPr>
          </a:p>
        </p:txBody>
      </p:sp>
      <p:sp>
        <p:nvSpPr>
          <p:cNvPr id="183" name=""/>
          <p:cNvSpPr/>
          <p:nvPr/>
        </p:nvSpPr>
        <p:spPr>
          <a:xfrm>
            <a:off x="1069920" y="3260880"/>
            <a:ext cx="2862360" cy="1133280"/>
          </a:xfrm>
          <a:prstGeom prst="rect">
            <a:avLst/>
          </a:prstGeom>
          <a:noFill/>
          <a:ln w="38160">
            <a:solidFill>
              <a:srgbClr val="007e27"/>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4" name=""/>
          <p:cNvSpPr/>
          <p:nvPr/>
        </p:nvSpPr>
        <p:spPr>
          <a:xfrm>
            <a:off x="1065240" y="2033640"/>
            <a:ext cx="3870360" cy="1133280"/>
          </a:xfrm>
          <a:prstGeom prst="rect">
            <a:avLst/>
          </a:prstGeom>
          <a:noFill/>
          <a:ln w="38160">
            <a:solidFill>
              <a:srgbClr val="64b9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5" name=""/>
          <p:cNvSpPr/>
          <p:nvPr/>
        </p:nvSpPr>
        <p:spPr>
          <a:xfrm>
            <a:off x="446040" y="361008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300</a:t>
            </a:r>
            <a:endParaRPr b="0" lang="en-US" sz="1800" spc="-1" strike="noStrike">
              <a:solidFill>
                <a:srgbClr val="000000"/>
              </a:solidFill>
              <a:latin typeface="Futura Bk"/>
            </a:endParaRPr>
          </a:p>
        </p:txBody>
      </p:sp>
      <p:sp>
        <p:nvSpPr>
          <p:cNvPr id="186" name=""/>
          <p:cNvSpPr/>
          <p:nvPr/>
        </p:nvSpPr>
        <p:spPr>
          <a:xfrm>
            <a:off x="430200" y="248904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500</a:t>
            </a:r>
            <a:endParaRPr b="0" lang="en-US" sz="1800" spc="-1" strike="noStrike">
              <a:solidFill>
                <a:srgbClr val="000000"/>
              </a:solidFill>
              <a:latin typeface="Futura Bk"/>
            </a:endParaRPr>
          </a:p>
        </p:txBody>
      </p:sp>
      <p:sp>
        <p:nvSpPr>
          <p:cNvPr id="187" name=""/>
          <p:cNvSpPr/>
          <p:nvPr/>
        </p:nvSpPr>
        <p:spPr>
          <a:xfrm>
            <a:off x="2675520" y="405936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70 G5</a:t>
            </a:r>
            <a:endParaRPr b="0" lang="en-US" sz="1600" spc="-1" strike="noStrike">
              <a:solidFill>
                <a:srgbClr val="000000"/>
              </a:solidFill>
              <a:latin typeface="Futura Bk"/>
            </a:endParaRPr>
          </a:p>
        </p:txBody>
      </p:sp>
      <p:sp>
        <p:nvSpPr>
          <p:cNvPr id="188" name=""/>
          <p:cNvSpPr/>
          <p:nvPr/>
        </p:nvSpPr>
        <p:spPr>
          <a:xfrm>
            <a:off x="3486960" y="242424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570 G4</a:t>
            </a:r>
            <a:endParaRPr b="0" lang="en-US" sz="1600" spc="-1" strike="noStrike">
              <a:solidFill>
                <a:srgbClr val="000000"/>
              </a:solidFill>
              <a:latin typeface="Futura Bk"/>
            </a:endParaRPr>
          </a:p>
        </p:txBody>
      </p:sp>
      <p:pic>
        <p:nvPicPr>
          <p:cNvPr id="189" name="" descr=""/>
          <p:cNvPicPr/>
          <p:nvPr/>
        </p:nvPicPr>
        <p:blipFill>
          <a:blip r:embed="rId6"/>
          <a:stretch/>
        </p:blipFill>
        <p:spPr>
          <a:xfrm>
            <a:off x="5491080" y="2282760"/>
            <a:ext cx="1263600" cy="666720"/>
          </a:xfrm>
          <a:prstGeom prst="rect">
            <a:avLst/>
          </a:prstGeom>
          <a:ln w="0">
            <a:noFill/>
          </a:ln>
        </p:spPr>
      </p:pic>
      <p:sp>
        <p:nvSpPr>
          <p:cNvPr id="190" name=""/>
          <p:cNvSpPr/>
          <p:nvPr/>
        </p:nvSpPr>
        <p:spPr>
          <a:xfrm>
            <a:off x="5030640" y="2033640"/>
            <a:ext cx="3718080" cy="1133280"/>
          </a:xfrm>
          <a:prstGeom prst="rect">
            <a:avLst/>
          </a:prstGeom>
          <a:noFill/>
          <a:ln w="3816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1" name=""/>
          <p:cNvSpPr/>
          <p:nvPr/>
        </p:nvSpPr>
        <p:spPr>
          <a:xfrm>
            <a:off x="5326200" y="2781360"/>
            <a:ext cx="16002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0 G4</a:t>
            </a:r>
            <a:endParaRPr b="0" lang="en-US" sz="1600" spc="-1" strike="noStrike">
              <a:solidFill>
                <a:srgbClr val="000000"/>
              </a:solidFill>
              <a:latin typeface="Futura Bk"/>
            </a:endParaRPr>
          </a:p>
        </p:txBody>
      </p:sp>
      <p:sp>
        <p:nvSpPr>
          <p:cNvPr id="192" name=""/>
          <p:cNvSpPr/>
          <p:nvPr/>
        </p:nvSpPr>
        <p:spPr>
          <a:xfrm>
            <a:off x="6780240" y="2765520"/>
            <a:ext cx="18540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5 G2</a:t>
            </a:r>
            <a:endParaRPr b="0" lang="en-US" sz="1600" spc="-1" strike="noStrike">
              <a:solidFill>
                <a:srgbClr val="000000"/>
              </a:solidFill>
              <a:latin typeface="Futura Bk"/>
            </a:endParaRPr>
          </a:p>
        </p:txBody>
      </p:sp>
      <p:pic>
        <p:nvPicPr>
          <p:cNvPr id="193" name="" descr=""/>
          <p:cNvPicPr/>
          <p:nvPr/>
        </p:nvPicPr>
        <p:blipFill>
          <a:blip r:embed="rId7"/>
          <a:stretch/>
        </p:blipFill>
        <p:spPr>
          <a:xfrm>
            <a:off x="1260360" y="4543560"/>
            <a:ext cx="766800" cy="857160"/>
          </a:xfrm>
          <a:prstGeom prst="rect">
            <a:avLst/>
          </a:prstGeom>
          <a:ln w="0">
            <a:noFill/>
          </a:ln>
        </p:spPr>
      </p:pic>
      <p:sp>
        <p:nvSpPr>
          <p:cNvPr id="194" name=""/>
          <p:cNvSpPr/>
          <p:nvPr/>
        </p:nvSpPr>
        <p:spPr>
          <a:xfrm>
            <a:off x="446040" y="484992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100</a:t>
            </a:r>
            <a:r>
              <a:rPr b="0" lang="en-US" sz="1800" spc="-1" strike="noStrike">
                <a:solidFill>
                  <a:srgbClr val="000000"/>
                </a:solidFill>
                <a:latin typeface="Futura Bk"/>
              </a:rPr>
              <a:t> </a:t>
            </a:r>
            <a:endParaRPr b="0" lang="en-US" sz="1800" spc="-1" strike="noStrike">
              <a:solidFill>
                <a:srgbClr val="000000"/>
              </a:solidFill>
              <a:latin typeface="Futura Bk"/>
            </a:endParaRPr>
          </a:p>
        </p:txBody>
      </p:sp>
      <p:sp>
        <p:nvSpPr>
          <p:cNvPr id="195" name=""/>
          <p:cNvSpPr/>
          <p:nvPr/>
        </p:nvSpPr>
        <p:spPr>
          <a:xfrm>
            <a:off x="1074600" y="4500720"/>
            <a:ext cx="3551400" cy="1466640"/>
          </a:xfrm>
          <a:prstGeom prst="rect">
            <a:avLst/>
          </a:prstGeom>
          <a:noFill/>
          <a:ln w="38160">
            <a:solidFill>
              <a:srgbClr val="66c25f"/>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6" name=""/>
          <p:cNvSpPr/>
          <p:nvPr/>
        </p:nvSpPr>
        <p:spPr>
          <a:xfrm>
            <a:off x="107784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a:t>
            </a:r>
            <a:endParaRPr b="0" lang="en-US" sz="1600" spc="-1" strike="noStrike">
              <a:solidFill>
                <a:srgbClr val="000000"/>
              </a:solidFill>
              <a:latin typeface="Futura Bk"/>
            </a:endParaRPr>
          </a:p>
        </p:txBody>
      </p:sp>
      <p:pic>
        <p:nvPicPr>
          <p:cNvPr id="197" name="" descr=""/>
          <p:cNvPicPr/>
          <p:nvPr/>
        </p:nvPicPr>
        <p:blipFill>
          <a:blip r:embed="rId8"/>
          <a:stretch/>
        </p:blipFill>
        <p:spPr>
          <a:xfrm>
            <a:off x="1298520" y="3311640"/>
            <a:ext cx="777960" cy="869760"/>
          </a:xfrm>
          <a:prstGeom prst="rect">
            <a:avLst/>
          </a:prstGeom>
          <a:ln w="0">
            <a:noFill/>
          </a:ln>
        </p:spPr>
      </p:pic>
      <p:sp>
        <p:nvSpPr>
          <p:cNvPr id="198" name=""/>
          <p:cNvSpPr/>
          <p:nvPr/>
        </p:nvSpPr>
        <p:spPr>
          <a:xfrm>
            <a:off x="1232640" y="406728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10 G4</a:t>
            </a:r>
            <a:endParaRPr b="0" lang="en-US" sz="1600" spc="-1" strike="noStrike">
              <a:solidFill>
                <a:srgbClr val="000000"/>
              </a:solidFill>
              <a:latin typeface="Futura Bk"/>
            </a:endParaRPr>
          </a:p>
        </p:txBody>
      </p:sp>
      <p:sp>
        <p:nvSpPr>
          <p:cNvPr id="199" name=""/>
          <p:cNvSpPr/>
          <p:nvPr/>
        </p:nvSpPr>
        <p:spPr>
          <a:xfrm>
            <a:off x="4844160" y="1579680"/>
            <a:ext cx="3470760" cy="38340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DL server series</a:t>
            </a:r>
            <a:endParaRPr b="0" lang="en-US" sz="2000" spc="-1" strike="noStrike">
              <a:solidFill>
                <a:srgbClr val="000000"/>
              </a:solidFill>
              <a:latin typeface="Futura Bk"/>
            </a:endParaRPr>
          </a:p>
        </p:txBody>
      </p:sp>
      <p:pic>
        <p:nvPicPr>
          <p:cNvPr id="200" name="" descr=""/>
          <p:cNvPicPr/>
          <p:nvPr/>
        </p:nvPicPr>
        <p:blipFill>
          <a:blip r:embed="rId9"/>
          <a:stretch/>
        </p:blipFill>
        <p:spPr>
          <a:xfrm>
            <a:off x="2454120" y="4543560"/>
            <a:ext cx="766800" cy="857160"/>
          </a:xfrm>
          <a:prstGeom prst="rect">
            <a:avLst/>
          </a:prstGeom>
          <a:ln w="0">
            <a:noFill/>
          </a:ln>
        </p:spPr>
      </p:pic>
      <p:sp>
        <p:nvSpPr>
          <p:cNvPr id="201" name=""/>
          <p:cNvSpPr/>
          <p:nvPr/>
        </p:nvSpPr>
        <p:spPr>
          <a:xfrm>
            <a:off x="217188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5 G4</a:t>
            </a:r>
            <a:endParaRPr b="0" lang="en-US" sz="1600" spc="-1" strike="noStrike">
              <a:solidFill>
                <a:srgbClr val="000000"/>
              </a:solidFill>
              <a:latin typeface="Futura Bk"/>
            </a:endParaRPr>
          </a:p>
        </p:txBody>
      </p:sp>
      <p:pic>
        <p:nvPicPr>
          <p:cNvPr id="202" name="" descr=""/>
          <p:cNvPicPr/>
          <p:nvPr/>
        </p:nvPicPr>
        <p:blipFill>
          <a:blip r:embed="rId10"/>
          <a:stretch/>
        </p:blipFill>
        <p:spPr>
          <a:xfrm>
            <a:off x="5108400" y="3063960"/>
            <a:ext cx="1454400" cy="1625400"/>
          </a:xfrm>
          <a:prstGeom prst="rect">
            <a:avLst/>
          </a:prstGeom>
          <a:ln w="0">
            <a:noFill/>
          </a:ln>
        </p:spPr>
      </p:pic>
      <p:pic>
        <p:nvPicPr>
          <p:cNvPr id="203" name="" descr=""/>
          <p:cNvPicPr/>
          <p:nvPr/>
        </p:nvPicPr>
        <p:blipFill>
          <a:blip r:embed="rId11"/>
          <a:stretch/>
        </p:blipFill>
        <p:spPr>
          <a:xfrm>
            <a:off x="6454800" y="3197160"/>
            <a:ext cx="1208160" cy="1349280"/>
          </a:xfrm>
          <a:prstGeom prst="rect">
            <a:avLst/>
          </a:prstGeom>
          <a:ln w="0">
            <a:noFill/>
          </a:ln>
        </p:spPr>
      </p:pic>
      <p:pic>
        <p:nvPicPr>
          <p:cNvPr id="204" name="" descr=""/>
          <p:cNvPicPr/>
          <p:nvPr/>
        </p:nvPicPr>
        <p:blipFill>
          <a:blip r:embed="rId12"/>
          <a:stretch/>
        </p:blipFill>
        <p:spPr>
          <a:xfrm>
            <a:off x="7572240" y="3197160"/>
            <a:ext cx="1208160" cy="1349280"/>
          </a:xfrm>
          <a:prstGeom prst="rect">
            <a:avLst/>
          </a:prstGeom>
          <a:ln w="0">
            <a:noFill/>
          </a:ln>
        </p:spPr>
      </p:pic>
      <p:pic>
        <p:nvPicPr>
          <p:cNvPr id="205" name="" descr=""/>
          <p:cNvPicPr/>
          <p:nvPr/>
        </p:nvPicPr>
        <p:blipFill>
          <a:blip r:embed="rId13"/>
          <a:stretch/>
        </p:blipFill>
        <p:spPr>
          <a:xfrm>
            <a:off x="3747960" y="4557600"/>
            <a:ext cx="516240" cy="1019160"/>
          </a:xfrm>
          <a:prstGeom prst="rect">
            <a:avLst/>
          </a:prstGeom>
          <a:ln w="0">
            <a:noFill/>
          </a:ln>
        </p:spPr>
      </p:pic>
      <p:sp>
        <p:nvSpPr>
          <p:cNvPr id="206" name=""/>
          <p:cNvSpPr/>
          <p:nvPr/>
        </p:nvSpPr>
        <p:spPr>
          <a:xfrm>
            <a:off x="3265560" y="5340240"/>
            <a:ext cx="153648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5</a:t>
            </a:r>
            <a:endParaRPr b="0" lang="en-US" sz="1600" spc="-1" strike="noStrike">
              <a:solidFill>
                <a:srgbClr val="000000"/>
              </a:solidFill>
              <a:latin typeface="Futura Bk"/>
            </a:endParaRPr>
          </a:p>
        </p:txBody>
      </p:sp>
      <p:pic>
        <p:nvPicPr>
          <p:cNvPr id="207" name="" descr=""/>
          <p:cNvPicPr/>
          <p:nvPr/>
        </p:nvPicPr>
        <p:blipFill>
          <a:blip r:embed="rId14"/>
          <a:stretch/>
        </p:blipFill>
        <p:spPr>
          <a:xfrm>
            <a:off x="5108400" y="3063960"/>
            <a:ext cx="1454400" cy="1625400"/>
          </a:xfrm>
          <a:prstGeom prst="rect">
            <a:avLst/>
          </a:prstGeom>
          <a:ln w="0">
            <a:noFill/>
          </a:ln>
        </p:spPr>
      </p:pic>
      <p:pic>
        <p:nvPicPr>
          <p:cNvPr id="208" name="" descr=""/>
          <p:cNvPicPr/>
          <p:nvPr/>
        </p:nvPicPr>
        <p:blipFill>
          <a:blip r:embed="rId15"/>
          <a:stretch/>
        </p:blipFill>
        <p:spPr>
          <a:xfrm>
            <a:off x="6337440" y="4765680"/>
            <a:ext cx="1244520" cy="622440"/>
          </a:xfrm>
          <a:prstGeom prst="rect">
            <a:avLst/>
          </a:prstGeom>
          <a:ln w="0">
            <a:noFill/>
          </a:ln>
        </p:spPr>
      </p:pic>
      <p:pic>
        <p:nvPicPr>
          <p:cNvPr id="209" name="" descr=""/>
          <p:cNvPicPr/>
          <p:nvPr/>
        </p:nvPicPr>
        <p:blipFill>
          <a:blip r:embed="rId16"/>
          <a:stretch/>
        </p:blipFill>
        <p:spPr>
          <a:xfrm>
            <a:off x="4705200" y="4584600"/>
            <a:ext cx="1449360" cy="1619280"/>
          </a:xfrm>
          <a:prstGeom prst="rect">
            <a:avLst/>
          </a:prstGeom>
          <a:ln w="0">
            <a:noFill/>
          </a:ln>
        </p:spPr>
      </p:pic>
      <p:sp>
        <p:nvSpPr>
          <p:cNvPr id="210" name=""/>
          <p:cNvSpPr/>
          <p:nvPr/>
        </p:nvSpPr>
        <p:spPr>
          <a:xfrm>
            <a:off x="4737240" y="4456080"/>
            <a:ext cx="4049640" cy="1531800"/>
          </a:xfrm>
          <a:prstGeom prst="rect">
            <a:avLst/>
          </a:prstGeom>
          <a:noFill/>
          <a:ln w="38160">
            <a:solidFill>
              <a:srgbClr val="cccccc"/>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11" name=""/>
          <p:cNvSpPr/>
          <p:nvPr/>
        </p:nvSpPr>
        <p:spPr>
          <a:xfrm>
            <a:off x="4667400" y="478620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60 G5 </a:t>
            </a:r>
            <a:endParaRPr b="0" lang="en-US" sz="1600" spc="-1" strike="noStrike">
              <a:solidFill>
                <a:srgbClr val="000000"/>
              </a:solidFill>
              <a:latin typeface="Futura Bk"/>
            </a:endParaRPr>
          </a:p>
        </p:txBody>
      </p:sp>
      <p:sp>
        <p:nvSpPr>
          <p:cNvPr id="212" name=""/>
          <p:cNvSpPr/>
          <p:nvPr/>
        </p:nvSpPr>
        <p:spPr>
          <a:xfrm>
            <a:off x="4667400" y="553068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45 G3</a:t>
            </a:r>
            <a:endParaRPr b="0" lang="en-US" sz="1600" spc="-1" strike="noStrike">
              <a:solidFill>
                <a:srgbClr val="000000"/>
              </a:solidFill>
              <a:latin typeface="Futura Bk"/>
            </a:endParaRPr>
          </a:p>
        </p:txBody>
      </p:sp>
      <p:sp>
        <p:nvSpPr>
          <p:cNvPr id="213" name=""/>
          <p:cNvSpPr/>
          <p:nvPr/>
        </p:nvSpPr>
        <p:spPr>
          <a:xfrm>
            <a:off x="6224760" y="521352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a:t>
            </a:r>
            <a:endParaRPr b="0" lang="en-US" sz="1600" spc="-1" strike="noStrike">
              <a:solidFill>
                <a:srgbClr val="000000"/>
              </a:solidFill>
              <a:latin typeface="Futura Bk"/>
            </a:endParaRPr>
          </a:p>
        </p:txBody>
      </p:sp>
      <p:pic>
        <p:nvPicPr>
          <p:cNvPr id="214" name="" descr="HP ProLiant DL185 G5 Server series"/>
          <p:cNvPicPr/>
          <p:nvPr/>
        </p:nvPicPr>
        <p:blipFill>
          <a:blip r:embed="rId17"/>
          <a:stretch/>
        </p:blipFill>
        <p:spPr>
          <a:xfrm>
            <a:off x="7696080" y="4724280"/>
            <a:ext cx="952560" cy="666720"/>
          </a:xfrm>
          <a:prstGeom prst="rect">
            <a:avLst/>
          </a:prstGeom>
          <a:ln w="0">
            <a:noFill/>
          </a:ln>
        </p:spPr>
      </p:pic>
      <p:sp>
        <p:nvSpPr>
          <p:cNvPr id="215" name=""/>
          <p:cNvSpPr/>
          <p:nvPr/>
        </p:nvSpPr>
        <p:spPr>
          <a:xfrm>
            <a:off x="7386480" y="5213520"/>
            <a:ext cx="157032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5 G5</a:t>
            </a:r>
            <a:endParaRPr b="0" lang="en-US" sz="16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4ADF2ABD-6F19-4BC3-BD8C-02341237A1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451320" y="1093680"/>
            <a:ext cx="4954320" cy="5027760"/>
          </a:xfrm>
          <a:prstGeom prst="rect">
            <a:avLst/>
          </a:prstGeom>
          <a:noFill/>
          <a:ln w="0">
            <a:noFill/>
          </a:ln>
        </p:spPr>
        <p:style>
          <a:lnRef idx="0"/>
          <a:fillRef idx="0"/>
          <a:effectRef idx="0"/>
          <a:fontRef idx="minor"/>
        </p:style>
        <p:txBody>
          <a:bodyPr lIns="45720" rIns="45720" tIns="46800" bIns="46800" anchor="t">
            <a:normAutofit/>
          </a:bodyPr>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Remote site or branch offices of small-medium size businesses</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Small medium businesses running light applications</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Expandability and affordability over and beyond a typical DP tower server</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Customer needs to remotely manage the server</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ffordable dual-processor server with essential management, redundancy, and enough power to handle complex business requirements</a:t>
            </a:r>
            <a:endParaRPr b="0" lang="en-US" sz="2000" spc="-1" strike="noStrike">
              <a:solidFill>
                <a:srgbClr val="000000"/>
              </a:solidFill>
              <a:latin typeface="Futura Bk"/>
            </a:endParaRPr>
          </a:p>
        </p:txBody>
      </p:sp>
      <p:sp>
        <p:nvSpPr>
          <p:cNvPr id="217" name=""/>
          <p:cNvSpPr/>
          <p:nvPr/>
        </p:nvSpPr>
        <p:spPr>
          <a:xfrm>
            <a:off x="3349800" y="971640"/>
            <a:ext cx="5194080" cy="544824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19" name=""/>
          <p:cNvSpPr/>
          <p:nvPr/>
        </p:nvSpPr>
        <p:spPr>
          <a:xfrm>
            <a:off x="646200" y="3409920"/>
            <a:ext cx="2593800" cy="111456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Ease of use and maintenance, powerful compute technology</a:t>
            </a:r>
            <a:endParaRPr b="0" lang="en-US" sz="1800" spc="-1" strike="noStrike">
              <a:solidFill>
                <a:srgbClr val="000000"/>
              </a:solidFill>
              <a:latin typeface="Futura Bk"/>
            </a:endParaRPr>
          </a:p>
        </p:txBody>
      </p:sp>
      <p:sp>
        <p:nvSpPr>
          <p:cNvPr id="220" name=""/>
          <p:cNvSpPr/>
          <p:nvPr/>
        </p:nvSpPr>
        <p:spPr>
          <a:xfrm>
            <a:off x="646200" y="2205000"/>
            <a:ext cx="2622600" cy="111780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Workloads from 1 to 100 employees, small remote sites</a:t>
            </a:r>
            <a:endParaRPr b="0" lang="en-US" sz="1800" spc="-1" strike="noStrike">
              <a:solidFill>
                <a:srgbClr val="000000"/>
              </a:solidFill>
              <a:latin typeface="Futura Bk"/>
            </a:endParaRPr>
          </a:p>
        </p:txBody>
      </p:sp>
      <p:sp>
        <p:nvSpPr>
          <p:cNvPr id="221" name=""/>
          <p:cNvSpPr/>
          <p:nvPr/>
        </p:nvSpPr>
        <p:spPr>
          <a:xfrm>
            <a:off x="646200" y="4599000"/>
            <a:ext cx="2584440" cy="62856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Deploy server in a rack</a:t>
            </a:r>
            <a:endParaRPr b="0" lang="en-US" sz="1800" spc="-1" strike="noStrike">
              <a:solidFill>
                <a:srgbClr val="000000"/>
              </a:solidFill>
              <a:latin typeface="Futura Bk"/>
            </a:endParaRPr>
          </a:p>
        </p:txBody>
      </p:sp>
      <p:sp>
        <p:nvSpPr>
          <p:cNvPr id="222" name=""/>
          <p:cNvSpPr/>
          <p:nvPr/>
        </p:nvSpPr>
        <p:spPr>
          <a:xfrm>
            <a:off x="646200" y="1022400"/>
            <a:ext cx="2603520" cy="112392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B, Internet Café, SOHO, workshop with limited IT resources</a:t>
            </a:r>
            <a:endParaRPr b="0" lang="en-US" sz="1800" spc="-1" strike="noStrike">
              <a:solidFill>
                <a:srgbClr val="000000"/>
              </a:solidFill>
              <a:latin typeface="Futura Bk"/>
            </a:endParaRPr>
          </a:p>
        </p:txBody>
      </p:sp>
      <p:sp>
        <p:nvSpPr>
          <p:cNvPr id="223" name=""/>
          <p:cNvSpPr/>
          <p:nvPr/>
        </p:nvSpPr>
        <p:spPr>
          <a:xfrm>
            <a:off x="646200" y="5361120"/>
            <a:ext cx="2603520" cy="85716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Affordable quad core processing</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B6762554-7F93-44C5-B420-6A59FAC898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ＭＳ Ｐゴシック"/>
              </a:rPr>
              <a:t>Use case scenario 1 — Lights-Out 100 remote management</a:t>
            </a:r>
            <a:endParaRPr b="0" lang="en-US" sz="3200" spc="-1" strike="noStrike">
              <a:solidFill>
                <a:srgbClr val="000000"/>
              </a:solidFill>
              <a:latin typeface="Futura Bk"/>
            </a:endParaRPr>
          </a:p>
        </p:txBody>
      </p:sp>
      <p:sp>
        <p:nvSpPr>
          <p:cNvPr id="225"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Purposes include:</a:t>
            </a:r>
            <a:endParaRPr b="0" lang="en-US" sz="19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trouble shooting and recovery</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system event log</a:t>
            </a:r>
            <a:endParaRPr b="0" lang="en-US" sz="1800" spc="-1" strike="noStrike">
              <a:solidFill>
                <a:srgbClr val="000000"/>
              </a:solidFill>
              <a:latin typeface="Futura Bk"/>
            </a:endParaRPr>
          </a:p>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Lights-Out solution:</a:t>
            </a:r>
            <a:endParaRPr b="0" lang="en-US" sz="1900" spc="-1" strike="noStrike">
              <a:solidFill>
                <a:srgbClr val="0071b4"/>
              </a:solidFill>
              <a:latin typeface="Futura Bk"/>
            </a:endParaRPr>
          </a:p>
          <a:p>
            <a:pPr lvl="1" marL="345960" indent="-231480">
              <a:lnSpc>
                <a:spcPct val="90000"/>
              </a:lnSpc>
              <a:spcBef>
                <a:spcPts val="113"/>
              </a:spcBef>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st-effective, entry level remote management solution for the ProLiant 100 series servers</a:t>
            </a:r>
            <a:endParaRPr b="0" lang="en-US" sz="1800" spc="-1" strike="noStrike">
              <a:solidFill>
                <a:srgbClr val="000000"/>
              </a:solidFill>
              <a:latin typeface="Futura Bk"/>
            </a:endParaRPr>
          </a:p>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Benefits:</a:t>
            </a:r>
            <a:endParaRPr b="0" lang="en-US" sz="19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f something goes wrong with a server, IT can connect with out having to drive or walk to the site</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ntrol is from the comfort of one’s own location saving customers time and money</a:t>
            </a:r>
            <a:endParaRPr b="0" lang="en-US" sz="1800" spc="-1" strike="noStrike">
              <a:solidFill>
                <a:srgbClr val="000000"/>
              </a:solidFill>
              <a:latin typeface="Futura Bk"/>
            </a:endParaRPr>
          </a:p>
        </p:txBody>
      </p:sp>
      <p:grpSp>
        <p:nvGrpSpPr>
          <p:cNvPr id="226" name=""/>
          <p:cNvGrpSpPr/>
          <p:nvPr/>
        </p:nvGrpSpPr>
        <p:grpSpPr>
          <a:xfrm>
            <a:off x="4662360" y="1382760"/>
            <a:ext cx="4481280" cy="1676520"/>
            <a:chOff x="4662360" y="1382760"/>
            <a:chExt cx="4481280" cy="1676520"/>
          </a:xfrm>
        </p:grpSpPr>
        <p:sp>
          <p:nvSpPr>
            <p:cNvPr id="227" name=""/>
            <p:cNvSpPr/>
            <p:nvPr/>
          </p:nvSpPr>
          <p:spPr>
            <a:xfrm>
              <a:off x="4662360" y="1684440"/>
              <a:ext cx="4481280" cy="1374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28" name=""/>
            <p:cNvGrpSpPr/>
            <p:nvPr/>
          </p:nvGrpSpPr>
          <p:grpSpPr>
            <a:xfrm>
              <a:off x="4773960" y="1751040"/>
              <a:ext cx="4276800" cy="1133640"/>
              <a:chOff x="4773960" y="1751040"/>
              <a:chExt cx="4276800" cy="1133640"/>
            </a:xfrm>
          </p:grpSpPr>
          <p:grpSp>
            <p:nvGrpSpPr>
              <p:cNvPr id="229" name=""/>
              <p:cNvGrpSpPr/>
              <p:nvPr/>
            </p:nvGrpSpPr>
            <p:grpSpPr>
              <a:xfrm>
                <a:off x="4773960" y="1751040"/>
                <a:ext cx="971640" cy="1133640"/>
                <a:chOff x="4773960" y="1751040"/>
                <a:chExt cx="971640" cy="1133640"/>
              </a:xfrm>
            </p:grpSpPr>
            <p:sp>
              <p:nvSpPr>
                <p:cNvPr id="230" name=""/>
                <p:cNvSpPr/>
                <p:nvPr/>
              </p:nvSpPr>
              <p:spPr>
                <a:xfrm>
                  <a:off x="4852800" y="1751040"/>
                  <a:ext cx="892800" cy="1133640"/>
                </a:xfrm>
                <a:custGeom>
                  <a:avLst/>
                  <a:gdLst/>
                  <a:ahLst/>
                  <a:rect l="l" t="t" r="r" b="b"/>
                  <a:pathLst>
                    <a:path w="2577" h="2285">
                      <a:moveTo>
                        <a:pt x="2197" y="2285"/>
                      </a:moveTo>
                      <a:lnTo>
                        <a:pt x="2077" y="2285"/>
                      </a:lnTo>
                      <a:lnTo>
                        <a:pt x="1945" y="2285"/>
                      </a:lnTo>
                      <a:lnTo>
                        <a:pt x="1800" y="2285"/>
                      </a:lnTo>
                      <a:lnTo>
                        <a:pt x="1650" y="2285"/>
                      </a:lnTo>
                      <a:lnTo>
                        <a:pt x="1492" y="2285"/>
                      </a:lnTo>
                      <a:lnTo>
                        <a:pt x="1331" y="2285"/>
                      </a:lnTo>
                      <a:lnTo>
                        <a:pt x="1169" y="2285"/>
                      </a:lnTo>
                      <a:lnTo>
                        <a:pt x="1007" y="2285"/>
                      </a:lnTo>
                      <a:lnTo>
                        <a:pt x="847" y="2285"/>
                      </a:lnTo>
                      <a:lnTo>
                        <a:pt x="695" y="2285"/>
                      </a:lnTo>
                      <a:lnTo>
                        <a:pt x="550" y="2285"/>
                      </a:lnTo>
                      <a:lnTo>
                        <a:pt x="416" y="2285"/>
                      </a:lnTo>
                      <a:lnTo>
                        <a:pt x="292" y="2285"/>
                      </a:lnTo>
                      <a:lnTo>
                        <a:pt x="186" y="2285"/>
                      </a:lnTo>
                      <a:lnTo>
                        <a:pt x="95" y="2285"/>
                      </a:lnTo>
                      <a:lnTo>
                        <a:pt x="25" y="2285"/>
                      </a:lnTo>
                      <a:lnTo>
                        <a:pt x="36" y="2272"/>
                      </a:lnTo>
                      <a:lnTo>
                        <a:pt x="53" y="2227"/>
                      </a:lnTo>
                      <a:lnTo>
                        <a:pt x="71" y="2172"/>
                      </a:lnTo>
                      <a:lnTo>
                        <a:pt x="94" y="2110"/>
                      </a:lnTo>
                      <a:lnTo>
                        <a:pt x="117" y="2039"/>
                      </a:lnTo>
                      <a:lnTo>
                        <a:pt x="144" y="1966"/>
                      </a:lnTo>
                      <a:lnTo>
                        <a:pt x="171" y="1891"/>
                      </a:lnTo>
                      <a:lnTo>
                        <a:pt x="198" y="1816"/>
                      </a:lnTo>
                      <a:lnTo>
                        <a:pt x="224" y="1740"/>
                      </a:lnTo>
                      <a:lnTo>
                        <a:pt x="248" y="1670"/>
                      </a:lnTo>
                      <a:lnTo>
                        <a:pt x="271" y="1604"/>
                      </a:lnTo>
                      <a:lnTo>
                        <a:pt x="292" y="1548"/>
                      </a:lnTo>
                      <a:lnTo>
                        <a:pt x="309" y="1499"/>
                      </a:lnTo>
                      <a:lnTo>
                        <a:pt x="322" y="1462"/>
                      </a:lnTo>
                      <a:lnTo>
                        <a:pt x="330" y="1439"/>
                      </a:lnTo>
                      <a:lnTo>
                        <a:pt x="334" y="1431"/>
                      </a:lnTo>
                      <a:lnTo>
                        <a:pt x="0" y="1273"/>
                      </a:lnTo>
                      <a:lnTo>
                        <a:pt x="258" y="0"/>
                      </a:lnTo>
                      <a:lnTo>
                        <a:pt x="1572" y="260"/>
                      </a:lnTo>
                      <a:lnTo>
                        <a:pt x="2577" y="659"/>
                      </a:lnTo>
                      <a:lnTo>
                        <a:pt x="2119" y="951"/>
                      </a:lnTo>
                      <a:lnTo>
                        <a:pt x="2119" y="963"/>
                      </a:lnTo>
                      <a:lnTo>
                        <a:pt x="2121" y="998"/>
                      </a:lnTo>
                      <a:lnTo>
                        <a:pt x="2125" y="1052"/>
                      </a:lnTo>
                      <a:lnTo>
                        <a:pt x="2129" y="1125"/>
                      </a:lnTo>
                      <a:lnTo>
                        <a:pt x="2133" y="1209"/>
                      </a:lnTo>
                      <a:lnTo>
                        <a:pt x="2139" y="1309"/>
                      </a:lnTo>
                      <a:lnTo>
                        <a:pt x="2145" y="1414"/>
                      </a:lnTo>
                      <a:lnTo>
                        <a:pt x="2152" y="1529"/>
                      </a:lnTo>
                      <a:lnTo>
                        <a:pt x="2158" y="1643"/>
                      </a:lnTo>
                      <a:lnTo>
                        <a:pt x="2165" y="1759"/>
                      </a:lnTo>
                      <a:lnTo>
                        <a:pt x="2172" y="1873"/>
                      </a:lnTo>
                      <a:lnTo>
                        <a:pt x="2179" y="1981"/>
                      </a:lnTo>
                      <a:lnTo>
                        <a:pt x="2183" y="2080"/>
                      </a:lnTo>
                      <a:lnTo>
                        <a:pt x="2189" y="2171"/>
                      </a:lnTo>
                      <a:lnTo>
                        <a:pt x="2194" y="2246"/>
                      </a:lnTo>
                      <a:lnTo>
                        <a:pt x="2197" y="2285"/>
                      </a:lnTo>
                      <a:lnTo>
                        <a:pt x="2197" y="228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1" name=""/>
                <p:cNvSpPr/>
                <p:nvPr/>
              </p:nvSpPr>
              <p:spPr>
                <a:xfrm>
                  <a:off x="4904640" y="1841760"/>
                  <a:ext cx="715320" cy="1042560"/>
                </a:xfrm>
                <a:custGeom>
                  <a:avLst/>
                  <a:gdLst/>
                  <a:ahLst/>
                  <a:rect l="l" t="t" r="r" b="b"/>
                  <a:pathLst>
                    <a:path w="2062" h="2100">
                      <a:moveTo>
                        <a:pt x="1996" y="2100"/>
                      </a:moveTo>
                      <a:lnTo>
                        <a:pt x="1886" y="2100"/>
                      </a:lnTo>
                      <a:lnTo>
                        <a:pt x="1769" y="2100"/>
                      </a:lnTo>
                      <a:lnTo>
                        <a:pt x="1642" y="2100"/>
                      </a:lnTo>
                      <a:lnTo>
                        <a:pt x="1511" y="2100"/>
                      </a:lnTo>
                      <a:lnTo>
                        <a:pt x="1374" y="2100"/>
                      </a:lnTo>
                      <a:lnTo>
                        <a:pt x="1234" y="2100"/>
                      </a:lnTo>
                      <a:lnTo>
                        <a:pt x="1092" y="2100"/>
                      </a:lnTo>
                      <a:lnTo>
                        <a:pt x="952" y="2100"/>
                      </a:lnTo>
                      <a:lnTo>
                        <a:pt x="811" y="2100"/>
                      </a:lnTo>
                      <a:lnTo>
                        <a:pt x="674" y="2100"/>
                      </a:lnTo>
                      <a:lnTo>
                        <a:pt x="541" y="2100"/>
                      </a:lnTo>
                      <a:lnTo>
                        <a:pt x="415" y="2100"/>
                      </a:lnTo>
                      <a:lnTo>
                        <a:pt x="296" y="2100"/>
                      </a:lnTo>
                      <a:lnTo>
                        <a:pt x="186" y="2100"/>
                      </a:lnTo>
                      <a:lnTo>
                        <a:pt x="86" y="2100"/>
                      </a:lnTo>
                      <a:lnTo>
                        <a:pt x="0" y="2100"/>
                      </a:lnTo>
                      <a:lnTo>
                        <a:pt x="9" y="2091"/>
                      </a:lnTo>
                      <a:lnTo>
                        <a:pt x="23" y="2056"/>
                      </a:lnTo>
                      <a:lnTo>
                        <a:pt x="37" y="2014"/>
                      </a:lnTo>
                      <a:lnTo>
                        <a:pt x="53" y="1968"/>
                      </a:lnTo>
                      <a:lnTo>
                        <a:pt x="72" y="1918"/>
                      </a:lnTo>
                      <a:lnTo>
                        <a:pt x="90" y="1865"/>
                      </a:lnTo>
                      <a:lnTo>
                        <a:pt x="110" y="1812"/>
                      </a:lnTo>
                      <a:lnTo>
                        <a:pt x="129" y="1759"/>
                      </a:lnTo>
                      <a:lnTo>
                        <a:pt x="147" y="1707"/>
                      </a:lnTo>
                      <a:lnTo>
                        <a:pt x="165" y="1658"/>
                      </a:lnTo>
                      <a:lnTo>
                        <a:pt x="181" y="1613"/>
                      </a:lnTo>
                      <a:lnTo>
                        <a:pt x="197" y="1574"/>
                      </a:lnTo>
                      <a:lnTo>
                        <a:pt x="208" y="1540"/>
                      </a:lnTo>
                      <a:lnTo>
                        <a:pt x="217" y="1516"/>
                      </a:lnTo>
                      <a:lnTo>
                        <a:pt x="222" y="1500"/>
                      </a:lnTo>
                      <a:lnTo>
                        <a:pt x="225" y="1495"/>
                      </a:lnTo>
                      <a:lnTo>
                        <a:pt x="249" y="574"/>
                      </a:lnTo>
                      <a:lnTo>
                        <a:pt x="818" y="0"/>
                      </a:lnTo>
                      <a:lnTo>
                        <a:pt x="2062" y="472"/>
                      </a:lnTo>
                      <a:lnTo>
                        <a:pt x="1784" y="978"/>
                      </a:lnTo>
                      <a:lnTo>
                        <a:pt x="1874" y="1167"/>
                      </a:lnTo>
                      <a:lnTo>
                        <a:pt x="1874" y="1174"/>
                      </a:lnTo>
                      <a:lnTo>
                        <a:pt x="1878" y="1198"/>
                      </a:lnTo>
                      <a:lnTo>
                        <a:pt x="1884" y="1236"/>
                      </a:lnTo>
                      <a:lnTo>
                        <a:pt x="1890" y="1286"/>
                      </a:lnTo>
                      <a:lnTo>
                        <a:pt x="1896" y="1345"/>
                      </a:lnTo>
                      <a:lnTo>
                        <a:pt x="1906" y="1413"/>
                      </a:lnTo>
                      <a:lnTo>
                        <a:pt x="1914" y="1486"/>
                      </a:lnTo>
                      <a:lnTo>
                        <a:pt x="1925" y="1565"/>
                      </a:lnTo>
                      <a:lnTo>
                        <a:pt x="1935" y="1644"/>
                      </a:lnTo>
                      <a:lnTo>
                        <a:pt x="1945" y="1726"/>
                      </a:lnTo>
                      <a:lnTo>
                        <a:pt x="1955" y="1805"/>
                      </a:lnTo>
                      <a:lnTo>
                        <a:pt x="1965" y="1883"/>
                      </a:lnTo>
                      <a:lnTo>
                        <a:pt x="1975" y="1953"/>
                      </a:lnTo>
                      <a:lnTo>
                        <a:pt x="1983" y="2019"/>
                      </a:lnTo>
                      <a:lnTo>
                        <a:pt x="1989" y="2074"/>
                      </a:lnTo>
                      <a:lnTo>
                        <a:pt x="1996" y="2100"/>
                      </a:lnTo>
                      <a:lnTo>
                        <a:pt x="1996" y="210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2" name=""/>
                <p:cNvSpPr/>
                <p:nvPr/>
              </p:nvSpPr>
              <p:spPr>
                <a:xfrm>
                  <a:off x="4951440" y="1926360"/>
                  <a:ext cx="614160" cy="957960"/>
                </a:xfrm>
                <a:custGeom>
                  <a:avLst/>
                  <a:gdLst/>
                  <a:ahLst/>
                  <a:rect l="l" t="t" r="r" b="b"/>
                  <a:pathLst>
                    <a:path w="1771" h="1931">
                      <a:moveTo>
                        <a:pt x="1771" y="1931"/>
                      </a:moveTo>
                      <a:lnTo>
                        <a:pt x="1671" y="1931"/>
                      </a:lnTo>
                      <a:lnTo>
                        <a:pt x="1566" y="1931"/>
                      </a:lnTo>
                      <a:lnTo>
                        <a:pt x="1455" y="1931"/>
                      </a:lnTo>
                      <a:lnTo>
                        <a:pt x="1342" y="1931"/>
                      </a:lnTo>
                      <a:lnTo>
                        <a:pt x="1223" y="1931"/>
                      </a:lnTo>
                      <a:lnTo>
                        <a:pt x="1104" y="1931"/>
                      </a:lnTo>
                      <a:lnTo>
                        <a:pt x="983" y="1931"/>
                      </a:lnTo>
                      <a:lnTo>
                        <a:pt x="863" y="1931"/>
                      </a:lnTo>
                      <a:lnTo>
                        <a:pt x="742" y="1931"/>
                      </a:lnTo>
                      <a:lnTo>
                        <a:pt x="623" y="1931"/>
                      </a:lnTo>
                      <a:lnTo>
                        <a:pt x="506" y="1931"/>
                      </a:lnTo>
                      <a:lnTo>
                        <a:pt x="395" y="1931"/>
                      </a:lnTo>
                      <a:lnTo>
                        <a:pt x="286" y="1931"/>
                      </a:lnTo>
                      <a:lnTo>
                        <a:pt x="184" y="1931"/>
                      </a:lnTo>
                      <a:lnTo>
                        <a:pt x="88" y="1931"/>
                      </a:lnTo>
                      <a:lnTo>
                        <a:pt x="0" y="1931"/>
                      </a:lnTo>
                      <a:lnTo>
                        <a:pt x="5" y="1912"/>
                      </a:lnTo>
                      <a:lnTo>
                        <a:pt x="17" y="1863"/>
                      </a:lnTo>
                      <a:lnTo>
                        <a:pt x="28" y="1802"/>
                      </a:lnTo>
                      <a:lnTo>
                        <a:pt x="42" y="1731"/>
                      </a:lnTo>
                      <a:lnTo>
                        <a:pt x="57" y="1653"/>
                      </a:lnTo>
                      <a:lnTo>
                        <a:pt x="74" y="1570"/>
                      </a:lnTo>
                      <a:lnTo>
                        <a:pt x="90" y="1485"/>
                      </a:lnTo>
                      <a:lnTo>
                        <a:pt x="109" y="1400"/>
                      </a:lnTo>
                      <a:lnTo>
                        <a:pt x="124" y="1314"/>
                      </a:lnTo>
                      <a:lnTo>
                        <a:pt x="140" y="1234"/>
                      </a:lnTo>
                      <a:lnTo>
                        <a:pt x="154" y="1160"/>
                      </a:lnTo>
                      <a:lnTo>
                        <a:pt x="168" y="1095"/>
                      </a:lnTo>
                      <a:lnTo>
                        <a:pt x="178" y="1040"/>
                      </a:lnTo>
                      <a:lnTo>
                        <a:pt x="186" y="999"/>
                      </a:lnTo>
                      <a:lnTo>
                        <a:pt x="191" y="971"/>
                      </a:lnTo>
                      <a:lnTo>
                        <a:pt x="194" y="963"/>
                      </a:lnTo>
                      <a:lnTo>
                        <a:pt x="126" y="638"/>
                      </a:lnTo>
                      <a:lnTo>
                        <a:pt x="477" y="83"/>
                      </a:lnTo>
                      <a:lnTo>
                        <a:pt x="1064" y="0"/>
                      </a:lnTo>
                      <a:lnTo>
                        <a:pt x="1639" y="425"/>
                      </a:lnTo>
                      <a:lnTo>
                        <a:pt x="1575" y="1233"/>
                      </a:lnTo>
                      <a:lnTo>
                        <a:pt x="1576" y="1238"/>
                      </a:lnTo>
                      <a:lnTo>
                        <a:pt x="1581" y="1255"/>
                      </a:lnTo>
                      <a:lnTo>
                        <a:pt x="1589" y="1284"/>
                      </a:lnTo>
                      <a:lnTo>
                        <a:pt x="1599" y="1323"/>
                      </a:lnTo>
                      <a:lnTo>
                        <a:pt x="1611" y="1368"/>
                      </a:lnTo>
                      <a:lnTo>
                        <a:pt x="1626" y="1419"/>
                      </a:lnTo>
                      <a:lnTo>
                        <a:pt x="1640" y="1474"/>
                      </a:lnTo>
                      <a:lnTo>
                        <a:pt x="1658" y="1535"/>
                      </a:lnTo>
                      <a:lnTo>
                        <a:pt x="1673" y="1595"/>
                      </a:lnTo>
                      <a:lnTo>
                        <a:pt x="1690" y="1656"/>
                      </a:lnTo>
                      <a:lnTo>
                        <a:pt x="1706" y="1716"/>
                      </a:lnTo>
                      <a:lnTo>
                        <a:pt x="1723" y="1774"/>
                      </a:lnTo>
                      <a:lnTo>
                        <a:pt x="1737" y="1827"/>
                      </a:lnTo>
                      <a:lnTo>
                        <a:pt x="1751" y="1876"/>
                      </a:lnTo>
                      <a:lnTo>
                        <a:pt x="1761" y="1917"/>
                      </a:lnTo>
                      <a:lnTo>
                        <a:pt x="1771" y="1931"/>
                      </a:lnTo>
                      <a:lnTo>
                        <a:pt x="1771" y="1931"/>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3" name=""/>
                <p:cNvSpPr/>
                <p:nvPr/>
              </p:nvSpPr>
              <p:spPr>
                <a:xfrm>
                  <a:off x="4973400" y="1951920"/>
                  <a:ext cx="538560" cy="932400"/>
                </a:xfrm>
                <a:custGeom>
                  <a:avLst/>
                  <a:gdLst/>
                  <a:ahLst/>
                  <a:rect l="l" t="t" r="r" b="b"/>
                  <a:pathLst>
                    <a:path w="1555" h="1878">
                      <a:moveTo>
                        <a:pt x="1555" y="1878"/>
                      </a:moveTo>
                      <a:lnTo>
                        <a:pt x="1461" y="1878"/>
                      </a:lnTo>
                      <a:lnTo>
                        <a:pt x="1365" y="1878"/>
                      </a:lnTo>
                      <a:lnTo>
                        <a:pt x="1266" y="1878"/>
                      </a:lnTo>
                      <a:lnTo>
                        <a:pt x="1166" y="1878"/>
                      </a:lnTo>
                      <a:lnTo>
                        <a:pt x="1062" y="1878"/>
                      </a:lnTo>
                      <a:lnTo>
                        <a:pt x="959" y="1878"/>
                      </a:lnTo>
                      <a:lnTo>
                        <a:pt x="854" y="1878"/>
                      </a:lnTo>
                      <a:lnTo>
                        <a:pt x="751" y="1878"/>
                      </a:lnTo>
                      <a:lnTo>
                        <a:pt x="647" y="1878"/>
                      </a:lnTo>
                      <a:lnTo>
                        <a:pt x="546" y="1878"/>
                      </a:lnTo>
                      <a:lnTo>
                        <a:pt x="445" y="1878"/>
                      </a:lnTo>
                      <a:lnTo>
                        <a:pt x="349" y="1878"/>
                      </a:lnTo>
                      <a:lnTo>
                        <a:pt x="254" y="1878"/>
                      </a:lnTo>
                      <a:lnTo>
                        <a:pt x="164" y="1878"/>
                      </a:lnTo>
                      <a:lnTo>
                        <a:pt x="79" y="1878"/>
                      </a:lnTo>
                      <a:lnTo>
                        <a:pt x="0" y="1878"/>
                      </a:lnTo>
                      <a:lnTo>
                        <a:pt x="8" y="1870"/>
                      </a:lnTo>
                      <a:lnTo>
                        <a:pt x="20" y="1836"/>
                      </a:lnTo>
                      <a:lnTo>
                        <a:pt x="34" y="1793"/>
                      </a:lnTo>
                      <a:lnTo>
                        <a:pt x="52" y="1744"/>
                      </a:lnTo>
                      <a:lnTo>
                        <a:pt x="70" y="1688"/>
                      </a:lnTo>
                      <a:lnTo>
                        <a:pt x="91" y="1630"/>
                      </a:lnTo>
                      <a:lnTo>
                        <a:pt x="112" y="1571"/>
                      </a:lnTo>
                      <a:lnTo>
                        <a:pt x="133" y="1512"/>
                      </a:lnTo>
                      <a:lnTo>
                        <a:pt x="153" y="1453"/>
                      </a:lnTo>
                      <a:lnTo>
                        <a:pt x="172" y="1397"/>
                      </a:lnTo>
                      <a:lnTo>
                        <a:pt x="190" y="1345"/>
                      </a:lnTo>
                      <a:lnTo>
                        <a:pt x="206" y="1301"/>
                      </a:lnTo>
                      <a:lnTo>
                        <a:pt x="219" y="1262"/>
                      </a:lnTo>
                      <a:lnTo>
                        <a:pt x="230" y="1233"/>
                      </a:lnTo>
                      <a:lnTo>
                        <a:pt x="237" y="1214"/>
                      </a:lnTo>
                      <a:lnTo>
                        <a:pt x="239" y="1209"/>
                      </a:lnTo>
                      <a:lnTo>
                        <a:pt x="151" y="762"/>
                      </a:lnTo>
                      <a:lnTo>
                        <a:pt x="310" y="238"/>
                      </a:lnTo>
                      <a:lnTo>
                        <a:pt x="837" y="0"/>
                      </a:lnTo>
                      <a:lnTo>
                        <a:pt x="1519" y="634"/>
                      </a:lnTo>
                      <a:lnTo>
                        <a:pt x="1408" y="880"/>
                      </a:lnTo>
                      <a:lnTo>
                        <a:pt x="1409" y="889"/>
                      </a:lnTo>
                      <a:lnTo>
                        <a:pt x="1414" y="915"/>
                      </a:lnTo>
                      <a:lnTo>
                        <a:pt x="1419" y="958"/>
                      </a:lnTo>
                      <a:lnTo>
                        <a:pt x="1428" y="1014"/>
                      </a:lnTo>
                      <a:lnTo>
                        <a:pt x="1437" y="1080"/>
                      </a:lnTo>
                      <a:lnTo>
                        <a:pt x="1448" y="1156"/>
                      </a:lnTo>
                      <a:lnTo>
                        <a:pt x="1460" y="1237"/>
                      </a:lnTo>
                      <a:lnTo>
                        <a:pt x="1473" y="1324"/>
                      </a:lnTo>
                      <a:lnTo>
                        <a:pt x="1484" y="1411"/>
                      </a:lnTo>
                      <a:lnTo>
                        <a:pt x="1496" y="1499"/>
                      </a:lnTo>
                      <a:lnTo>
                        <a:pt x="1509" y="1584"/>
                      </a:lnTo>
                      <a:lnTo>
                        <a:pt x="1521" y="1665"/>
                      </a:lnTo>
                      <a:lnTo>
                        <a:pt x="1531" y="1738"/>
                      </a:lnTo>
                      <a:lnTo>
                        <a:pt x="1540" y="1803"/>
                      </a:lnTo>
                      <a:lnTo>
                        <a:pt x="1549" y="1857"/>
                      </a:lnTo>
                      <a:lnTo>
                        <a:pt x="1555" y="1878"/>
                      </a:lnTo>
                      <a:lnTo>
                        <a:pt x="1555" y="187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4" name=""/>
                <p:cNvSpPr/>
                <p:nvPr/>
              </p:nvSpPr>
              <p:spPr>
                <a:xfrm>
                  <a:off x="5000400" y="1977120"/>
                  <a:ext cx="462600" cy="907200"/>
                </a:xfrm>
                <a:custGeom>
                  <a:avLst/>
                  <a:gdLst/>
                  <a:ahLst/>
                  <a:rect l="l" t="t" r="r" b="b"/>
                  <a:pathLst>
                    <a:path w="1335" h="1828">
                      <a:moveTo>
                        <a:pt x="1335" y="1828"/>
                      </a:moveTo>
                      <a:lnTo>
                        <a:pt x="1251" y="1828"/>
                      </a:lnTo>
                      <a:lnTo>
                        <a:pt x="1168" y="1828"/>
                      </a:lnTo>
                      <a:lnTo>
                        <a:pt x="1081" y="1828"/>
                      </a:lnTo>
                      <a:lnTo>
                        <a:pt x="995" y="1828"/>
                      </a:lnTo>
                      <a:lnTo>
                        <a:pt x="907" y="1828"/>
                      </a:lnTo>
                      <a:lnTo>
                        <a:pt x="819" y="1828"/>
                      </a:lnTo>
                      <a:lnTo>
                        <a:pt x="732" y="1828"/>
                      </a:lnTo>
                      <a:lnTo>
                        <a:pt x="645" y="1828"/>
                      </a:lnTo>
                      <a:lnTo>
                        <a:pt x="557" y="1828"/>
                      </a:lnTo>
                      <a:lnTo>
                        <a:pt x="472" y="1828"/>
                      </a:lnTo>
                      <a:lnTo>
                        <a:pt x="387" y="1828"/>
                      </a:lnTo>
                      <a:lnTo>
                        <a:pt x="305" y="1828"/>
                      </a:lnTo>
                      <a:lnTo>
                        <a:pt x="224" y="1828"/>
                      </a:lnTo>
                      <a:lnTo>
                        <a:pt x="146" y="1828"/>
                      </a:lnTo>
                      <a:lnTo>
                        <a:pt x="70" y="1828"/>
                      </a:lnTo>
                      <a:lnTo>
                        <a:pt x="0" y="1828"/>
                      </a:lnTo>
                      <a:lnTo>
                        <a:pt x="15" y="1816"/>
                      </a:lnTo>
                      <a:lnTo>
                        <a:pt x="36" y="1776"/>
                      </a:lnTo>
                      <a:lnTo>
                        <a:pt x="59" y="1730"/>
                      </a:lnTo>
                      <a:lnTo>
                        <a:pt x="86" y="1680"/>
                      </a:lnTo>
                      <a:lnTo>
                        <a:pt x="115" y="1623"/>
                      </a:lnTo>
                      <a:lnTo>
                        <a:pt x="146" y="1566"/>
                      </a:lnTo>
                      <a:lnTo>
                        <a:pt x="177" y="1505"/>
                      </a:lnTo>
                      <a:lnTo>
                        <a:pt x="209" y="1446"/>
                      </a:lnTo>
                      <a:lnTo>
                        <a:pt x="238" y="1388"/>
                      </a:lnTo>
                      <a:lnTo>
                        <a:pt x="267" y="1332"/>
                      </a:lnTo>
                      <a:lnTo>
                        <a:pt x="294" y="1281"/>
                      </a:lnTo>
                      <a:lnTo>
                        <a:pt x="318" y="1237"/>
                      </a:lnTo>
                      <a:lnTo>
                        <a:pt x="337" y="1199"/>
                      </a:lnTo>
                      <a:lnTo>
                        <a:pt x="353" y="1172"/>
                      </a:lnTo>
                      <a:lnTo>
                        <a:pt x="362" y="1153"/>
                      </a:lnTo>
                      <a:lnTo>
                        <a:pt x="365" y="1148"/>
                      </a:lnTo>
                      <a:lnTo>
                        <a:pt x="161" y="1005"/>
                      </a:lnTo>
                      <a:lnTo>
                        <a:pt x="214" y="376"/>
                      </a:lnTo>
                      <a:lnTo>
                        <a:pt x="537" y="182"/>
                      </a:lnTo>
                      <a:lnTo>
                        <a:pt x="660" y="0"/>
                      </a:lnTo>
                      <a:lnTo>
                        <a:pt x="1066" y="259"/>
                      </a:lnTo>
                      <a:lnTo>
                        <a:pt x="1324" y="570"/>
                      </a:lnTo>
                      <a:lnTo>
                        <a:pt x="1224" y="1159"/>
                      </a:lnTo>
                      <a:lnTo>
                        <a:pt x="1317" y="1269"/>
                      </a:lnTo>
                      <a:lnTo>
                        <a:pt x="1317" y="1274"/>
                      </a:lnTo>
                      <a:lnTo>
                        <a:pt x="1317" y="1291"/>
                      </a:lnTo>
                      <a:lnTo>
                        <a:pt x="1318" y="1314"/>
                      </a:lnTo>
                      <a:lnTo>
                        <a:pt x="1319" y="1348"/>
                      </a:lnTo>
                      <a:lnTo>
                        <a:pt x="1320" y="1386"/>
                      </a:lnTo>
                      <a:lnTo>
                        <a:pt x="1322" y="1430"/>
                      </a:lnTo>
                      <a:lnTo>
                        <a:pt x="1323" y="1477"/>
                      </a:lnTo>
                      <a:lnTo>
                        <a:pt x="1325" y="1527"/>
                      </a:lnTo>
                      <a:lnTo>
                        <a:pt x="1326" y="1577"/>
                      </a:lnTo>
                      <a:lnTo>
                        <a:pt x="1327" y="1626"/>
                      </a:lnTo>
                      <a:lnTo>
                        <a:pt x="1328" y="1675"/>
                      </a:lnTo>
                      <a:lnTo>
                        <a:pt x="1330" y="1721"/>
                      </a:lnTo>
                      <a:lnTo>
                        <a:pt x="1331" y="1762"/>
                      </a:lnTo>
                      <a:lnTo>
                        <a:pt x="1332" y="1798"/>
                      </a:lnTo>
                      <a:lnTo>
                        <a:pt x="1334" y="1826"/>
                      </a:lnTo>
                      <a:lnTo>
                        <a:pt x="1335" y="1828"/>
                      </a:lnTo>
                      <a:lnTo>
                        <a:pt x="1335" y="182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5" name=""/>
                <p:cNvSpPr/>
                <p:nvPr/>
              </p:nvSpPr>
              <p:spPr>
                <a:xfrm>
                  <a:off x="5031360" y="2029680"/>
                  <a:ext cx="408600" cy="854640"/>
                </a:xfrm>
                <a:custGeom>
                  <a:avLst/>
                  <a:gdLst/>
                  <a:ahLst/>
                  <a:rect l="l" t="t" r="r" b="b"/>
                  <a:pathLst>
                    <a:path w="1180" h="1722">
                      <a:moveTo>
                        <a:pt x="0" y="1722"/>
                      </a:moveTo>
                      <a:lnTo>
                        <a:pt x="1104" y="1722"/>
                      </a:lnTo>
                      <a:lnTo>
                        <a:pt x="1180" y="1357"/>
                      </a:lnTo>
                      <a:lnTo>
                        <a:pt x="1050" y="925"/>
                      </a:lnTo>
                      <a:lnTo>
                        <a:pt x="1134" y="912"/>
                      </a:lnTo>
                      <a:lnTo>
                        <a:pt x="1163" y="413"/>
                      </a:lnTo>
                      <a:lnTo>
                        <a:pt x="781" y="137"/>
                      </a:lnTo>
                      <a:lnTo>
                        <a:pt x="804" y="82"/>
                      </a:lnTo>
                      <a:lnTo>
                        <a:pt x="534" y="0"/>
                      </a:lnTo>
                      <a:lnTo>
                        <a:pt x="464" y="188"/>
                      </a:lnTo>
                      <a:lnTo>
                        <a:pt x="153" y="377"/>
                      </a:lnTo>
                      <a:lnTo>
                        <a:pt x="117" y="724"/>
                      </a:lnTo>
                      <a:lnTo>
                        <a:pt x="177" y="942"/>
                      </a:lnTo>
                      <a:lnTo>
                        <a:pt x="376" y="884"/>
                      </a:lnTo>
                      <a:lnTo>
                        <a:pt x="177" y="1413"/>
                      </a:lnTo>
                      <a:lnTo>
                        <a:pt x="71" y="1483"/>
                      </a:lnTo>
                      <a:lnTo>
                        <a:pt x="0" y="1722"/>
                      </a:lnTo>
                      <a:lnTo>
                        <a:pt x="0" y="17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6" name=""/>
                <p:cNvSpPr/>
                <p:nvPr/>
              </p:nvSpPr>
              <p:spPr>
                <a:xfrm>
                  <a:off x="5254200" y="2358720"/>
                  <a:ext cx="121320" cy="525600"/>
                </a:xfrm>
                <a:custGeom>
                  <a:avLst/>
                  <a:gdLst/>
                  <a:ahLst/>
                  <a:rect l="l" t="t" r="r" b="b"/>
                  <a:pathLst>
                    <a:path w="351" h="1060">
                      <a:moveTo>
                        <a:pt x="57" y="292"/>
                      </a:moveTo>
                      <a:lnTo>
                        <a:pt x="52" y="0"/>
                      </a:lnTo>
                      <a:lnTo>
                        <a:pt x="351" y="591"/>
                      </a:lnTo>
                      <a:lnTo>
                        <a:pt x="348" y="595"/>
                      </a:lnTo>
                      <a:lnTo>
                        <a:pt x="341" y="608"/>
                      </a:lnTo>
                      <a:lnTo>
                        <a:pt x="330" y="629"/>
                      </a:lnTo>
                      <a:lnTo>
                        <a:pt x="316" y="658"/>
                      </a:lnTo>
                      <a:lnTo>
                        <a:pt x="299" y="689"/>
                      </a:lnTo>
                      <a:lnTo>
                        <a:pt x="279" y="726"/>
                      </a:lnTo>
                      <a:lnTo>
                        <a:pt x="258" y="765"/>
                      </a:lnTo>
                      <a:lnTo>
                        <a:pt x="238" y="808"/>
                      </a:lnTo>
                      <a:lnTo>
                        <a:pt x="214" y="850"/>
                      </a:lnTo>
                      <a:lnTo>
                        <a:pt x="193" y="892"/>
                      </a:lnTo>
                      <a:lnTo>
                        <a:pt x="170" y="933"/>
                      </a:lnTo>
                      <a:lnTo>
                        <a:pt x="152" y="971"/>
                      </a:lnTo>
                      <a:lnTo>
                        <a:pt x="132" y="1005"/>
                      </a:lnTo>
                      <a:lnTo>
                        <a:pt x="118" y="1035"/>
                      </a:lnTo>
                      <a:lnTo>
                        <a:pt x="105" y="1058"/>
                      </a:lnTo>
                      <a:lnTo>
                        <a:pt x="95" y="1060"/>
                      </a:lnTo>
                      <a:lnTo>
                        <a:pt x="89" y="1060"/>
                      </a:lnTo>
                      <a:lnTo>
                        <a:pt x="84" y="1060"/>
                      </a:lnTo>
                      <a:lnTo>
                        <a:pt x="77" y="1060"/>
                      </a:lnTo>
                      <a:lnTo>
                        <a:pt x="72" y="1060"/>
                      </a:lnTo>
                      <a:lnTo>
                        <a:pt x="65" y="1060"/>
                      </a:lnTo>
                      <a:lnTo>
                        <a:pt x="60" y="1060"/>
                      </a:lnTo>
                      <a:lnTo>
                        <a:pt x="54" y="1060"/>
                      </a:lnTo>
                      <a:lnTo>
                        <a:pt x="48" y="1060"/>
                      </a:lnTo>
                      <a:lnTo>
                        <a:pt x="41" y="1060"/>
                      </a:lnTo>
                      <a:lnTo>
                        <a:pt x="35" y="1060"/>
                      </a:lnTo>
                      <a:lnTo>
                        <a:pt x="28" y="1060"/>
                      </a:lnTo>
                      <a:lnTo>
                        <a:pt x="23" y="1060"/>
                      </a:lnTo>
                      <a:lnTo>
                        <a:pt x="17" y="1060"/>
                      </a:lnTo>
                      <a:lnTo>
                        <a:pt x="12" y="1060"/>
                      </a:lnTo>
                      <a:lnTo>
                        <a:pt x="5" y="1060"/>
                      </a:lnTo>
                      <a:lnTo>
                        <a:pt x="0" y="1060"/>
                      </a:lnTo>
                      <a:lnTo>
                        <a:pt x="3" y="1060"/>
                      </a:lnTo>
                      <a:lnTo>
                        <a:pt x="9" y="1043"/>
                      </a:lnTo>
                      <a:lnTo>
                        <a:pt x="16" y="1017"/>
                      </a:lnTo>
                      <a:lnTo>
                        <a:pt x="27" y="985"/>
                      </a:lnTo>
                      <a:lnTo>
                        <a:pt x="37" y="948"/>
                      </a:lnTo>
                      <a:lnTo>
                        <a:pt x="49" y="910"/>
                      </a:lnTo>
                      <a:lnTo>
                        <a:pt x="62" y="869"/>
                      </a:lnTo>
                      <a:lnTo>
                        <a:pt x="74" y="829"/>
                      </a:lnTo>
                      <a:lnTo>
                        <a:pt x="85" y="787"/>
                      </a:lnTo>
                      <a:lnTo>
                        <a:pt x="97" y="750"/>
                      </a:lnTo>
                      <a:lnTo>
                        <a:pt x="109" y="713"/>
                      </a:lnTo>
                      <a:lnTo>
                        <a:pt x="119" y="682"/>
                      </a:lnTo>
                      <a:lnTo>
                        <a:pt x="127" y="653"/>
                      </a:lnTo>
                      <a:lnTo>
                        <a:pt x="133" y="633"/>
                      </a:lnTo>
                      <a:lnTo>
                        <a:pt x="138" y="620"/>
                      </a:lnTo>
                      <a:lnTo>
                        <a:pt x="140" y="616"/>
                      </a:lnTo>
                      <a:lnTo>
                        <a:pt x="57" y="292"/>
                      </a:lnTo>
                      <a:lnTo>
                        <a:pt x="57" y="292"/>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7" name=""/>
                <p:cNvSpPr/>
                <p:nvPr/>
              </p:nvSpPr>
              <p:spPr>
                <a:xfrm>
                  <a:off x="5267520" y="2269440"/>
                  <a:ext cx="112320" cy="614880"/>
                </a:xfrm>
                <a:custGeom>
                  <a:avLst/>
                  <a:gdLst/>
                  <a:ahLst/>
                  <a:rect l="l" t="t" r="r" b="b"/>
                  <a:pathLst>
                    <a:path w="323" h="1239">
                      <a:moveTo>
                        <a:pt x="31" y="302"/>
                      </a:moveTo>
                      <a:lnTo>
                        <a:pt x="31" y="0"/>
                      </a:lnTo>
                      <a:lnTo>
                        <a:pt x="306" y="672"/>
                      </a:lnTo>
                      <a:lnTo>
                        <a:pt x="323" y="1030"/>
                      </a:lnTo>
                      <a:lnTo>
                        <a:pt x="321" y="1032"/>
                      </a:lnTo>
                      <a:lnTo>
                        <a:pt x="317" y="1038"/>
                      </a:lnTo>
                      <a:lnTo>
                        <a:pt x="308" y="1047"/>
                      </a:lnTo>
                      <a:lnTo>
                        <a:pt x="300" y="1061"/>
                      </a:lnTo>
                      <a:lnTo>
                        <a:pt x="287" y="1075"/>
                      </a:lnTo>
                      <a:lnTo>
                        <a:pt x="275" y="1092"/>
                      </a:lnTo>
                      <a:lnTo>
                        <a:pt x="261" y="1112"/>
                      </a:lnTo>
                      <a:lnTo>
                        <a:pt x="249" y="1131"/>
                      </a:lnTo>
                      <a:lnTo>
                        <a:pt x="233" y="1151"/>
                      </a:lnTo>
                      <a:lnTo>
                        <a:pt x="218" y="1171"/>
                      </a:lnTo>
                      <a:lnTo>
                        <a:pt x="205" y="1188"/>
                      </a:lnTo>
                      <a:lnTo>
                        <a:pt x="192" y="1207"/>
                      </a:lnTo>
                      <a:lnTo>
                        <a:pt x="180" y="1222"/>
                      </a:lnTo>
                      <a:lnTo>
                        <a:pt x="170" y="1236"/>
                      </a:lnTo>
                      <a:lnTo>
                        <a:pt x="161" y="1239"/>
                      </a:lnTo>
                      <a:lnTo>
                        <a:pt x="157" y="1239"/>
                      </a:lnTo>
                      <a:lnTo>
                        <a:pt x="146" y="1239"/>
                      </a:lnTo>
                      <a:lnTo>
                        <a:pt x="137" y="1239"/>
                      </a:lnTo>
                      <a:lnTo>
                        <a:pt x="127" y="1239"/>
                      </a:lnTo>
                      <a:lnTo>
                        <a:pt x="119" y="1239"/>
                      </a:lnTo>
                      <a:lnTo>
                        <a:pt x="109" y="1239"/>
                      </a:lnTo>
                      <a:lnTo>
                        <a:pt x="99" y="1239"/>
                      </a:lnTo>
                      <a:lnTo>
                        <a:pt x="90" y="1239"/>
                      </a:lnTo>
                      <a:lnTo>
                        <a:pt x="80" y="1239"/>
                      </a:lnTo>
                      <a:lnTo>
                        <a:pt x="70" y="1239"/>
                      </a:lnTo>
                      <a:lnTo>
                        <a:pt x="59" y="1239"/>
                      </a:lnTo>
                      <a:lnTo>
                        <a:pt x="49" y="1239"/>
                      </a:lnTo>
                      <a:lnTo>
                        <a:pt x="40" y="1239"/>
                      </a:lnTo>
                      <a:lnTo>
                        <a:pt x="30" y="1239"/>
                      </a:lnTo>
                      <a:lnTo>
                        <a:pt x="20" y="1239"/>
                      </a:lnTo>
                      <a:lnTo>
                        <a:pt x="9" y="1239"/>
                      </a:lnTo>
                      <a:lnTo>
                        <a:pt x="0" y="1239"/>
                      </a:lnTo>
                      <a:lnTo>
                        <a:pt x="5" y="1239"/>
                      </a:lnTo>
                      <a:lnTo>
                        <a:pt x="13" y="1222"/>
                      </a:lnTo>
                      <a:lnTo>
                        <a:pt x="24" y="1200"/>
                      </a:lnTo>
                      <a:lnTo>
                        <a:pt x="36" y="1174"/>
                      </a:lnTo>
                      <a:lnTo>
                        <a:pt x="48" y="1146"/>
                      </a:lnTo>
                      <a:lnTo>
                        <a:pt x="63" y="1116"/>
                      </a:lnTo>
                      <a:lnTo>
                        <a:pt x="77" y="1085"/>
                      </a:lnTo>
                      <a:lnTo>
                        <a:pt x="91" y="1055"/>
                      </a:lnTo>
                      <a:lnTo>
                        <a:pt x="104" y="1024"/>
                      </a:lnTo>
                      <a:lnTo>
                        <a:pt x="119" y="996"/>
                      </a:lnTo>
                      <a:lnTo>
                        <a:pt x="131" y="970"/>
                      </a:lnTo>
                      <a:lnTo>
                        <a:pt x="142" y="947"/>
                      </a:lnTo>
                      <a:lnTo>
                        <a:pt x="150" y="927"/>
                      </a:lnTo>
                      <a:lnTo>
                        <a:pt x="159" y="912"/>
                      </a:lnTo>
                      <a:lnTo>
                        <a:pt x="163" y="903"/>
                      </a:lnTo>
                      <a:lnTo>
                        <a:pt x="165" y="900"/>
                      </a:lnTo>
                      <a:lnTo>
                        <a:pt x="165" y="702"/>
                      </a:lnTo>
                      <a:lnTo>
                        <a:pt x="31" y="302"/>
                      </a:lnTo>
                      <a:lnTo>
                        <a:pt x="31" y="30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8" name=""/>
                <p:cNvSpPr/>
                <p:nvPr/>
              </p:nvSpPr>
              <p:spPr>
                <a:xfrm>
                  <a:off x="5292360" y="2305080"/>
                  <a:ext cx="101520" cy="579240"/>
                </a:xfrm>
                <a:custGeom>
                  <a:avLst/>
                  <a:gdLst/>
                  <a:ahLst/>
                  <a:rect l="l" t="t" r="r" b="b"/>
                  <a:pathLst>
                    <a:path w="292" h="1168">
                      <a:moveTo>
                        <a:pt x="0" y="43"/>
                      </a:moveTo>
                      <a:lnTo>
                        <a:pt x="52" y="0"/>
                      </a:lnTo>
                      <a:lnTo>
                        <a:pt x="182" y="270"/>
                      </a:lnTo>
                      <a:lnTo>
                        <a:pt x="292" y="606"/>
                      </a:lnTo>
                      <a:lnTo>
                        <a:pt x="286" y="841"/>
                      </a:lnTo>
                      <a:lnTo>
                        <a:pt x="284" y="844"/>
                      </a:lnTo>
                      <a:lnTo>
                        <a:pt x="280" y="853"/>
                      </a:lnTo>
                      <a:lnTo>
                        <a:pt x="275" y="867"/>
                      </a:lnTo>
                      <a:lnTo>
                        <a:pt x="268" y="886"/>
                      </a:lnTo>
                      <a:lnTo>
                        <a:pt x="258" y="909"/>
                      </a:lnTo>
                      <a:lnTo>
                        <a:pt x="249" y="934"/>
                      </a:lnTo>
                      <a:lnTo>
                        <a:pt x="239" y="962"/>
                      </a:lnTo>
                      <a:lnTo>
                        <a:pt x="229" y="992"/>
                      </a:lnTo>
                      <a:lnTo>
                        <a:pt x="217" y="1020"/>
                      </a:lnTo>
                      <a:lnTo>
                        <a:pt x="205" y="1050"/>
                      </a:lnTo>
                      <a:lnTo>
                        <a:pt x="194" y="1079"/>
                      </a:lnTo>
                      <a:lnTo>
                        <a:pt x="185" y="1106"/>
                      </a:lnTo>
                      <a:lnTo>
                        <a:pt x="175" y="1131"/>
                      </a:lnTo>
                      <a:lnTo>
                        <a:pt x="166" y="1152"/>
                      </a:lnTo>
                      <a:lnTo>
                        <a:pt x="160" y="1168"/>
                      </a:lnTo>
                      <a:lnTo>
                        <a:pt x="156" y="1168"/>
                      </a:lnTo>
                      <a:lnTo>
                        <a:pt x="149" y="1168"/>
                      </a:lnTo>
                      <a:lnTo>
                        <a:pt x="142" y="1168"/>
                      </a:lnTo>
                      <a:lnTo>
                        <a:pt x="134" y="1168"/>
                      </a:lnTo>
                      <a:lnTo>
                        <a:pt x="128" y="1168"/>
                      </a:lnTo>
                      <a:lnTo>
                        <a:pt x="120" y="1168"/>
                      </a:lnTo>
                      <a:lnTo>
                        <a:pt x="112" y="1168"/>
                      </a:lnTo>
                      <a:lnTo>
                        <a:pt x="105" y="1168"/>
                      </a:lnTo>
                      <a:lnTo>
                        <a:pt x="98" y="1168"/>
                      </a:lnTo>
                      <a:lnTo>
                        <a:pt x="90" y="1168"/>
                      </a:lnTo>
                      <a:lnTo>
                        <a:pt x="83" y="1168"/>
                      </a:lnTo>
                      <a:lnTo>
                        <a:pt x="74" y="1168"/>
                      </a:lnTo>
                      <a:lnTo>
                        <a:pt x="66" y="1168"/>
                      </a:lnTo>
                      <a:lnTo>
                        <a:pt x="58" y="1168"/>
                      </a:lnTo>
                      <a:lnTo>
                        <a:pt x="51" y="1168"/>
                      </a:lnTo>
                      <a:lnTo>
                        <a:pt x="43" y="1168"/>
                      </a:lnTo>
                      <a:lnTo>
                        <a:pt x="36" y="1168"/>
                      </a:lnTo>
                      <a:lnTo>
                        <a:pt x="37" y="1168"/>
                      </a:lnTo>
                      <a:lnTo>
                        <a:pt x="39" y="1164"/>
                      </a:lnTo>
                      <a:lnTo>
                        <a:pt x="41" y="1151"/>
                      </a:lnTo>
                      <a:lnTo>
                        <a:pt x="45" y="1138"/>
                      </a:lnTo>
                      <a:lnTo>
                        <a:pt x="48" y="1124"/>
                      </a:lnTo>
                      <a:lnTo>
                        <a:pt x="51" y="1108"/>
                      </a:lnTo>
                      <a:lnTo>
                        <a:pt x="54" y="1092"/>
                      </a:lnTo>
                      <a:lnTo>
                        <a:pt x="58" y="1078"/>
                      </a:lnTo>
                      <a:lnTo>
                        <a:pt x="61" y="1061"/>
                      </a:lnTo>
                      <a:lnTo>
                        <a:pt x="64" y="1047"/>
                      </a:lnTo>
                      <a:lnTo>
                        <a:pt x="66" y="1033"/>
                      </a:lnTo>
                      <a:lnTo>
                        <a:pt x="69" y="1022"/>
                      </a:lnTo>
                      <a:lnTo>
                        <a:pt x="71" y="1012"/>
                      </a:lnTo>
                      <a:lnTo>
                        <a:pt x="73" y="1006"/>
                      </a:lnTo>
                      <a:lnTo>
                        <a:pt x="74" y="1001"/>
                      </a:lnTo>
                      <a:lnTo>
                        <a:pt x="75" y="1000"/>
                      </a:lnTo>
                      <a:lnTo>
                        <a:pt x="133" y="1007"/>
                      </a:lnTo>
                      <a:lnTo>
                        <a:pt x="199" y="676"/>
                      </a:lnTo>
                      <a:lnTo>
                        <a:pt x="104" y="582"/>
                      </a:lnTo>
                      <a:lnTo>
                        <a:pt x="0" y="43"/>
                      </a:lnTo>
                      <a:lnTo>
                        <a:pt x="0" y="4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9" name=""/>
                <p:cNvSpPr/>
                <p:nvPr/>
              </p:nvSpPr>
              <p:spPr>
                <a:xfrm>
                  <a:off x="5302800" y="2322720"/>
                  <a:ext cx="101520" cy="561600"/>
                </a:xfrm>
                <a:custGeom>
                  <a:avLst/>
                  <a:gdLst/>
                  <a:ahLst/>
                  <a:rect l="l" t="t" r="r" b="b"/>
                  <a:pathLst>
                    <a:path w="295" h="1132">
                      <a:moveTo>
                        <a:pt x="39" y="0"/>
                      </a:moveTo>
                      <a:lnTo>
                        <a:pt x="41" y="3"/>
                      </a:lnTo>
                      <a:lnTo>
                        <a:pt x="48" y="15"/>
                      </a:lnTo>
                      <a:lnTo>
                        <a:pt x="60" y="32"/>
                      </a:lnTo>
                      <a:lnTo>
                        <a:pt x="76" y="56"/>
                      </a:lnTo>
                      <a:lnTo>
                        <a:pt x="93" y="86"/>
                      </a:lnTo>
                      <a:lnTo>
                        <a:pt x="115" y="121"/>
                      </a:lnTo>
                      <a:lnTo>
                        <a:pt x="136" y="159"/>
                      </a:lnTo>
                      <a:lnTo>
                        <a:pt x="159" y="204"/>
                      </a:lnTo>
                      <a:lnTo>
                        <a:pt x="181" y="250"/>
                      </a:lnTo>
                      <a:lnTo>
                        <a:pt x="204" y="301"/>
                      </a:lnTo>
                      <a:lnTo>
                        <a:pt x="225" y="353"/>
                      </a:lnTo>
                      <a:lnTo>
                        <a:pt x="246" y="409"/>
                      </a:lnTo>
                      <a:lnTo>
                        <a:pt x="261" y="465"/>
                      </a:lnTo>
                      <a:lnTo>
                        <a:pt x="275" y="523"/>
                      </a:lnTo>
                      <a:lnTo>
                        <a:pt x="286" y="581"/>
                      </a:lnTo>
                      <a:lnTo>
                        <a:pt x="293" y="640"/>
                      </a:lnTo>
                      <a:lnTo>
                        <a:pt x="294" y="692"/>
                      </a:lnTo>
                      <a:lnTo>
                        <a:pt x="295" y="743"/>
                      </a:lnTo>
                      <a:lnTo>
                        <a:pt x="293" y="790"/>
                      </a:lnTo>
                      <a:lnTo>
                        <a:pt x="291" y="836"/>
                      </a:lnTo>
                      <a:lnTo>
                        <a:pt x="287" y="878"/>
                      </a:lnTo>
                      <a:lnTo>
                        <a:pt x="283" y="918"/>
                      </a:lnTo>
                      <a:lnTo>
                        <a:pt x="276" y="956"/>
                      </a:lnTo>
                      <a:lnTo>
                        <a:pt x="272" y="990"/>
                      </a:lnTo>
                      <a:lnTo>
                        <a:pt x="264" y="1020"/>
                      </a:lnTo>
                      <a:lnTo>
                        <a:pt x="259" y="1049"/>
                      </a:lnTo>
                      <a:lnTo>
                        <a:pt x="252" y="1073"/>
                      </a:lnTo>
                      <a:lnTo>
                        <a:pt x="247" y="1096"/>
                      </a:lnTo>
                      <a:lnTo>
                        <a:pt x="240" y="1113"/>
                      </a:lnTo>
                      <a:lnTo>
                        <a:pt x="236" y="1128"/>
                      </a:lnTo>
                      <a:lnTo>
                        <a:pt x="231" y="1132"/>
                      </a:lnTo>
                      <a:lnTo>
                        <a:pt x="229" y="1132"/>
                      </a:lnTo>
                      <a:lnTo>
                        <a:pt x="220" y="1132"/>
                      </a:lnTo>
                      <a:lnTo>
                        <a:pt x="211" y="1132"/>
                      </a:lnTo>
                      <a:lnTo>
                        <a:pt x="202" y="1132"/>
                      </a:lnTo>
                      <a:lnTo>
                        <a:pt x="193" y="1132"/>
                      </a:lnTo>
                      <a:lnTo>
                        <a:pt x="182" y="1132"/>
                      </a:lnTo>
                      <a:lnTo>
                        <a:pt x="173" y="1132"/>
                      </a:lnTo>
                      <a:lnTo>
                        <a:pt x="164" y="1132"/>
                      </a:lnTo>
                      <a:lnTo>
                        <a:pt x="155" y="1132"/>
                      </a:lnTo>
                      <a:lnTo>
                        <a:pt x="145" y="1132"/>
                      </a:lnTo>
                      <a:lnTo>
                        <a:pt x="134" y="1132"/>
                      </a:lnTo>
                      <a:lnTo>
                        <a:pt x="124" y="1132"/>
                      </a:lnTo>
                      <a:lnTo>
                        <a:pt x="114" y="1132"/>
                      </a:lnTo>
                      <a:lnTo>
                        <a:pt x="103" y="1132"/>
                      </a:lnTo>
                      <a:lnTo>
                        <a:pt x="91" y="1132"/>
                      </a:lnTo>
                      <a:lnTo>
                        <a:pt x="81" y="1132"/>
                      </a:lnTo>
                      <a:lnTo>
                        <a:pt x="71" y="1132"/>
                      </a:lnTo>
                      <a:lnTo>
                        <a:pt x="75" y="1132"/>
                      </a:lnTo>
                      <a:lnTo>
                        <a:pt x="82" y="1122"/>
                      </a:lnTo>
                      <a:lnTo>
                        <a:pt x="91" y="1102"/>
                      </a:lnTo>
                      <a:lnTo>
                        <a:pt x="103" y="1079"/>
                      </a:lnTo>
                      <a:lnTo>
                        <a:pt x="115" y="1054"/>
                      </a:lnTo>
                      <a:lnTo>
                        <a:pt x="128" y="1025"/>
                      </a:lnTo>
                      <a:lnTo>
                        <a:pt x="142" y="997"/>
                      </a:lnTo>
                      <a:lnTo>
                        <a:pt x="157" y="968"/>
                      </a:lnTo>
                      <a:lnTo>
                        <a:pt x="169" y="939"/>
                      </a:lnTo>
                      <a:lnTo>
                        <a:pt x="181" y="912"/>
                      </a:lnTo>
                      <a:lnTo>
                        <a:pt x="194" y="886"/>
                      </a:lnTo>
                      <a:lnTo>
                        <a:pt x="205" y="864"/>
                      </a:lnTo>
                      <a:lnTo>
                        <a:pt x="214" y="844"/>
                      </a:lnTo>
                      <a:lnTo>
                        <a:pt x="221" y="831"/>
                      </a:lnTo>
                      <a:lnTo>
                        <a:pt x="226" y="822"/>
                      </a:lnTo>
                      <a:lnTo>
                        <a:pt x="227" y="819"/>
                      </a:lnTo>
                      <a:lnTo>
                        <a:pt x="175" y="787"/>
                      </a:lnTo>
                      <a:lnTo>
                        <a:pt x="240" y="640"/>
                      </a:lnTo>
                      <a:lnTo>
                        <a:pt x="81" y="364"/>
                      </a:lnTo>
                      <a:lnTo>
                        <a:pt x="147" y="299"/>
                      </a:lnTo>
                      <a:lnTo>
                        <a:pt x="0" y="0"/>
                      </a:lnTo>
                      <a:lnTo>
                        <a:pt x="39" y="0"/>
                      </a:lnTo>
                      <a:lnTo>
                        <a:pt x="3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0" name=""/>
                <p:cNvSpPr/>
                <p:nvPr/>
              </p:nvSpPr>
              <p:spPr>
                <a:xfrm>
                  <a:off x="5054400" y="2390040"/>
                  <a:ext cx="171360" cy="494280"/>
                </a:xfrm>
                <a:custGeom>
                  <a:avLst/>
                  <a:gdLst/>
                  <a:ahLst/>
                  <a:rect l="l" t="t" r="r" b="b"/>
                  <a:pathLst>
                    <a:path w="493" h="998">
                      <a:moveTo>
                        <a:pt x="364" y="94"/>
                      </a:moveTo>
                      <a:lnTo>
                        <a:pt x="493" y="0"/>
                      </a:lnTo>
                      <a:lnTo>
                        <a:pt x="464" y="554"/>
                      </a:lnTo>
                      <a:lnTo>
                        <a:pt x="460" y="558"/>
                      </a:lnTo>
                      <a:lnTo>
                        <a:pt x="451" y="570"/>
                      </a:lnTo>
                      <a:lnTo>
                        <a:pt x="436" y="588"/>
                      </a:lnTo>
                      <a:lnTo>
                        <a:pt x="419" y="614"/>
                      </a:lnTo>
                      <a:lnTo>
                        <a:pt x="396" y="644"/>
                      </a:lnTo>
                      <a:lnTo>
                        <a:pt x="372" y="677"/>
                      </a:lnTo>
                      <a:lnTo>
                        <a:pt x="344" y="713"/>
                      </a:lnTo>
                      <a:lnTo>
                        <a:pt x="318" y="753"/>
                      </a:lnTo>
                      <a:lnTo>
                        <a:pt x="287" y="793"/>
                      </a:lnTo>
                      <a:lnTo>
                        <a:pt x="259" y="832"/>
                      </a:lnTo>
                      <a:lnTo>
                        <a:pt x="230" y="871"/>
                      </a:lnTo>
                      <a:lnTo>
                        <a:pt x="205" y="908"/>
                      </a:lnTo>
                      <a:lnTo>
                        <a:pt x="180" y="940"/>
                      </a:lnTo>
                      <a:lnTo>
                        <a:pt x="158" y="970"/>
                      </a:lnTo>
                      <a:lnTo>
                        <a:pt x="140" y="994"/>
                      </a:lnTo>
                      <a:lnTo>
                        <a:pt x="127" y="998"/>
                      </a:lnTo>
                      <a:lnTo>
                        <a:pt x="116" y="998"/>
                      </a:lnTo>
                      <a:lnTo>
                        <a:pt x="107" y="998"/>
                      </a:lnTo>
                      <a:lnTo>
                        <a:pt x="98" y="998"/>
                      </a:lnTo>
                      <a:lnTo>
                        <a:pt x="90" y="998"/>
                      </a:lnTo>
                      <a:lnTo>
                        <a:pt x="80" y="998"/>
                      </a:lnTo>
                      <a:lnTo>
                        <a:pt x="71" y="998"/>
                      </a:lnTo>
                      <a:lnTo>
                        <a:pt x="63" y="998"/>
                      </a:lnTo>
                      <a:lnTo>
                        <a:pt x="56" y="998"/>
                      </a:lnTo>
                      <a:lnTo>
                        <a:pt x="48" y="998"/>
                      </a:lnTo>
                      <a:lnTo>
                        <a:pt x="39" y="998"/>
                      </a:lnTo>
                      <a:lnTo>
                        <a:pt x="31" y="998"/>
                      </a:lnTo>
                      <a:lnTo>
                        <a:pt x="25" y="998"/>
                      </a:lnTo>
                      <a:lnTo>
                        <a:pt x="17" y="998"/>
                      </a:lnTo>
                      <a:lnTo>
                        <a:pt x="11" y="998"/>
                      </a:lnTo>
                      <a:lnTo>
                        <a:pt x="5" y="998"/>
                      </a:lnTo>
                      <a:lnTo>
                        <a:pt x="0" y="998"/>
                      </a:lnTo>
                      <a:lnTo>
                        <a:pt x="6" y="959"/>
                      </a:lnTo>
                      <a:lnTo>
                        <a:pt x="18" y="909"/>
                      </a:lnTo>
                      <a:lnTo>
                        <a:pt x="34" y="858"/>
                      </a:lnTo>
                      <a:lnTo>
                        <a:pt x="55" y="813"/>
                      </a:lnTo>
                      <a:lnTo>
                        <a:pt x="76" y="771"/>
                      </a:lnTo>
                      <a:lnTo>
                        <a:pt x="101" y="732"/>
                      </a:lnTo>
                      <a:lnTo>
                        <a:pt x="126" y="695"/>
                      </a:lnTo>
                      <a:lnTo>
                        <a:pt x="153" y="663"/>
                      </a:lnTo>
                      <a:lnTo>
                        <a:pt x="178" y="632"/>
                      </a:lnTo>
                      <a:lnTo>
                        <a:pt x="202" y="608"/>
                      </a:lnTo>
                      <a:lnTo>
                        <a:pt x="225" y="585"/>
                      </a:lnTo>
                      <a:lnTo>
                        <a:pt x="246" y="568"/>
                      </a:lnTo>
                      <a:lnTo>
                        <a:pt x="262" y="553"/>
                      </a:lnTo>
                      <a:lnTo>
                        <a:pt x="276" y="542"/>
                      </a:lnTo>
                      <a:lnTo>
                        <a:pt x="285" y="537"/>
                      </a:lnTo>
                      <a:lnTo>
                        <a:pt x="288" y="535"/>
                      </a:lnTo>
                      <a:lnTo>
                        <a:pt x="364" y="94"/>
                      </a:lnTo>
                      <a:lnTo>
                        <a:pt x="364" y="94"/>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1" name=""/>
                <p:cNvSpPr/>
                <p:nvPr/>
              </p:nvSpPr>
              <p:spPr>
                <a:xfrm>
                  <a:off x="5070240" y="2392920"/>
                  <a:ext cx="191160" cy="491400"/>
                </a:xfrm>
                <a:custGeom>
                  <a:avLst/>
                  <a:gdLst/>
                  <a:ahLst/>
                  <a:rect l="l" t="t" r="r" b="b"/>
                  <a:pathLst>
                    <a:path w="553" h="992">
                      <a:moveTo>
                        <a:pt x="425" y="36"/>
                      </a:moveTo>
                      <a:lnTo>
                        <a:pt x="553" y="0"/>
                      </a:lnTo>
                      <a:lnTo>
                        <a:pt x="466" y="665"/>
                      </a:lnTo>
                      <a:lnTo>
                        <a:pt x="462" y="668"/>
                      </a:lnTo>
                      <a:lnTo>
                        <a:pt x="454" y="676"/>
                      </a:lnTo>
                      <a:lnTo>
                        <a:pt x="439" y="690"/>
                      </a:lnTo>
                      <a:lnTo>
                        <a:pt x="423" y="708"/>
                      </a:lnTo>
                      <a:lnTo>
                        <a:pt x="402" y="730"/>
                      </a:lnTo>
                      <a:lnTo>
                        <a:pt x="380" y="755"/>
                      </a:lnTo>
                      <a:lnTo>
                        <a:pt x="354" y="782"/>
                      </a:lnTo>
                      <a:lnTo>
                        <a:pt x="329" y="810"/>
                      </a:lnTo>
                      <a:lnTo>
                        <a:pt x="300" y="839"/>
                      </a:lnTo>
                      <a:lnTo>
                        <a:pt x="274" y="869"/>
                      </a:lnTo>
                      <a:lnTo>
                        <a:pt x="246" y="897"/>
                      </a:lnTo>
                      <a:lnTo>
                        <a:pt x="222" y="926"/>
                      </a:lnTo>
                      <a:lnTo>
                        <a:pt x="197" y="951"/>
                      </a:lnTo>
                      <a:lnTo>
                        <a:pt x="177" y="973"/>
                      </a:lnTo>
                      <a:lnTo>
                        <a:pt x="159" y="992"/>
                      </a:lnTo>
                      <a:lnTo>
                        <a:pt x="146" y="992"/>
                      </a:lnTo>
                      <a:lnTo>
                        <a:pt x="135" y="992"/>
                      </a:lnTo>
                      <a:lnTo>
                        <a:pt x="124" y="992"/>
                      </a:lnTo>
                      <a:lnTo>
                        <a:pt x="114" y="992"/>
                      </a:lnTo>
                      <a:lnTo>
                        <a:pt x="105" y="992"/>
                      </a:lnTo>
                      <a:lnTo>
                        <a:pt x="94" y="992"/>
                      </a:lnTo>
                      <a:lnTo>
                        <a:pt x="85" y="992"/>
                      </a:lnTo>
                      <a:lnTo>
                        <a:pt x="74" y="992"/>
                      </a:lnTo>
                      <a:lnTo>
                        <a:pt x="66" y="992"/>
                      </a:lnTo>
                      <a:lnTo>
                        <a:pt x="57" y="992"/>
                      </a:lnTo>
                      <a:lnTo>
                        <a:pt x="48" y="992"/>
                      </a:lnTo>
                      <a:lnTo>
                        <a:pt x="39" y="992"/>
                      </a:lnTo>
                      <a:lnTo>
                        <a:pt x="30" y="992"/>
                      </a:lnTo>
                      <a:lnTo>
                        <a:pt x="22" y="992"/>
                      </a:lnTo>
                      <a:lnTo>
                        <a:pt x="14" y="992"/>
                      </a:lnTo>
                      <a:lnTo>
                        <a:pt x="6" y="992"/>
                      </a:lnTo>
                      <a:lnTo>
                        <a:pt x="0" y="992"/>
                      </a:lnTo>
                      <a:lnTo>
                        <a:pt x="2" y="992"/>
                      </a:lnTo>
                      <a:lnTo>
                        <a:pt x="5" y="989"/>
                      </a:lnTo>
                      <a:lnTo>
                        <a:pt x="9" y="978"/>
                      </a:lnTo>
                      <a:lnTo>
                        <a:pt x="14" y="966"/>
                      </a:lnTo>
                      <a:lnTo>
                        <a:pt x="17" y="951"/>
                      </a:lnTo>
                      <a:lnTo>
                        <a:pt x="22" y="937"/>
                      </a:lnTo>
                      <a:lnTo>
                        <a:pt x="27" y="923"/>
                      </a:lnTo>
                      <a:lnTo>
                        <a:pt x="32" y="909"/>
                      </a:lnTo>
                      <a:lnTo>
                        <a:pt x="36" y="894"/>
                      </a:lnTo>
                      <a:lnTo>
                        <a:pt x="40" y="881"/>
                      </a:lnTo>
                      <a:lnTo>
                        <a:pt x="44" y="869"/>
                      </a:lnTo>
                      <a:lnTo>
                        <a:pt x="49" y="859"/>
                      </a:lnTo>
                      <a:lnTo>
                        <a:pt x="50" y="849"/>
                      </a:lnTo>
                      <a:lnTo>
                        <a:pt x="53" y="843"/>
                      </a:lnTo>
                      <a:lnTo>
                        <a:pt x="55" y="838"/>
                      </a:lnTo>
                      <a:lnTo>
                        <a:pt x="56" y="837"/>
                      </a:lnTo>
                      <a:lnTo>
                        <a:pt x="161" y="770"/>
                      </a:lnTo>
                      <a:lnTo>
                        <a:pt x="144" y="743"/>
                      </a:lnTo>
                      <a:lnTo>
                        <a:pt x="309" y="589"/>
                      </a:lnTo>
                      <a:lnTo>
                        <a:pt x="384" y="325"/>
                      </a:lnTo>
                      <a:lnTo>
                        <a:pt x="342" y="295"/>
                      </a:lnTo>
                      <a:lnTo>
                        <a:pt x="425" y="36"/>
                      </a:lnTo>
                      <a:lnTo>
                        <a:pt x="425" y="3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2" name=""/>
                <p:cNvSpPr/>
                <p:nvPr/>
              </p:nvSpPr>
              <p:spPr>
                <a:xfrm>
                  <a:off x="5101200" y="2316960"/>
                  <a:ext cx="181800" cy="567360"/>
                </a:xfrm>
                <a:custGeom>
                  <a:avLst/>
                  <a:gdLst/>
                  <a:ahLst/>
                  <a:rect l="l" t="t" r="r" b="b"/>
                  <a:pathLst>
                    <a:path w="524" h="1144">
                      <a:moveTo>
                        <a:pt x="424" y="0"/>
                      </a:moveTo>
                      <a:lnTo>
                        <a:pt x="524" y="0"/>
                      </a:lnTo>
                      <a:lnTo>
                        <a:pt x="453" y="776"/>
                      </a:lnTo>
                      <a:lnTo>
                        <a:pt x="449" y="778"/>
                      </a:lnTo>
                      <a:lnTo>
                        <a:pt x="443" y="790"/>
                      </a:lnTo>
                      <a:lnTo>
                        <a:pt x="433" y="804"/>
                      </a:lnTo>
                      <a:lnTo>
                        <a:pt x="421" y="825"/>
                      </a:lnTo>
                      <a:lnTo>
                        <a:pt x="403" y="850"/>
                      </a:lnTo>
                      <a:lnTo>
                        <a:pt x="387" y="878"/>
                      </a:lnTo>
                      <a:lnTo>
                        <a:pt x="368" y="907"/>
                      </a:lnTo>
                      <a:lnTo>
                        <a:pt x="348" y="941"/>
                      </a:lnTo>
                      <a:lnTo>
                        <a:pt x="327" y="974"/>
                      </a:lnTo>
                      <a:lnTo>
                        <a:pt x="306" y="1007"/>
                      </a:lnTo>
                      <a:lnTo>
                        <a:pt x="286" y="1039"/>
                      </a:lnTo>
                      <a:lnTo>
                        <a:pt x="266" y="1070"/>
                      </a:lnTo>
                      <a:lnTo>
                        <a:pt x="249" y="1097"/>
                      </a:lnTo>
                      <a:lnTo>
                        <a:pt x="233" y="1123"/>
                      </a:lnTo>
                      <a:lnTo>
                        <a:pt x="220" y="1144"/>
                      </a:lnTo>
                      <a:lnTo>
                        <a:pt x="210" y="1144"/>
                      </a:lnTo>
                      <a:lnTo>
                        <a:pt x="196" y="1144"/>
                      </a:lnTo>
                      <a:lnTo>
                        <a:pt x="181" y="1144"/>
                      </a:lnTo>
                      <a:lnTo>
                        <a:pt x="166" y="1144"/>
                      </a:lnTo>
                      <a:lnTo>
                        <a:pt x="153" y="1144"/>
                      </a:lnTo>
                      <a:lnTo>
                        <a:pt x="140" y="1144"/>
                      </a:lnTo>
                      <a:lnTo>
                        <a:pt x="125" y="1144"/>
                      </a:lnTo>
                      <a:lnTo>
                        <a:pt x="112" y="1144"/>
                      </a:lnTo>
                      <a:lnTo>
                        <a:pt x="99" y="1144"/>
                      </a:lnTo>
                      <a:lnTo>
                        <a:pt x="84" y="1144"/>
                      </a:lnTo>
                      <a:lnTo>
                        <a:pt x="72" y="1144"/>
                      </a:lnTo>
                      <a:lnTo>
                        <a:pt x="60" y="1144"/>
                      </a:lnTo>
                      <a:lnTo>
                        <a:pt x="48" y="1144"/>
                      </a:lnTo>
                      <a:lnTo>
                        <a:pt x="34" y="1144"/>
                      </a:lnTo>
                      <a:lnTo>
                        <a:pt x="22" y="1144"/>
                      </a:lnTo>
                      <a:lnTo>
                        <a:pt x="11" y="1144"/>
                      </a:lnTo>
                      <a:lnTo>
                        <a:pt x="0" y="1144"/>
                      </a:lnTo>
                      <a:lnTo>
                        <a:pt x="3" y="1144"/>
                      </a:lnTo>
                      <a:lnTo>
                        <a:pt x="5" y="1144"/>
                      </a:lnTo>
                      <a:lnTo>
                        <a:pt x="9" y="1133"/>
                      </a:lnTo>
                      <a:lnTo>
                        <a:pt x="13" y="1123"/>
                      </a:lnTo>
                      <a:lnTo>
                        <a:pt x="16" y="1112"/>
                      </a:lnTo>
                      <a:lnTo>
                        <a:pt x="20" y="1102"/>
                      </a:lnTo>
                      <a:lnTo>
                        <a:pt x="24" y="1090"/>
                      </a:lnTo>
                      <a:lnTo>
                        <a:pt x="28" y="1080"/>
                      </a:lnTo>
                      <a:lnTo>
                        <a:pt x="31" y="1069"/>
                      </a:lnTo>
                      <a:lnTo>
                        <a:pt x="35" y="1060"/>
                      </a:lnTo>
                      <a:lnTo>
                        <a:pt x="38" y="1051"/>
                      </a:lnTo>
                      <a:lnTo>
                        <a:pt x="42" y="1043"/>
                      </a:lnTo>
                      <a:lnTo>
                        <a:pt x="44" y="1037"/>
                      </a:lnTo>
                      <a:lnTo>
                        <a:pt x="46" y="1032"/>
                      </a:lnTo>
                      <a:lnTo>
                        <a:pt x="47" y="1029"/>
                      </a:lnTo>
                      <a:lnTo>
                        <a:pt x="48" y="1029"/>
                      </a:lnTo>
                      <a:lnTo>
                        <a:pt x="100" y="1035"/>
                      </a:lnTo>
                      <a:lnTo>
                        <a:pt x="158" y="877"/>
                      </a:lnTo>
                      <a:lnTo>
                        <a:pt x="306" y="781"/>
                      </a:lnTo>
                      <a:lnTo>
                        <a:pt x="346" y="558"/>
                      </a:lnTo>
                      <a:lnTo>
                        <a:pt x="424" y="0"/>
                      </a:lnTo>
                      <a:lnTo>
                        <a:pt x="42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3" name=""/>
                <p:cNvSpPr/>
                <p:nvPr/>
              </p:nvSpPr>
              <p:spPr>
                <a:xfrm>
                  <a:off x="5138640" y="2325960"/>
                  <a:ext cx="151560" cy="558720"/>
                </a:xfrm>
                <a:custGeom>
                  <a:avLst/>
                  <a:gdLst/>
                  <a:ahLst/>
                  <a:rect l="l" t="t" r="r" b="b"/>
                  <a:pathLst>
                    <a:path w="439" h="1125">
                      <a:moveTo>
                        <a:pt x="439" y="9"/>
                      </a:moveTo>
                      <a:lnTo>
                        <a:pt x="386" y="734"/>
                      </a:lnTo>
                      <a:lnTo>
                        <a:pt x="384" y="736"/>
                      </a:lnTo>
                      <a:lnTo>
                        <a:pt x="378" y="747"/>
                      </a:lnTo>
                      <a:lnTo>
                        <a:pt x="370" y="762"/>
                      </a:lnTo>
                      <a:lnTo>
                        <a:pt x="359" y="784"/>
                      </a:lnTo>
                      <a:lnTo>
                        <a:pt x="344" y="809"/>
                      </a:lnTo>
                      <a:lnTo>
                        <a:pt x="328" y="839"/>
                      </a:lnTo>
                      <a:lnTo>
                        <a:pt x="311" y="870"/>
                      </a:lnTo>
                      <a:lnTo>
                        <a:pt x="293" y="905"/>
                      </a:lnTo>
                      <a:lnTo>
                        <a:pt x="275" y="938"/>
                      </a:lnTo>
                      <a:lnTo>
                        <a:pt x="257" y="974"/>
                      </a:lnTo>
                      <a:lnTo>
                        <a:pt x="237" y="1007"/>
                      </a:lnTo>
                      <a:lnTo>
                        <a:pt x="221" y="1041"/>
                      </a:lnTo>
                      <a:lnTo>
                        <a:pt x="203" y="1070"/>
                      </a:lnTo>
                      <a:lnTo>
                        <a:pt x="189" y="1098"/>
                      </a:lnTo>
                      <a:lnTo>
                        <a:pt x="177" y="1121"/>
                      </a:lnTo>
                      <a:lnTo>
                        <a:pt x="168" y="1125"/>
                      </a:lnTo>
                      <a:lnTo>
                        <a:pt x="156" y="1125"/>
                      </a:lnTo>
                      <a:lnTo>
                        <a:pt x="146" y="1125"/>
                      </a:lnTo>
                      <a:lnTo>
                        <a:pt x="135" y="1125"/>
                      </a:lnTo>
                      <a:lnTo>
                        <a:pt x="124" y="1125"/>
                      </a:lnTo>
                      <a:lnTo>
                        <a:pt x="112" y="1125"/>
                      </a:lnTo>
                      <a:lnTo>
                        <a:pt x="102" y="1125"/>
                      </a:lnTo>
                      <a:lnTo>
                        <a:pt x="92" y="1125"/>
                      </a:lnTo>
                      <a:lnTo>
                        <a:pt x="82" y="1125"/>
                      </a:lnTo>
                      <a:lnTo>
                        <a:pt x="71" y="1125"/>
                      </a:lnTo>
                      <a:lnTo>
                        <a:pt x="60" y="1125"/>
                      </a:lnTo>
                      <a:lnTo>
                        <a:pt x="50" y="1125"/>
                      </a:lnTo>
                      <a:lnTo>
                        <a:pt x="40" y="1125"/>
                      </a:lnTo>
                      <a:lnTo>
                        <a:pt x="29" y="1125"/>
                      </a:lnTo>
                      <a:lnTo>
                        <a:pt x="19" y="1125"/>
                      </a:lnTo>
                      <a:lnTo>
                        <a:pt x="9" y="1125"/>
                      </a:lnTo>
                      <a:lnTo>
                        <a:pt x="0" y="1125"/>
                      </a:lnTo>
                      <a:lnTo>
                        <a:pt x="4" y="1125"/>
                      </a:lnTo>
                      <a:lnTo>
                        <a:pt x="10" y="1114"/>
                      </a:lnTo>
                      <a:lnTo>
                        <a:pt x="16" y="1097"/>
                      </a:lnTo>
                      <a:lnTo>
                        <a:pt x="25" y="1082"/>
                      </a:lnTo>
                      <a:lnTo>
                        <a:pt x="32" y="1062"/>
                      </a:lnTo>
                      <a:lnTo>
                        <a:pt x="39" y="1044"/>
                      </a:lnTo>
                      <a:lnTo>
                        <a:pt x="46" y="1024"/>
                      </a:lnTo>
                      <a:lnTo>
                        <a:pt x="55" y="1006"/>
                      </a:lnTo>
                      <a:lnTo>
                        <a:pt x="61" y="987"/>
                      </a:lnTo>
                      <a:lnTo>
                        <a:pt x="69" y="971"/>
                      </a:lnTo>
                      <a:lnTo>
                        <a:pt x="75" y="956"/>
                      </a:lnTo>
                      <a:lnTo>
                        <a:pt x="81" y="942"/>
                      </a:lnTo>
                      <a:lnTo>
                        <a:pt x="85" y="931"/>
                      </a:lnTo>
                      <a:lnTo>
                        <a:pt x="89" y="922"/>
                      </a:lnTo>
                      <a:lnTo>
                        <a:pt x="90" y="917"/>
                      </a:lnTo>
                      <a:lnTo>
                        <a:pt x="92" y="916"/>
                      </a:lnTo>
                      <a:lnTo>
                        <a:pt x="122" y="1003"/>
                      </a:lnTo>
                      <a:lnTo>
                        <a:pt x="192" y="822"/>
                      </a:lnTo>
                      <a:lnTo>
                        <a:pt x="309" y="770"/>
                      </a:lnTo>
                      <a:lnTo>
                        <a:pt x="299" y="497"/>
                      </a:lnTo>
                      <a:lnTo>
                        <a:pt x="345" y="387"/>
                      </a:lnTo>
                      <a:lnTo>
                        <a:pt x="380" y="0"/>
                      </a:lnTo>
                      <a:lnTo>
                        <a:pt x="439" y="9"/>
                      </a:lnTo>
                      <a:lnTo>
                        <a:pt x="439" y="9"/>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4" name=""/>
                <p:cNvSpPr/>
                <p:nvPr/>
              </p:nvSpPr>
              <p:spPr>
                <a:xfrm>
                  <a:off x="5357880" y="2412360"/>
                  <a:ext cx="45720" cy="66600"/>
                </a:xfrm>
                <a:custGeom>
                  <a:avLst/>
                  <a:gdLst/>
                  <a:ahLst/>
                  <a:rect l="l" t="t" r="r" b="b"/>
                  <a:pathLst>
                    <a:path w="132" h="136">
                      <a:moveTo>
                        <a:pt x="45" y="4"/>
                      </a:moveTo>
                      <a:lnTo>
                        <a:pt x="0" y="35"/>
                      </a:lnTo>
                      <a:lnTo>
                        <a:pt x="11" y="96"/>
                      </a:lnTo>
                      <a:lnTo>
                        <a:pt x="26" y="96"/>
                      </a:lnTo>
                      <a:lnTo>
                        <a:pt x="26" y="65"/>
                      </a:lnTo>
                      <a:lnTo>
                        <a:pt x="40" y="68"/>
                      </a:lnTo>
                      <a:lnTo>
                        <a:pt x="50" y="136"/>
                      </a:lnTo>
                      <a:lnTo>
                        <a:pt x="68" y="132"/>
                      </a:lnTo>
                      <a:lnTo>
                        <a:pt x="68" y="109"/>
                      </a:lnTo>
                      <a:lnTo>
                        <a:pt x="78" y="105"/>
                      </a:lnTo>
                      <a:lnTo>
                        <a:pt x="83" y="127"/>
                      </a:lnTo>
                      <a:lnTo>
                        <a:pt x="102" y="117"/>
                      </a:lnTo>
                      <a:lnTo>
                        <a:pt x="106" y="94"/>
                      </a:lnTo>
                      <a:lnTo>
                        <a:pt x="132" y="78"/>
                      </a:lnTo>
                      <a:lnTo>
                        <a:pt x="129" y="0"/>
                      </a:lnTo>
                      <a:lnTo>
                        <a:pt x="45" y="4"/>
                      </a:lnTo>
                      <a:lnTo>
                        <a:pt x="45" y="4"/>
                      </a:lnTo>
                      <a:close/>
                    </a:path>
                  </a:pathLst>
                </a:custGeom>
                <a:solidFill>
                  <a:srgbClr val="ffcc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45" name=""/>
                <p:cNvSpPr/>
                <p:nvPr/>
              </p:nvSpPr>
              <p:spPr>
                <a:xfrm>
                  <a:off x="5325840" y="2166480"/>
                  <a:ext cx="92520" cy="256320"/>
                </a:xfrm>
                <a:custGeom>
                  <a:avLst/>
                  <a:gdLst/>
                  <a:ahLst/>
                  <a:rect l="l" t="t" r="r" b="b"/>
                  <a:pathLst>
                    <a:path w="265" h="517">
                      <a:moveTo>
                        <a:pt x="42" y="0"/>
                      </a:moveTo>
                      <a:lnTo>
                        <a:pt x="0" y="203"/>
                      </a:lnTo>
                      <a:lnTo>
                        <a:pt x="168" y="271"/>
                      </a:lnTo>
                      <a:lnTo>
                        <a:pt x="164" y="517"/>
                      </a:lnTo>
                      <a:lnTo>
                        <a:pt x="205" y="517"/>
                      </a:lnTo>
                      <a:lnTo>
                        <a:pt x="265" y="239"/>
                      </a:lnTo>
                      <a:lnTo>
                        <a:pt x="42" y="0"/>
                      </a:lnTo>
                      <a:lnTo>
                        <a:pt x="4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6" name=""/>
                <p:cNvSpPr/>
                <p:nvPr/>
              </p:nvSpPr>
              <p:spPr>
                <a:xfrm>
                  <a:off x="5333040" y="2150280"/>
                  <a:ext cx="92520" cy="272520"/>
                </a:xfrm>
                <a:custGeom>
                  <a:avLst/>
                  <a:gdLst/>
                  <a:ahLst/>
                  <a:rect l="l" t="t" r="r" b="b"/>
                  <a:pathLst>
                    <a:path w="267" h="550">
                      <a:moveTo>
                        <a:pt x="43" y="0"/>
                      </a:moveTo>
                      <a:lnTo>
                        <a:pt x="267" y="256"/>
                      </a:lnTo>
                      <a:lnTo>
                        <a:pt x="200" y="550"/>
                      </a:lnTo>
                      <a:lnTo>
                        <a:pt x="173" y="545"/>
                      </a:lnTo>
                      <a:lnTo>
                        <a:pt x="195" y="350"/>
                      </a:lnTo>
                      <a:lnTo>
                        <a:pt x="208" y="356"/>
                      </a:lnTo>
                      <a:lnTo>
                        <a:pt x="217" y="277"/>
                      </a:lnTo>
                      <a:lnTo>
                        <a:pt x="123" y="217"/>
                      </a:lnTo>
                      <a:lnTo>
                        <a:pt x="151" y="184"/>
                      </a:lnTo>
                      <a:lnTo>
                        <a:pt x="0" y="72"/>
                      </a:lnTo>
                      <a:lnTo>
                        <a:pt x="43" y="0"/>
                      </a:lnTo>
                      <a:lnTo>
                        <a:pt x="43"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7" name=""/>
                <p:cNvSpPr/>
                <p:nvPr/>
              </p:nvSpPr>
              <p:spPr>
                <a:xfrm>
                  <a:off x="5325840" y="2243880"/>
                  <a:ext cx="67320" cy="180000"/>
                </a:xfrm>
                <a:custGeom>
                  <a:avLst/>
                  <a:gdLst/>
                  <a:ahLst/>
                  <a:rect l="l" t="t" r="r" b="b"/>
                  <a:pathLst>
                    <a:path w="194" h="362">
                      <a:moveTo>
                        <a:pt x="0" y="0"/>
                      </a:moveTo>
                      <a:lnTo>
                        <a:pt x="194" y="94"/>
                      </a:lnTo>
                      <a:lnTo>
                        <a:pt x="173" y="362"/>
                      </a:lnTo>
                      <a:lnTo>
                        <a:pt x="146" y="355"/>
                      </a:lnTo>
                      <a:lnTo>
                        <a:pt x="137" y="152"/>
                      </a:lnTo>
                      <a:lnTo>
                        <a:pt x="0" y="60"/>
                      </a:lnTo>
                      <a:lnTo>
                        <a:pt x="0" y="0"/>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8" name=""/>
                <p:cNvSpPr/>
                <p:nvPr/>
              </p:nvSpPr>
              <p:spPr>
                <a:xfrm>
                  <a:off x="5321880" y="2269440"/>
                  <a:ext cx="61920" cy="151920"/>
                </a:xfrm>
                <a:custGeom>
                  <a:avLst/>
                  <a:gdLst/>
                  <a:ahLst/>
                  <a:rect l="l" t="t" r="r" b="b"/>
                  <a:pathLst>
                    <a:path w="180" h="304">
                      <a:moveTo>
                        <a:pt x="0" y="38"/>
                      </a:moveTo>
                      <a:lnTo>
                        <a:pt x="2" y="38"/>
                      </a:lnTo>
                      <a:lnTo>
                        <a:pt x="7" y="39"/>
                      </a:lnTo>
                      <a:lnTo>
                        <a:pt x="16" y="40"/>
                      </a:lnTo>
                      <a:lnTo>
                        <a:pt x="29" y="44"/>
                      </a:lnTo>
                      <a:lnTo>
                        <a:pt x="43" y="48"/>
                      </a:lnTo>
                      <a:lnTo>
                        <a:pt x="59" y="55"/>
                      </a:lnTo>
                      <a:lnTo>
                        <a:pt x="74" y="64"/>
                      </a:lnTo>
                      <a:lnTo>
                        <a:pt x="91" y="77"/>
                      </a:lnTo>
                      <a:lnTo>
                        <a:pt x="104" y="91"/>
                      </a:lnTo>
                      <a:lnTo>
                        <a:pt x="119" y="108"/>
                      </a:lnTo>
                      <a:lnTo>
                        <a:pt x="130" y="130"/>
                      </a:lnTo>
                      <a:lnTo>
                        <a:pt x="140" y="155"/>
                      </a:lnTo>
                      <a:lnTo>
                        <a:pt x="145" y="184"/>
                      </a:lnTo>
                      <a:lnTo>
                        <a:pt x="148" y="218"/>
                      </a:lnTo>
                      <a:lnTo>
                        <a:pt x="145" y="257"/>
                      </a:lnTo>
                      <a:lnTo>
                        <a:pt x="138" y="302"/>
                      </a:lnTo>
                      <a:lnTo>
                        <a:pt x="162" y="304"/>
                      </a:lnTo>
                      <a:lnTo>
                        <a:pt x="180" y="207"/>
                      </a:lnTo>
                      <a:lnTo>
                        <a:pt x="164" y="161"/>
                      </a:lnTo>
                      <a:lnTo>
                        <a:pt x="180" y="73"/>
                      </a:lnTo>
                      <a:lnTo>
                        <a:pt x="0" y="0"/>
                      </a:lnTo>
                      <a:lnTo>
                        <a:pt x="0" y="38"/>
                      </a:lnTo>
                      <a:lnTo>
                        <a:pt x="0" y="3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9" name=""/>
                <p:cNvSpPr/>
                <p:nvPr/>
              </p:nvSpPr>
              <p:spPr>
                <a:xfrm>
                  <a:off x="5291640" y="2136600"/>
                  <a:ext cx="55800" cy="201240"/>
                </a:xfrm>
                <a:custGeom>
                  <a:avLst/>
                  <a:gdLst/>
                  <a:ahLst/>
                  <a:rect l="l" t="t" r="r" b="b"/>
                  <a:pathLst>
                    <a:path w="162" h="405">
                      <a:moveTo>
                        <a:pt x="62" y="0"/>
                      </a:moveTo>
                      <a:lnTo>
                        <a:pt x="162" y="26"/>
                      </a:lnTo>
                      <a:lnTo>
                        <a:pt x="132" y="198"/>
                      </a:lnTo>
                      <a:lnTo>
                        <a:pt x="106" y="318"/>
                      </a:lnTo>
                      <a:lnTo>
                        <a:pt x="96" y="405"/>
                      </a:lnTo>
                      <a:lnTo>
                        <a:pt x="0" y="404"/>
                      </a:lnTo>
                      <a:lnTo>
                        <a:pt x="26" y="119"/>
                      </a:lnTo>
                      <a:lnTo>
                        <a:pt x="62" y="0"/>
                      </a:lnTo>
                      <a:lnTo>
                        <a:pt x="62"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0" name=""/>
                <p:cNvSpPr/>
                <p:nvPr/>
              </p:nvSpPr>
              <p:spPr>
                <a:xfrm>
                  <a:off x="5239440" y="2136600"/>
                  <a:ext cx="78840" cy="201240"/>
                </a:xfrm>
                <a:custGeom>
                  <a:avLst/>
                  <a:gdLst/>
                  <a:ahLst/>
                  <a:rect l="l" t="t" r="r" b="b"/>
                  <a:pathLst>
                    <a:path w="228" h="407">
                      <a:moveTo>
                        <a:pt x="27" y="0"/>
                      </a:moveTo>
                      <a:lnTo>
                        <a:pt x="211" y="6"/>
                      </a:lnTo>
                      <a:lnTo>
                        <a:pt x="207" y="153"/>
                      </a:lnTo>
                      <a:lnTo>
                        <a:pt x="183" y="167"/>
                      </a:lnTo>
                      <a:lnTo>
                        <a:pt x="228" y="269"/>
                      </a:lnTo>
                      <a:lnTo>
                        <a:pt x="197" y="407"/>
                      </a:lnTo>
                      <a:lnTo>
                        <a:pt x="134" y="407"/>
                      </a:lnTo>
                      <a:lnTo>
                        <a:pt x="0" y="100"/>
                      </a:lnTo>
                      <a:lnTo>
                        <a:pt x="27" y="0"/>
                      </a:lnTo>
                      <a:lnTo>
                        <a:pt x="2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1" name=""/>
                <p:cNvSpPr/>
                <p:nvPr/>
              </p:nvSpPr>
              <p:spPr>
                <a:xfrm>
                  <a:off x="5207400" y="2139840"/>
                  <a:ext cx="87120" cy="199440"/>
                </a:xfrm>
                <a:custGeom>
                  <a:avLst/>
                  <a:gdLst/>
                  <a:ahLst/>
                  <a:rect l="l" t="t" r="r" b="b"/>
                  <a:pathLst>
                    <a:path w="251" h="404">
                      <a:moveTo>
                        <a:pt x="22" y="0"/>
                      </a:moveTo>
                      <a:lnTo>
                        <a:pt x="118" y="0"/>
                      </a:lnTo>
                      <a:lnTo>
                        <a:pt x="175" y="203"/>
                      </a:lnTo>
                      <a:lnTo>
                        <a:pt x="243" y="285"/>
                      </a:lnTo>
                      <a:lnTo>
                        <a:pt x="251" y="404"/>
                      </a:lnTo>
                      <a:lnTo>
                        <a:pt x="126" y="401"/>
                      </a:lnTo>
                      <a:lnTo>
                        <a:pt x="0" y="67"/>
                      </a:lnTo>
                      <a:lnTo>
                        <a:pt x="22" y="0"/>
                      </a:lnTo>
                      <a:lnTo>
                        <a:pt x="22"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2" name=""/>
                <p:cNvSpPr/>
                <p:nvPr/>
              </p:nvSpPr>
              <p:spPr>
                <a:xfrm>
                  <a:off x="5187600" y="2139840"/>
                  <a:ext cx="79920" cy="198000"/>
                </a:xfrm>
                <a:custGeom>
                  <a:avLst/>
                  <a:gdLst/>
                  <a:ahLst/>
                  <a:rect l="l" t="t" r="r" b="b"/>
                  <a:pathLst>
                    <a:path w="233" h="401">
                      <a:moveTo>
                        <a:pt x="0" y="10"/>
                      </a:moveTo>
                      <a:lnTo>
                        <a:pt x="82" y="0"/>
                      </a:lnTo>
                      <a:lnTo>
                        <a:pt x="128" y="178"/>
                      </a:lnTo>
                      <a:lnTo>
                        <a:pt x="171" y="182"/>
                      </a:lnTo>
                      <a:lnTo>
                        <a:pt x="233" y="401"/>
                      </a:lnTo>
                      <a:lnTo>
                        <a:pt x="15" y="401"/>
                      </a:lnTo>
                      <a:lnTo>
                        <a:pt x="0" y="10"/>
                      </a:lnTo>
                      <a:lnTo>
                        <a:pt x="0" y="1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3" name=""/>
                <p:cNvSpPr/>
                <p:nvPr/>
              </p:nvSpPr>
              <p:spPr>
                <a:xfrm>
                  <a:off x="5092920" y="2276640"/>
                  <a:ext cx="163080" cy="184680"/>
                </a:xfrm>
                <a:custGeom>
                  <a:avLst/>
                  <a:gdLst/>
                  <a:ahLst/>
                  <a:rect l="l" t="t" r="r" b="b"/>
                  <a:pathLst>
                    <a:path w="470" h="370">
                      <a:moveTo>
                        <a:pt x="0" y="74"/>
                      </a:moveTo>
                      <a:lnTo>
                        <a:pt x="403" y="0"/>
                      </a:lnTo>
                      <a:lnTo>
                        <a:pt x="422" y="23"/>
                      </a:lnTo>
                      <a:lnTo>
                        <a:pt x="449" y="7"/>
                      </a:lnTo>
                      <a:lnTo>
                        <a:pt x="470" y="299"/>
                      </a:lnTo>
                      <a:lnTo>
                        <a:pt x="59" y="370"/>
                      </a:lnTo>
                      <a:lnTo>
                        <a:pt x="0" y="348"/>
                      </a:lnTo>
                      <a:lnTo>
                        <a:pt x="0" y="74"/>
                      </a:lnTo>
                      <a:lnTo>
                        <a:pt x="0" y="74"/>
                      </a:lnTo>
                      <a:close/>
                    </a:path>
                  </a:pathLst>
                </a:custGeom>
                <a:solidFill>
                  <a:srgbClr val="9cb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4" name=""/>
                <p:cNvSpPr/>
                <p:nvPr/>
              </p:nvSpPr>
              <p:spPr>
                <a:xfrm>
                  <a:off x="5091840" y="2401920"/>
                  <a:ext cx="159840" cy="59760"/>
                </a:xfrm>
                <a:custGeom>
                  <a:avLst/>
                  <a:gdLst/>
                  <a:ahLst/>
                  <a:rect l="l" t="t" r="r" b="b"/>
                  <a:pathLst>
                    <a:path w="460" h="119">
                      <a:moveTo>
                        <a:pt x="0" y="97"/>
                      </a:moveTo>
                      <a:lnTo>
                        <a:pt x="300" y="43"/>
                      </a:lnTo>
                      <a:lnTo>
                        <a:pt x="310" y="0"/>
                      </a:lnTo>
                      <a:lnTo>
                        <a:pt x="354" y="23"/>
                      </a:lnTo>
                      <a:lnTo>
                        <a:pt x="400" y="15"/>
                      </a:lnTo>
                      <a:lnTo>
                        <a:pt x="460" y="53"/>
                      </a:lnTo>
                      <a:lnTo>
                        <a:pt x="61" y="119"/>
                      </a:lnTo>
                      <a:lnTo>
                        <a:pt x="0" y="97"/>
                      </a:lnTo>
                      <a:lnTo>
                        <a:pt x="0" y="97"/>
                      </a:lnTo>
                      <a:close/>
                    </a:path>
                  </a:pathLst>
                </a:custGeom>
                <a:solidFill>
                  <a:srgbClr val="75783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Futura Bk"/>
                  </a:endParaRPr>
                </a:p>
              </p:txBody>
            </p:sp>
            <p:sp>
              <p:nvSpPr>
                <p:cNvPr id="255" name=""/>
                <p:cNvSpPr/>
                <p:nvPr/>
              </p:nvSpPr>
              <p:spPr>
                <a:xfrm>
                  <a:off x="5169960" y="2394360"/>
                  <a:ext cx="52920" cy="54720"/>
                </a:xfrm>
                <a:custGeom>
                  <a:avLst/>
                  <a:gdLst/>
                  <a:ahLst/>
                  <a:rect l="l" t="t" r="r" b="b"/>
                  <a:pathLst>
                    <a:path w="153" h="111">
                      <a:moveTo>
                        <a:pt x="51" y="16"/>
                      </a:moveTo>
                      <a:lnTo>
                        <a:pt x="99" y="0"/>
                      </a:lnTo>
                      <a:lnTo>
                        <a:pt x="133" y="31"/>
                      </a:lnTo>
                      <a:lnTo>
                        <a:pt x="126" y="43"/>
                      </a:lnTo>
                      <a:lnTo>
                        <a:pt x="103" y="29"/>
                      </a:lnTo>
                      <a:lnTo>
                        <a:pt x="91" y="35"/>
                      </a:lnTo>
                      <a:lnTo>
                        <a:pt x="153" y="81"/>
                      </a:lnTo>
                      <a:lnTo>
                        <a:pt x="141" y="100"/>
                      </a:lnTo>
                      <a:lnTo>
                        <a:pt x="115" y="75"/>
                      </a:lnTo>
                      <a:lnTo>
                        <a:pt x="103" y="81"/>
                      </a:lnTo>
                      <a:lnTo>
                        <a:pt x="128" y="106"/>
                      </a:lnTo>
                      <a:lnTo>
                        <a:pt x="105" y="111"/>
                      </a:lnTo>
                      <a:lnTo>
                        <a:pt x="87" y="96"/>
                      </a:lnTo>
                      <a:lnTo>
                        <a:pt x="59" y="105"/>
                      </a:lnTo>
                      <a:lnTo>
                        <a:pt x="0" y="67"/>
                      </a:lnTo>
                      <a:lnTo>
                        <a:pt x="51" y="16"/>
                      </a:lnTo>
                      <a:lnTo>
                        <a:pt x="51" y="16"/>
                      </a:lnTo>
                      <a:close/>
                    </a:path>
                  </a:pathLst>
                </a:custGeom>
                <a:solidFill>
                  <a:srgbClr val="ffcc8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Futura Bk"/>
                  </a:endParaRPr>
                </a:p>
              </p:txBody>
            </p:sp>
            <p:sp>
              <p:nvSpPr>
                <p:cNvPr id="256" name=""/>
                <p:cNvSpPr/>
                <p:nvPr/>
              </p:nvSpPr>
              <p:spPr>
                <a:xfrm>
                  <a:off x="5144760" y="2236680"/>
                  <a:ext cx="68400" cy="166680"/>
                </a:xfrm>
                <a:custGeom>
                  <a:avLst/>
                  <a:gdLst/>
                  <a:ahLst/>
                  <a:rect l="l" t="t" r="r" b="b"/>
                  <a:pathLst>
                    <a:path w="196" h="335">
                      <a:moveTo>
                        <a:pt x="196" y="0"/>
                      </a:moveTo>
                      <a:lnTo>
                        <a:pt x="173" y="92"/>
                      </a:lnTo>
                      <a:lnTo>
                        <a:pt x="67" y="124"/>
                      </a:lnTo>
                      <a:lnTo>
                        <a:pt x="129" y="335"/>
                      </a:lnTo>
                      <a:lnTo>
                        <a:pt x="14" y="304"/>
                      </a:lnTo>
                      <a:lnTo>
                        <a:pt x="0" y="36"/>
                      </a:lnTo>
                      <a:lnTo>
                        <a:pt x="196" y="0"/>
                      </a:lnTo>
                      <a:lnTo>
                        <a:pt x="196"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7" name=""/>
                <p:cNvSpPr/>
                <p:nvPr/>
              </p:nvSpPr>
              <p:spPr>
                <a:xfrm>
                  <a:off x="5118840" y="2175480"/>
                  <a:ext cx="94320" cy="242640"/>
                </a:xfrm>
                <a:custGeom>
                  <a:avLst/>
                  <a:gdLst/>
                  <a:ahLst/>
                  <a:rect l="l" t="t" r="r" b="b"/>
                  <a:pathLst>
                    <a:path w="273" h="489">
                      <a:moveTo>
                        <a:pt x="267" y="22"/>
                      </a:moveTo>
                      <a:lnTo>
                        <a:pt x="273" y="124"/>
                      </a:lnTo>
                      <a:lnTo>
                        <a:pt x="98" y="190"/>
                      </a:lnTo>
                      <a:lnTo>
                        <a:pt x="134" y="370"/>
                      </a:lnTo>
                      <a:lnTo>
                        <a:pt x="206" y="466"/>
                      </a:lnTo>
                      <a:lnTo>
                        <a:pt x="192" y="489"/>
                      </a:lnTo>
                      <a:lnTo>
                        <a:pt x="26" y="409"/>
                      </a:lnTo>
                      <a:lnTo>
                        <a:pt x="0" y="206"/>
                      </a:lnTo>
                      <a:lnTo>
                        <a:pt x="121" y="0"/>
                      </a:lnTo>
                      <a:lnTo>
                        <a:pt x="267" y="22"/>
                      </a:lnTo>
                      <a:lnTo>
                        <a:pt x="267" y="2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8" name=""/>
                <p:cNvSpPr/>
                <p:nvPr/>
              </p:nvSpPr>
              <p:spPr>
                <a:xfrm>
                  <a:off x="5106600" y="2157480"/>
                  <a:ext cx="104760" cy="266400"/>
                </a:xfrm>
                <a:custGeom>
                  <a:avLst/>
                  <a:gdLst/>
                  <a:ahLst/>
                  <a:rect l="l" t="t" r="r" b="b"/>
                  <a:pathLst>
                    <a:path w="301" h="536">
                      <a:moveTo>
                        <a:pt x="284" y="0"/>
                      </a:moveTo>
                      <a:lnTo>
                        <a:pt x="301" y="58"/>
                      </a:lnTo>
                      <a:lnTo>
                        <a:pt x="157" y="110"/>
                      </a:lnTo>
                      <a:lnTo>
                        <a:pt x="63" y="263"/>
                      </a:lnTo>
                      <a:lnTo>
                        <a:pt x="111" y="263"/>
                      </a:lnTo>
                      <a:lnTo>
                        <a:pt x="142" y="450"/>
                      </a:lnTo>
                      <a:lnTo>
                        <a:pt x="176" y="435"/>
                      </a:lnTo>
                      <a:lnTo>
                        <a:pt x="226" y="523"/>
                      </a:lnTo>
                      <a:lnTo>
                        <a:pt x="212" y="536"/>
                      </a:lnTo>
                      <a:lnTo>
                        <a:pt x="102" y="498"/>
                      </a:lnTo>
                      <a:lnTo>
                        <a:pt x="0" y="362"/>
                      </a:lnTo>
                      <a:lnTo>
                        <a:pt x="14" y="160"/>
                      </a:lnTo>
                      <a:lnTo>
                        <a:pt x="170" y="8"/>
                      </a:lnTo>
                      <a:lnTo>
                        <a:pt x="284" y="0"/>
                      </a:lnTo>
                      <a:lnTo>
                        <a:pt x="28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9" name=""/>
                <p:cNvSpPr/>
                <p:nvPr/>
              </p:nvSpPr>
              <p:spPr>
                <a:xfrm>
                  <a:off x="5253120" y="2166480"/>
                  <a:ext cx="32040" cy="178920"/>
                </a:xfrm>
                <a:custGeom>
                  <a:avLst/>
                  <a:gdLst/>
                  <a:ahLst/>
                  <a:rect l="l" t="t" r="r" b="b"/>
                  <a:pathLst>
                    <a:path w="94" h="361">
                      <a:moveTo>
                        <a:pt x="0" y="56"/>
                      </a:moveTo>
                      <a:lnTo>
                        <a:pt x="23" y="85"/>
                      </a:lnTo>
                      <a:lnTo>
                        <a:pt x="10" y="322"/>
                      </a:lnTo>
                      <a:lnTo>
                        <a:pt x="66" y="361"/>
                      </a:lnTo>
                      <a:lnTo>
                        <a:pt x="94" y="313"/>
                      </a:lnTo>
                      <a:lnTo>
                        <a:pt x="50" y="83"/>
                      </a:lnTo>
                      <a:lnTo>
                        <a:pt x="73" y="47"/>
                      </a:lnTo>
                      <a:lnTo>
                        <a:pt x="25"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0" name=""/>
                <p:cNvSpPr/>
                <p:nvPr/>
              </p:nvSpPr>
              <p:spPr>
                <a:xfrm>
                  <a:off x="5226120" y="2126160"/>
                  <a:ext cx="70560" cy="87840"/>
                </a:xfrm>
                <a:custGeom>
                  <a:avLst/>
                  <a:gdLst/>
                  <a:ahLst/>
                  <a:rect l="l" t="t" r="r" b="b"/>
                  <a:pathLst>
                    <a:path w="204" h="177">
                      <a:moveTo>
                        <a:pt x="0" y="21"/>
                      </a:moveTo>
                      <a:lnTo>
                        <a:pt x="29" y="159"/>
                      </a:lnTo>
                      <a:lnTo>
                        <a:pt x="110" y="109"/>
                      </a:lnTo>
                      <a:lnTo>
                        <a:pt x="178" y="177"/>
                      </a:lnTo>
                      <a:lnTo>
                        <a:pt x="204" y="35"/>
                      </a:lnTo>
                      <a:lnTo>
                        <a:pt x="184" y="0"/>
                      </a:lnTo>
                      <a:lnTo>
                        <a:pt x="0" y="21"/>
                      </a:lnTo>
                      <a:lnTo>
                        <a:pt x="0" y="21"/>
                      </a:lnTo>
                      <a:close/>
                    </a:path>
                  </a:pathLst>
                </a:custGeom>
                <a:solidFill>
                  <a:srgbClr val="e6e6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Futura Bk"/>
                  </a:endParaRPr>
                </a:p>
              </p:txBody>
            </p:sp>
            <p:sp>
              <p:nvSpPr>
                <p:cNvPr id="261" name=""/>
                <p:cNvSpPr/>
                <p:nvPr/>
              </p:nvSpPr>
              <p:spPr>
                <a:xfrm>
                  <a:off x="5216400" y="2059200"/>
                  <a:ext cx="74880" cy="117360"/>
                </a:xfrm>
                <a:custGeom>
                  <a:avLst/>
                  <a:gdLst/>
                  <a:ahLst/>
                  <a:rect l="l" t="t" r="r" b="b"/>
                  <a:pathLst>
                    <a:path w="217" h="238">
                      <a:moveTo>
                        <a:pt x="141" y="5"/>
                      </a:moveTo>
                      <a:lnTo>
                        <a:pt x="142" y="6"/>
                      </a:lnTo>
                      <a:lnTo>
                        <a:pt x="147" y="11"/>
                      </a:lnTo>
                      <a:lnTo>
                        <a:pt x="153" y="16"/>
                      </a:lnTo>
                      <a:lnTo>
                        <a:pt x="162" y="24"/>
                      </a:lnTo>
                      <a:lnTo>
                        <a:pt x="167" y="28"/>
                      </a:lnTo>
                      <a:lnTo>
                        <a:pt x="172" y="33"/>
                      </a:lnTo>
                      <a:lnTo>
                        <a:pt x="177" y="37"/>
                      </a:lnTo>
                      <a:lnTo>
                        <a:pt x="182" y="43"/>
                      </a:lnTo>
                      <a:lnTo>
                        <a:pt x="187" y="48"/>
                      </a:lnTo>
                      <a:lnTo>
                        <a:pt x="193" y="55"/>
                      </a:lnTo>
                      <a:lnTo>
                        <a:pt x="198" y="60"/>
                      </a:lnTo>
                      <a:lnTo>
                        <a:pt x="204" y="66"/>
                      </a:lnTo>
                      <a:lnTo>
                        <a:pt x="185" y="77"/>
                      </a:lnTo>
                      <a:lnTo>
                        <a:pt x="217" y="146"/>
                      </a:lnTo>
                      <a:lnTo>
                        <a:pt x="182" y="234"/>
                      </a:lnTo>
                      <a:lnTo>
                        <a:pt x="100" y="238"/>
                      </a:lnTo>
                      <a:lnTo>
                        <a:pt x="20" y="146"/>
                      </a:lnTo>
                      <a:lnTo>
                        <a:pt x="0" y="64"/>
                      </a:lnTo>
                      <a:lnTo>
                        <a:pt x="87" y="0"/>
                      </a:lnTo>
                      <a:lnTo>
                        <a:pt x="141" y="5"/>
                      </a:lnTo>
                      <a:lnTo>
                        <a:pt x="141" y="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2" name=""/>
                <p:cNvSpPr/>
                <p:nvPr/>
              </p:nvSpPr>
              <p:spPr>
                <a:xfrm>
                  <a:off x="5248800" y="2077200"/>
                  <a:ext cx="34200" cy="20880"/>
                </a:xfrm>
                <a:custGeom>
                  <a:avLst/>
                  <a:gdLst/>
                  <a:ahLst/>
                  <a:rect l="l" t="t" r="r" b="b"/>
                  <a:pathLst>
                    <a:path w="97" h="41">
                      <a:moveTo>
                        <a:pt x="82" y="0"/>
                      </a:moveTo>
                      <a:lnTo>
                        <a:pt x="0" y="16"/>
                      </a:lnTo>
                      <a:lnTo>
                        <a:pt x="7" y="41"/>
                      </a:lnTo>
                      <a:lnTo>
                        <a:pt x="97" y="16"/>
                      </a:lnTo>
                      <a:lnTo>
                        <a:pt x="82" y="0"/>
                      </a:lnTo>
                      <a:lnTo>
                        <a:pt x="82" y="0"/>
                      </a:lnTo>
                      <a:close/>
                    </a:path>
                  </a:pathLst>
                </a:custGeom>
                <a:solidFill>
                  <a:srgbClr val="eb995c"/>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Futura Bk"/>
                  </a:endParaRPr>
                </a:p>
              </p:txBody>
            </p:sp>
            <p:sp>
              <p:nvSpPr>
                <p:cNvPr id="263" name=""/>
                <p:cNvSpPr/>
                <p:nvPr/>
              </p:nvSpPr>
              <p:spPr>
                <a:xfrm>
                  <a:off x="5235480" y="2102400"/>
                  <a:ext cx="55800" cy="74160"/>
                </a:xfrm>
                <a:custGeom>
                  <a:avLst/>
                  <a:gdLst/>
                  <a:ahLst/>
                  <a:rect l="l" t="t" r="r" b="b"/>
                  <a:pathLst>
                    <a:path w="163" h="151">
                      <a:moveTo>
                        <a:pt x="0" y="0"/>
                      </a:moveTo>
                      <a:lnTo>
                        <a:pt x="52" y="27"/>
                      </a:lnTo>
                      <a:lnTo>
                        <a:pt x="62" y="71"/>
                      </a:lnTo>
                      <a:lnTo>
                        <a:pt x="163" y="61"/>
                      </a:lnTo>
                      <a:lnTo>
                        <a:pt x="157" y="75"/>
                      </a:lnTo>
                      <a:lnTo>
                        <a:pt x="56" y="96"/>
                      </a:lnTo>
                      <a:lnTo>
                        <a:pt x="90" y="147"/>
                      </a:lnTo>
                      <a:lnTo>
                        <a:pt x="67" y="151"/>
                      </a:lnTo>
                      <a:lnTo>
                        <a:pt x="6" y="67"/>
                      </a:lnTo>
                      <a:lnTo>
                        <a:pt x="0" y="0"/>
                      </a:lnTo>
                      <a:lnTo>
                        <a:pt x="0" y="0"/>
                      </a:lnTo>
                      <a:close/>
                    </a:path>
                  </a:pathLst>
                </a:custGeom>
                <a:solidFill>
                  <a:srgbClr val="eb995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264" name=""/>
                <p:cNvSpPr/>
                <p:nvPr/>
              </p:nvSpPr>
              <p:spPr>
                <a:xfrm>
                  <a:off x="5098320" y="2144160"/>
                  <a:ext cx="105840" cy="290160"/>
                </a:xfrm>
                <a:custGeom>
                  <a:avLst/>
                  <a:gdLst/>
                  <a:ahLst/>
                  <a:rect l="l" t="t" r="r" b="b"/>
                  <a:pathLst>
                    <a:path w="305" h="584">
                      <a:moveTo>
                        <a:pt x="259" y="0"/>
                      </a:moveTo>
                      <a:lnTo>
                        <a:pt x="255" y="0"/>
                      </a:lnTo>
                      <a:lnTo>
                        <a:pt x="248" y="3"/>
                      </a:lnTo>
                      <a:lnTo>
                        <a:pt x="235" y="7"/>
                      </a:lnTo>
                      <a:lnTo>
                        <a:pt x="218" y="14"/>
                      </a:lnTo>
                      <a:lnTo>
                        <a:pt x="199" y="23"/>
                      </a:lnTo>
                      <a:lnTo>
                        <a:pt x="177" y="35"/>
                      </a:lnTo>
                      <a:lnTo>
                        <a:pt x="154" y="49"/>
                      </a:lnTo>
                      <a:lnTo>
                        <a:pt x="130" y="67"/>
                      </a:lnTo>
                      <a:lnTo>
                        <a:pt x="106" y="85"/>
                      </a:lnTo>
                      <a:lnTo>
                        <a:pt x="82" y="108"/>
                      </a:lnTo>
                      <a:lnTo>
                        <a:pt x="60" y="133"/>
                      </a:lnTo>
                      <a:lnTo>
                        <a:pt x="41" y="162"/>
                      </a:lnTo>
                      <a:lnTo>
                        <a:pt x="25" y="195"/>
                      </a:lnTo>
                      <a:lnTo>
                        <a:pt x="12" y="229"/>
                      </a:lnTo>
                      <a:lnTo>
                        <a:pt x="4" y="269"/>
                      </a:lnTo>
                      <a:lnTo>
                        <a:pt x="0" y="312"/>
                      </a:lnTo>
                      <a:lnTo>
                        <a:pt x="1" y="354"/>
                      </a:lnTo>
                      <a:lnTo>
                        <a:pt x="9" y="392"/>
                      </a:lnTo>
                      <a:lnTo>
                        <a:pt x="19" y="426"/>
                      </a:lnTo>
                      <a:lnTo>
                        <a:pt x="34" y="455"/>
                      </a:lnTo>
                      <a:lnTo>
                        <a:pt x="51" y="480"/>
                      </a:lnTo>
                      <a:lnTo>
                        <a:pt x="71" y="502"/>
                      </a:lnTo>
                      <a:lnTo>
                        <a:pt x="90" y="521"/>
                      </a:lnTo>
                      <a:lnTo>
                        <a:pt x="113" y="537"/>
                      </a:lnTo>
                      <a:lnTo>
                        <a:pt x="133" y="549"/>
                      </a:lnTo>
                      <a:lnTo>
                        <a:pt x="154" y="560"/>
                      </a:lnTo>
                      <a:lnTo>
                        <a:pt x="173" y="568"/>
                      </a:lnTo>
                      <a:lnTo>
                        <a:pt x="192" y="574"/>
                      </a:lnTo>
                      <a:lnTo>
                        <a:pt x="206" y="578"/>
                      </a:lnTo>
                      <a:lnTo>
                        <a:pt x="217" y="581"/>
                      </a:lnTo>
                      <a:lnTo>
                        <a:pt x="225" y="583"/>
                      </a:lnTo>
                      <a:lnTo>
                        <a:pt x="228" y="584"/>
                      </a:lnTo>
                      <a:lnTo>
                        <a:pt x="237" y="562"/>
                      </a:lnTo>
                      <a:lnTo>
                        <a:pt x="182" y="494"/>
                      </a:lnTo>
                      <a:lnTo>
                        <a:pt x="163" y="521"/>
                      </a:lnTo>
                      <a:lnTo>
                        <a:pt x="39" y="381"/>
                      </a:lnTo>
                      <a:lnTo>
                        <a:pt x="57" y="199"/>
                      </a:lnTo>
                      <a:lnTo>
                        <a:pt x="93" y="210"/>
                      </a:lnTo>
                      <a:lnTo>
                        <a:pt x="195" y="50"/>
                      </a:lnTo>
                      <a:lnTo>
                        <a:pt x="223" y="74"/>
                      </a:lnTo>
                      <a:lnTo>
                        <a:pt x="305" y="28"/>
                      </a:lnTo>
                      <a:lnTo>
                        <a:pt x="259" y="0"/>
                      </a:lnTo>
                      <a:lnTo>
                        <a:pt x="25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5" name=""/>
                <p:cNvSpPr/>
                <p:nvPr/>
              </p:nvSpPr>
              <p:spPr>
                <a:xfrm>
                  <a:off x="5233320" y="2276640"/>
                  <a:ext cx="13320" cy="136800"/>
                </a:xfrm>
                <a:custGeom>
                  <a:avLst/>
                  <a:gdLst/>
                  <a:ahLst/>
                  <a:rect l="l" t="t" r="r" b="b"/>
                  <a:pathLst>
                    <a:path w="38" h="276">
                      <a:moveTo>
                        <a:pt x="0" y="0"/>
                      </a:moveTo>
                      <a:lnTo>
                        <a:pt x="7" y="258"/>
                      </a:lnTo>
                      <a:lnTo>
                        <a:pt x="38" y="276"/>
                      </a:lnTo>
                      <a:lnTo>
                        <a:pt x="31" y="1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6" name=""/>
                <p:cNvSpPr/>
                <p:nvPr/>
              </p:nvSpPr>
              <p:spPr>
                <a:xfrm>
                  <a:off x="5310360" y="2071080"/>
                  <a:ext cx="401040" cy="23760"/>
                </a:xfrm>
                <a:custGeom>
                  <a:avLst/>
                  <a:gdLst/>
                  <a:ahLst/>
                  <a:rect l="l" t="t" r="r" b="b"/>
                  <a:pathLst>
                    <a:path w="1157" h="48">
                      <a:moveTo>
                        <a:pt x="0" y="48"/>
                      </a:moveTo>
                      <a:lnTo>
                        <a:pt x="1157" y="48"/>
                      </a:lnTo>
                      <a:lnTo>
                        <a:pt x="1157" y="0"/>
                      </a:lnTo>
                      <a:lnTo>
                        <a:pt x="0" y="0"/>
                      </a:lnTo>
                      <a:lnTo>
                        <a:pt x="0" y="48"/>
                      </a:lnTo>
                      <a:lnTo>
                        <a:pt x="0" y="48"/>
                      </a:lnTo>
                      <a:close/>
                    </a:path>
                  </a:pathLst>
                </a:custGeom>
                <a:solidFill>
                  <a:srgbClr val="ffffc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sp>
              <p:nvSpPr>
                <p:cNvPr id="267" name=""/>
                <p:cNvSpPr/>
                <p:nvPr/>
              </p:nvSpPr>
              <p:spPr>
                <a:xfrm>
                  <a:off x="4773960" y="2080080"/>
                  <a:ext cx="87120" cy="25200"/>
                </a:xfrm>
                <a:custGeom>
                  <a:avLst/>
                  <a:gdLst/>
                  <a:ahLst/>
                  <a:rect l="l" t="t" r="r" b="b"/>
                  <a:pathLst>
                    <a:path w="253" h="52">
                      <a:moveTo>
                        <a:pt x="0" y="52"/>
                      </a:moveTo>
                      <a:lnTo>
                        <a:pt x="253" y="52"/>
                      </a:lnTo>
                      <a:lnTo>
                        <a:pt x="253" y="0"/>
                      </a:lnTo>
                      <a:lnTo>
                        <a:pt x="0" y="0"/>
                      </a:lnTo>
                      <a:lnTo>
                        <a:pt x="0" y="52"/>
                      </a:lnTo>
                      <a:lnTo>
                        <a:pt x="0" y="52"/>
                      </a:lnTo>
                      <a:close/>
                    </a:path>
                  </a:pathLst>
                </a:custGeom>
                <a:solidFill>
                  <a:srgbClr val="d1d14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68" name=""/>
                <p:cNvSpPr/>
                <p:nvPr/>
              </p:nvSpPr>
              <p:spPr>
                <a:xfrm>
                  <a:off x="4803840" y="2254680"/>
                  <a:ext cx="91440" cy="66600"/>
                </a:xfrm>
                <a:custGeom>
                  <a:avLst/>
                  <a:gdLst/>
                  <a:ahLst/>
                  <a:rect l="l" t="t" r="r" b="b"/>
                  <a:pathLst>
                    <a:path w="265" h="136">
                      <a:moveTo>
                        <a:pt x="16" y="136"/>
                      </a:moveTo>
                      <a:lnTo>
                        <a:pt x="265" y="50"/>
                      </a:lnTo>
                      <a:lnTo>
                        <a:pt x="248" y="0"/>
                      </a:lnTo>
                      <a:lnTo>
                        <a:pt x="0" y="86"/>
                      </a:lnTo>
                      <a:lnTo>
                        <a:pt x="16" y="136"/>
                      </a:lnTo>
                      <a:lnTo>
                        <a:pt x="16" y="136"/>
                      </a:lnTo>
                      <a:close/>
                    </a:path>
                  </a:pathLst>
                </a:custGeom>
                <a:solidFill>
                  <a:srgbClr val="d1d14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69" name=""/>
                <p:cNvSpPr/>
                <p:nvPr/>
              </p:nvSpPr>
              <p:spPr>
                <a:xfrm>
                  <a:off x="4926600" y="2190240"/>
                  <a:ext cx="92160" cy="66600"/>
                </a:xfrm>
                <a:custGeom>
                  <a:avLst/>
                  <a:gdLst/>
                  <a:ahLst/>
                  <a:rect l="l" t="t" r="r" b="b"/>
                  <a:pathLst>
                    <a:path w="267" h="137">
                      <a:moveTo>
                        <a:pt x="17" y="137"/>
                      </a:moveTo>
                      <a:lnTo>
                        <a:pt x="267" y="50"/>
                      </a:lnTo>
                      <a:lnTo>
                        <a:pt x="251" y="0"/>
                      </a:lnTo>
                      <a:lnTo>
                        <a:pt x="0" y="88"/>
                      </a:lnTo>
                      <a:lnTo>
                        <a:pt x="17" y="137"/>
                      </a:lnTo>
                      <a:lnTo>
                        <a:pt x="17" y="137"/>
                      </a:lnTo>
                      <a:close/>
                    </a:path>
                  </a:pathLst>
                </a:custGeom>
                <a:solidFill>
                  <a:srgbClr val="ffffc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0" name=""/>
                <p:cNvSpPr/>
                <p:nvPr/>
              </p:nvSpPr>
              <p:spPr>
                <a:xfrm>
                  <a:off x="5056560" y="2116080"/>
                  <a:ext cx="93600" cy="68040"/>
                </a:xfrm>
                <a:custGeom>
                  <a:avLst/>
                  <a:gdLst/>
                  <a:ahLst/>
                  <a:rect l="l" t="t" r="r" b="b"/>
                  <a:pathLst>
                    <a:path w="268" h="137">
                      <a:moveTo>
                        <a:pt x="17" y="137"/>
                      </a:moveTo>
                      <a:lnTo>
                        <a:pt x="268" y="50"/>
                      </a:lnTo>
                      <a:lnTo>
                        <a:pt x="250" y="0"/>
                      </a:lnTo>
                      <a:lnTo>
                        <a:pt x="0" y="86"/>
                      </a:lnTo>
                      <a:lnTo>
                        <a:pt x="17" y="137"/>
                      </a:lnTo>
                      <a:lnTo>
                        <a:pt x="17" y="137"/>
                      </a:lnTo>
                      <a:close/>
                    </a:path>
                  </a:pathLst>
                </a:custGeom>
                <a:solidFill>
                  <a:srgbClr val="ffffc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271" name=""/>
                <p:cNvSpPr/>
                <p:nvPr/>
              </p:nvSpPr>
              <p:spPr>
                <a:xfrm>
                  <a:off x="4829760" y="1828080"/>
                  <a:ext cx="91440" cy="77400"/>
                </a:xfrm>
                <a:custGeom>
                  <a:avLst/>
                  <a:gdLst/>
                  <a:ahLst/>
                  <a:rect l="l" t="t" r="r" b="b"/>
                  <a:pathLst>
                    <a:path w="264" h="156">
                      <a:moveTo>
                        <a:pt x="0" y="48"/>
                      </a:moveTo>
                      <a:lnTo>
                        <a:pt x="244" y="156"/>
                      </a:lnTo>
                      <a:lnTo>
                        <a:pt x="264" y="106"/>
                      </a:lnTo>
                      <a:lnTo>
                        <a:pt x="21" y="0"/>
                      </a:lnTo>
                      <a:lnTo>
                        <a:pt x="0" y="48"/>
                      </a:lnTo>
                      <a:lnTo>
                        <a:pt x="0" y="48"/>
                      </a:lnTo>
                      <a:close/>
                    </a:path>
                  </a:pathLst>
                </a:custGeom>
                <a:solidFill>
                  <a:srgbClr val="d1d142"/>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Futura Bk"/>
                  </a:endParaRPr>
                </a:p>
              </p:txBody>
            </p:sp>
            <p:sp>
              <p:nvSpPr>
                <p:cNvPr id="272" name=""/>
                <p:cNvSpPr/>
                <p:nvPr/>
              </p:nvSpPr>
              <p:spPr>
                <a:xfrm>
                  <a:off x="4945320" y="1902960"/>
                  <a:ext cx="79200" cy="68400"/>
                </a:xfrm>
                <a:custGeom>
                  <a:avLst/>
                  <a:gdLst/>
                  <a:ahLst/>
                  <a:rect l="l" t="t" r="r" b="b"/>
                  <a:pathLst>
                    <a:path w="228" h="138">
                      <a:moveTo>
                        <a:pt x="0" y="48"/>
                      </a:moveTo>
                      <a:lnTo>
                        <a:pt x="206" y="138"/>
                      </a:lnTo>
                      <a:lnTo>
                        <a:pt x="228" y="90"/>
                      </a:lnTo>
                      <a:lnTo>
                        <a:pt x="28" y="0"/>
                      </a:lnTo>
                      <a:lnTo>
                        <a:pt x="0" y="48"/>
                      </a:lnTo>
                      <a:lnTo>
                        <a:pt x="0" y="48"/>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3" name=""/>
                <p:cNvSpPr/>
                <p:nvPr/>
              </p:nvSpPr>
              <p:spPr>
                <a:xfrm>
                  <a:off x="5051160" y="1971360"/>
                  <a:ext cx="90360" cy="77040"/>
                </a:xfrm>
                <a:custGeom>
                  <a:avLst/>
                  <a:gdLst/>
                  <a:ahLst/>
                  <a:rect l="l" t="t" r="r" b="b"/>
                  <a:pathLst>
                    <a:path w="263" h="157">
                      <a:moveTo>
                        <a:pt x="0" y="48"/>
                      </a:moveTo>
                      <a:lnTo>
                        <a:pt x="243" y="157"/>
                      </a:lnTo>
                      <a:lnTo>
                        <a:pt x="263" y="107"/>
                      </a:lnTo>
                      <a:lnTo>
                        <a:pt x="24" y="0"/>
                      </a:lnTo>
                      <a:lnTo>
                        <a:pt x="0" y="48"/>
                      </a:lnTo>
                      <a:lnTo>
                        <a:pt x="0" y="48"/>
                      </a:lnTo>
                      <a:close/>
                    </a:path>
                  </a:pathLst>
                </a:custGeom>
                <a:solidFill>
                  <a:srgbClr val="ffffc2"/>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Futura Bk"/>
                  </a:endParaRPr>
                </a:p>
              </p:txBody>
            </p:sp>
            <p:sp>
              <p:nvSpPr>
                <p:cNvPr id="274" name=""/>
                <p:cNvSpPr/>
                <p:nvPr/>
              </p:nvSpPr>
              <p:spPr>
                <a:xfrm>
                  <a:off x="4903560" y="2080080"/>
                  <a:ext cx="91440" cy="25200"/>
                </a:xfrm>
                <a:custGeom>
                  <a:avLst/>
                  <a:gdLst/>
                  <a:ahLst/>
                  <a:rect l="l" t="t" r="r" b="b"/>
                  <a:pathLst>
                    <a:path w="266" h="52">
                      <a:moveTo>
                        <a:pt x="0" y="52"/>
                      </a:moveTo>
                      <a:lnTo>
                        <a:pt x="266" y="52"/>
                      </a:lnTo>
                      <a:lnTo>
                        <a:pt x="266"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5" name=""/>
                <p:cNvSpPr/>
                <p:nvPr/>
              </p:nvSpPr>
              <p:spPr>
                <a:xfrm>
                  <a:off x="5036760" y="2080080"/>
                  <a:ext cx="90360" cy="25200"/>
                </a:xfrm>
                <a:custGeom>
                  <a:avLst/>
                  <a:gdLst/>
                  <a:ahLst/>
                  <a:rect l="l" t="t" r="r" b="b"/>
                  <a:pathLst>
                    <a:path w="261" h="52">
                      <a:moveTo>
                        <a:pt x="0" y="52"/>
                      </a:moveTo>
                      <a:lnTo>
                        <a:pt x="261" y="52"/>
                      </a:lnTo>
                      <a:lnTo>
                        <a:pt x="261"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6" name=""/>
                <p:cNvSpPr/>
                <p:nvPr/>
              </p:nvSpPr>
              <p:spPr>
                <a:xfrm>
                  <a:off x="5212440" y="2045880"/>
                  <a:ext cx="56880" cy="90720"/>
                </a:xfrm>
                <a:custGeom>
                  <a:avLst/>
                  <a:gdLst/>
                  <a:ahLst/>
                  <a:rect l="l" t="t" r="r" b="b"/>
                  <a:pathLst>
                    <a:path w="166" h="182">
                      <a:moveTo>
                        <a:pt x="166" y="29"/>
                      </a:moveTo>
                      <a:lnTo>
                        <a:pt x="66" y="69"/>
                      </a:lnTo>
                      <a:lnTo>
                        <a:pt x="66" y="113"/>
                      </a:lnTo>
                      <a:lnTo>
                        <a:pt x="34" y="105"/>
                      </a:lnTo>
                      <a:lnTo>
                        <a:pt x="32" y="106"/>
                      </a:lnTo>
                      <a:lnTo>
                        <a:pt x="30" y="110"/>
                      </a:lnTo>
                      <a:lnTo>
                        <a:pt x="28" y="117"/>
                      </a:lnTo>
                      <a:lnTo>
                        <a:pt x="27" y="126"/>
                      </a:lnTo>
                      <a:lnTo>
                        <a:pt x="27" y="134"/>
                      </a:lnTo>
                      <a:lnTo>
                        <a:pt x="30" y="142"/>
                      </a:lnTo>
                      <a:lnTo>
                        <a:pt x="33" y="146"/>
                      </a:lnTo>
                      <a:lnTo>
                        <a:pt x="36" y="150"/>
                      </a:lnTo>
                      <a:lnTo>
                        <a:pt x="43" y="152"/>
                      </a:lnTo>
                      <a:lnTo>
                        <a:pt x="49" y="156"/>
                      </a:lnTo>
                      <a:lnTo>
                        <a:pt x="39" y="182"/>
                      </a:lnTo>
                      <a:lnTo>
                        <a:pt x="36" y="180"/>
                      </a:lnTo>
                      <a:lnTo>
                        <a:pt x="30" y="176"/>
                      </a:lnTo>
                      <a:lnTo>
                        <a:pt x="25" y="172"/>
                      </a:lnTo>
                      <a:lnTo>
                        <a:pt x="23" y="166"/>
                      </a:lnTo>
                      <a:lnTo>
                        <a:pt x="18" y="161"/>
                      </a:lnTo>
                      <a:lnTo>
                        <a:pt x="15" y="156"/>
                      </a:lnTo>
                      <a:lnTo>
                        <a:pt x="11" y="149"/>
                      </a:lnTo>
                      <a:lnTo>
                        <a:pt x="7" y="141"/>
                      </a:lnTo>
                      <a:lnTo>
                        <a:pt x="4" y="132"/>
                      </a:lnTo>
                      <a:lnTo>
                        <a:pt x="2" y="122"/>
                      </a:lnTo>
                      <a:lnTo>
                        <a:pt x="0" y="110"/>
                      </a:lnTo>
                      <a:lnTo>
                        <a:pt x="0" y="99"/>
                      </a:lnTo>
                      <a:lnTo>
                        <a:pt x="1" y="86"/>
                      </a:lnTo>
                      <a:lnTo>
                        <a:pt x="3" y="72"/>
                      </a:lnTo>
                      <a:lnTo>
                        <a:pt x="133" y="0"/>
                      </a:lnTo>
                      <a:lnTo>
                        <a:pt x="166" y="29"/>
                      </a:lnTo>
                      <a:lnTo>
                        <a:pt x="166" y="29"/>
                      </a:lnTo>
                      <a:close/>
                    </a:path>
                  </a:pathLst>
                </a:custGeom>
                <a:solidFill>
                  <a:srgbClr val="b3b02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Futura Bk"/>
                  </a:endParaRPr>
                </a:p>
              </p:txBody>
            </p:sp>
          </p:grpSp>
          <p:sp>
            <p:nvSpPr>
              <p:cNvPr id="277" name=""/>
              <p:cNvSpPr/>
              <p:nvPr/>
            </p:nvSpPr>
            <p:spPr>
              <a:xfrm>
                <a:off x="6261480" y="2444040"/>
                <a:ext cx="701280" cy="326880"/>
              </a:xfrm>
              <a:custGeom>
                <a:avLst/>
                <a:gdLst/>
                <a:ahLst/>
                <a:rect l="l" t="t" r="r" b="b"/>
                <a:pathLst>
                  <a:path w="1596" h="795">
                    <a:moveTo>
                      <a:pt x="1063" y="264"/>
                    </a:moveTo>
                    <a:lnTo>
                      <a:pt x="1061" y="292"/>
                    </a:lnTo>
                    <a:lnTo>
                      <a:pt x="1056" y="318"/>
                    </a:lnTo>
                    <a:lnTo>
                      <a:pt x="1046" y="342"/>
                    </a:lnTo>
                    <a:lnTo>
                      <a:pt x="1035" y="368"/>
                    </a:lnTo>
                    <a:lnTo>
                      <a:pt x="1020" y="391"/>
                    </a:lnTo>
                    <a:lnTo>
                      <a:pt x="1003"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59"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6" y="731"/>
                    </a:lnTo>
                    <a:lnTo>
                      <a:pt x="1106" y="705"/>
                    </a:lnTo>
                    <a:lnTo>
                      <a:pt x="1160" y="673"/>
                    </a:lnTo>
                    <a:lnTo>
                      <a:pt x="1211" y="640"/>
                    </a:lnTo>
                    <a:lnTo>
                      <a:pt x="1256" y="602"/>
                    </a:lnTo>
                    <a:lnTo>
                      <a:pt x="1297" y="561"/>
                    </a:lnTo>
                    <a:lnTo>
                      <a:pt x="1332" y="518"/>
                    </a:lnTo>
                    <a:lnTo>
                      <a:pt x="1362" y="471"/>
                    </a:lnTo>
                    <a:lnTo>
                      <a:pt x="1387" y="423"/>
                    </a:lnTo>
                    <a:lnTo>
                      <a:pt x="1403" y="372"/>
                    </a:lnTo>
                    <a:lnTo>
                      <a:pt x="1415" y="320"/>
                    </a:lnTo>
                    <a:lnTo>
                      <a:pt x="1418" y="265"/>
                    </a:lnTo>
                    <a:lnTo>
                      <a:pt x="1418"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78" name=""/>
              <p:cNvGrpSpPr/>
              <p:nvPr/>
            </p:nvGrpSpPr>
            <p:grpSpPr>
              <a:xfrm>
                <a:off x="5970600" y="2115360"/>
                <a:ext cx="2892600" cy="178920"/>
                <a:chOff x="5970600" y="2115360"/>
                <a:chExt cx="2892600" cy="178920"/>
              </a:xfrm>
            </p:grpSpPr>
            <p:grpSp>
              <p:nvGrpSpPr>
                <p:cNvPr id="279" name=""/>
                <p:cNvGrpSpPr/>
                <p:nvPr/>
              </p:nvGrpSpPr>
              <p:grpSpPr>
                <a:xfrm>
                  <a:off x="8601120" y="2115360"/>
                  <a:ext cx="262080" cy="178920"/>
                  <a:chOff x="8601120" y="2115360"/>
                  <a:chExt cx="262080" cy="178920"/>
                </a:xfrm>
              </p:grpSpPr>
              <p:grpSp>
                <p:nvGrpSpPr>
                  <p:cNvPr id="280" name=""/>
                  <p:cNvGrpSpPr/>
                  <p:nvPr/>
                </p:nvGrpSpPr>
                <p:grpSpPr>
                  <a:xfrm>
                    <a:off x="8609760" y="2115360"/>
                    <a:ext cx="253440" cy="171000"/>
                    <a:chOff x="8609760" y="2115360"/>
                    <a:chExt cx="253440" cy="171000"/>
                  </a:xfrm>
                </p:grpSpPr>
                <p:sp>
                  <p:nvSpPr>
                    <p:cNvPr id="281" name=""/>
                    <p:cNvSpPr/>
                    <p:nvPr/>
                  </p:nvSpPr>
                  <p:spPr>
                    <a:xfrm>
                      <a:off x="8632440" y="222408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2" name=""/>
                    <p:cNvSpPr/>
                    <p:nvPr/>
                  </p:nvSpPr>
                  <p:spPr>
                    <a:xfrm>
                      <a:off x="8632440" y="221760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3" name=""/>
                    <p:cNvSpPr/>
                    <p:nvPr/>
                  </p:nvSpPr>
                  <p:spPr>
                    <a:xfrm>
                      <a:off x="8667360" y="218880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84" name=""/>
                    <p:cNvSpPr/>
                    <p:nvPr/>
                  </p:nvSpPr>
                  <p:spPr>
                    <a:xfrm>
                      <a:off x="8698320" y="220932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85" name=""/>
                    <p:cNvSpPr/>
                    <p:nvPr/>
                  </p:nvSpPr>
                  <p:spPr>
                    <a:xfrm>
                      <a:off x="8617680" y="211536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86" name=""/>
                    <p:cNvSpPr/>
                    <p:nvPr/>
                  </p:nvSpPr>
                  <p:spPr>
                    <a:xfrm>
                      <a:off x="8639280" y="212976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87" name=""/>
                    <p:cNvSpPr/>
                    <p:nvPr/>
                  </p:nvSpPr>
                  <p:spPr>
                    <a:xfrm>
                      <a:off x="8654400" y="214128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88" name=""/>
                    <p:cNvSpPr/>
                    <p:nvPr/>
                  </p:nvSpPr>
                  <p:spPr>
                    <a:xfrm>
                      <a:off x="8653320" y="214128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89" name=""/>
                    <p:cNvSpPr/>
                    <p:nvPr/>
                  </p:nvSpPr>
                  <p:spPr>
                    <a:xfrm>
                      <a:off x="866196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90" name=""/>
                    <p:cNvGrpSpPr/>
                    <p:nvPr/>
                  </p:nvGrpSpPr>
                  <p:grpSpPr>
                    <a:xfrm>
                      <a:off x="8609760" y="2252880"/>
                      <a:ext cx="253440" cy="33480"/>
                      <a:chOff x="8609760" y="2252880"/>
                      <a:chExt cx="253440" cy="33480"/>
                    </a:xfrm>
                  </p:grpSpPr>
                  <p:sp>
                    <p:nvSpPr>
                      <p:cNvPr id="291" name=""/>
                      <p:cNvSpPr/>
                      <p:nvPr/>
                    </p:nvSpPr>
                    <p:spPr>
                      <a:xfrm>
                        <a:off x="8609760" y="225288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92" name=""/>
                      <p:cNvSpPr/>
                      <p:nvPr/>
                    </p:nvSpPr>
                    <p:spPr>
                      <a:xfrm>
                        <a:off x="8609760" y="225288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93" name=""/>
                      <p:cNvSpPr/>
                      <p:nvPr/>
                    </p:nvSpPr>
                    <p:spPr>
                      <a:xfrm>
                        <a:off x="8639280" y="227880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94" name=""/>
                    <p:cNvSpPr/>
                    <p:nvPr/>
                  </p:nvSpPr>
                  <p:spPr>
                    <a:xfrm>
                      <a:off x="86176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295" name=""/>
                  <p:cNvGrpSpPr/>
                  <p:nvPr/>
                </p:nvGrpSpPr>
                <p:grpSpPr>
                  <a:xfrm>
                    <a:off x="8601120" y="2123280"/>
                    <a:ext cx="253440" cy="171000"/>
                    <a:chOff x="8601120" y="2123280"/>
                    <a:chExt cx="253440" cy="171000"/>
                  </a:xfrm>
                </p:grpSpPr>
                <p:sp>
                  <p:nvSpPr>
                    <p:cNvPr id="296" name=""/>
                    <p:cNvSpPr/>
                    <p:nvPr/>
                  </p:nvSpPr>
                  <p:spPr>
                    <a:xfrm>
                      <a:off x="8623800" y="223200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97" name=""/>
                    <p:cNvSpPr/>
                    <p:nvPr/>
                  </p:nvSpPr>
                  <p:spPr>
                    <a:xfrm>
                      <a:off x="8623800" y="222552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98" name=""/>
                    <p:cNvSpPr/>
                    <p:nvPr/>
                  </p:nvSpPr>
                  <p:spPr>
                    <a:xfrm>
                      <a:off x="8658720" y="219672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99" name=""/>
                    <p:cNvSpPr/>
                    <p:nvPr/>
                  </p:nvSpPr>
                  <p:spPr>
                    <a:xfrm>
                      <a:off x="8689680" y="221724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00" name=""/>
                    <p:cNvSpPr/>
                    <p:nvPr/>
                  </p:nvSpPr>
                  <p:spPr>
                    <a:xfrm>
                      <a:off x="8609040" y="212328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01" name=""/>
                    <p:cNvSpPr/>
                    <p:nvPr/>
                  </p:nvSpPr>
                  <p:spPr>
                    <a:xfrm>
                      <a:off x="8630640" y="213768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02" name=""/>
                    <p:cNvSpPr/>
                    <p:nvPr/>
                  </p:nvSpPr>
                  <p:spPr>
                    <a:xfrm>
                      <a:off x="8645760" y="214920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3" name=""/>
                    <p:cNvSpPr/>
                    <p:nvPr/>
                  </p:nvSpPr>
                  <p:spPr>
                    <a:xfrm>
                      <a:off x="8644680" y="214920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4" name=""/>
                    <p:cNvSpPr/>
                    <p:nvPr/>
                  </p:nvSpPr>
                  <p:spPr>
                    <a:xfrm>
                      <a:off x="865332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05" name=""/>
                    <p:cNvGrpSpPr/>
                    <p:nvPr/>
                  </p:nvGrpSpPr>
                  <p:grpSpPr>
                    <a:xfrm>
                      <a:off x="8601120" y="2260800"/>
                      <a:ext cx="253440" cy="33480"/>
                      <a:chOff x="8601120" y="2260800"/>
                      <a:chExt cx="253440" cy="33480"/>
                    </a:xfrm>
                  </p:grpSpPr>
                  <p:sp>
                    <p:nvSpPr>
                      <p:cNvPr id="306" name=""/>
                      <p:cNvSpPr/>
                      <p:nvPr/>
                    </p:nvSpPr>
                    <p:spPr>
                      <a:xfrm>
                        <a:off x="8601120" y="226080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07" name=""/>
                      <p:cNvSpPr/>
                      <p:nvPr/>
                    </p:nvSpPr>
                    <p:spPr>
                      <a:xfrm>
                        <a:off x="8601120" y="226080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08" name=""/>
                      <p:cNvSpPr/>
                      <p:nvPr/>
                    </p:nvSpPr>
                    <p:spPr>
                      <a:xfrm>
                        <a:off x="8630640" y="228672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09" name=""/>
                    <p:cNvSpPr/>
                    <p:nvPr/>
                  </p:nvSpPr>
                  <p:spPr>
                    <a:xfrm>
                      <a:off x="86090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310" name=""/>
                <p:cNvGrpSpPr/>
                <p:nvPr/>
              </p:nvGrpSpPr>
              <p:grpSpPr>
                <a:xfrm>
                  <a:off x="5970600" y="2115360"/>
                  <a:ext cx="890640" cy="178920"/>
                  <a:chOff x="5970600" y="2115360"/>
                  <a:chExt cx="890640" cy="178920"/>
                </a:xfrm>
              </p:grpSpPr>
              <p:grpSp>
                <p:nvGrpSpPr>
                  <p:cNvPr id="311" name=""/>
                  <p:cNvGrpSpPr/>
                  <p:nvPr/>
                </p:nvGrpSpPr>
                <p:grpSpPr>
                  <a:xfrm>
                    <a:off x="5979240" y="2115360"/>
                    <a:ext cx="254520" cy="171000"/>
                    <a:chOff x="5979240" y="2115360"/>
                    <a:chExt cx="254520" cy="171000"/>
                  </a:xfrm>
                </p:grpSpPr>
                <p:sp>
                  <p:nvSpPr>
                    <p:cNvPr id="312" name=""/>
                    <p:cNvSpPr/>
                    <p:nvPr/>
                  </p:nvSpPr>
                  <p:spPr>
                    <a:xfrm>
                      <a:off x="600264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3" name=""/>
                    <p:cNvSpPr/>
                    <p:nvPr/>
                  </p:nvSpPr>
                  <p:spPr>
                    <a:xfrm>
                      <a:off x="600264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4" name=""/>
                    <p:cNvSpPr/>
                    <p:nvPr/>
                  </p:nvSpPr>
                  <p:spPr>
                    <a:xfrm>
                      <a:off x="6037920" y="218880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15" name=""/>
                    <p:cNvSpPr/>
                    <p:nvPr/>
                  </p:nvSpPr>
                  <p:spPr>
                    <a:xfrm>
                      <a:off x="606852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16" name=""/>
                    <p:cNvSpPr/>
                    <p:nvPr/>
                  </p:nvSpPr>
                  <p:spPr>
                    <a:xfrm>
                      <a:off x="5987880" y="211536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17" name=""/>
                    <p:cNvSpPr/>
                    <p:nvPr/>
                  </p:nvSpPr>
                  <p:spPr>
                    <a:xfrm>
                      <a:off x="600876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18" name=""/>
                    <p:cNvSpPr/>
                    <p:nvPr/>
                  </p:nvSpPr>
                  <p:spPr>
                    <a:xfrm>
                      <a:off x="602388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19" name=""/>
                    <p:cNvSpPr/>
                    <p:nvPr/>
                  </p:nvSpPr>
                  <p:spPr>
                    <a:xfrm>
                      <a:off x="6023880" y="214128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0" name=""/>
                    <p:cNvSpPr/>
                    <p:nvPr/>
                  </p:nvSpPr>
                  <p:spPr>
                    <a:xfrm>
                      <a:off x="603252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21" name=""/>
                    <p:cNvGrpSpPr/>
                    <p:nvPr/>
                  </p:nvGrpSpPr>
                  <p:grpSpPr>
                    <a:xfrm>
                      <a:off x="5979240" y="2252880"/>
                      <a:ext cx="254520" cy="33480"/>
                      <a:chOff x="5979240" y="2252880"/>
                      <a:chExt cx="254520" cy="33480"/>
                    </a:xfrm>
                  </p:grpSpPr>
                  <p:sp>
                    <p:nvSpPr>
                      <p:cNvPr id="322" name=""/>
                      <p:cNvSpPr/>
                      <p:nvPr/>
                    </p:nvSpPr>
                    <p:spPr>
                      <a:xfrm>
                        <a:off x="5979240" y="225288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23" name=""/>
                      <p:cNvSpPr/>
                      <p:nvPr/>
                    </p:nvSpPr>
                    <p:spPr>
                      <a:xfrm>
                        <a:off x="597924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24" name=""/>
                      <p:cNvSpPr/>
                      <p:nvPr/>
                    </p:nvSpPr>
                    <p:spPr>
                      <a:xfrm>
                        <a:off x="600876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25" name=""/>
                    <p:cNvSpPr/>
                    <p:nvPr/>
                  </p:nvSpPr>
                  <p:spPr>
                    <a:xfrm>
                      <a:off x="59878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26" name=""/>
                  <p:cNvGrpSpPr/>
                  <p:nvPr/>
                </p:nvGrpSpPr>
                <p:grpSpPr>
                  <a:xfrm>
                    <a:off x="5970600" y="2123280"/>
                    <a:ext cx="254520" cy="171000"/>
                    <a:chOff x="5970600" y="2123280"/>
                    <a:chExt cx="254520" cy="171000"/>
                  </a:xfrm>
                </p:grpSpPr>
                <p:sp>
                  <p:nvSpPr>
                    <p:cNvPr id="327" name=""/>
                    <p:cNvSpPr/>
                    <p:nvPr/>
                  </p:nvSpPr>
                  <p:spPr>
                    <a:xfrm>
                      <a:off x="599400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28" name=""/>
                    <p:cNvSpPr/>
                    <p:nvPr/>
                  </p:nvSpPr>
                  <p:spPr>
                    <a:xfrm>
                      <a:off x="599400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29" name=""/>
                    <p:cNvSpPr/>
                    <p:nvPr/>
                  </p:nvSpPr>
                  <p:spPr>
                    <a:xfrm>
                      <a:off x="6029280" y="219672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30" name=""/>
                    <p:cNvSpPr/>
                    <p:nvPr/>
                  </p:nvSpPr>
                  <p:spPr>
                    <a:xfrm>
                      <a:off x="605988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31" name=""/>
                    <p:cNvSpPr/>
                    <p:nvPr/>
                  </p:nvSpPr>
                  <p:spPr>
                    <a:xfrm>
                      <a:off x="5979240" y="212328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32" name=""/>
                    <p:cNvSpPr/>
                    <p:nvPr/>
                  </p:nvSpPr>
                  <p:spPr>
                    <a:xfrm>
                      <a:off x="600012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3" name=""/>
                    <p:cNvSpPr/>
                    <p:nvPr/>
                  </p:nvSpPr>
                  <p:spPr>
                    <a:xfrm>
                      <a:off x="601524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4" name=""/>
                    <p:cNvSpPr/>
                    <p:nvPr/>
                  </p:nvSpPr>
                  <p:spPr>
                    <a:xfrm>
                      <a:off x="6015240" y="214920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5" name=""/>
                    <p:cNvSpPr/>
                    <p:nvPr/>
                  </p:nvSpPr>
                  <p:spPr>
                    <a:xfrm>
                      <a:off x="602388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36" name=""/>
                    <p:cNvGrpSpPr/>
                    <p:nvPr/>
                  </p:nvGrpSpPr>
                  <p:grpSpPr>
                    <a:xfrm>
                      <a:off x="5970600" y="2260800"/>
                      <a:ext cx="254520" cy="33480"/>
                      <a:chOff x="5970600" y="2260800"/>
                      <a:chExt cx="254520" cy="33480"/>
                    </a:xfrm>
                  </p:grpSpPr>
                  <p:sp>
                    <p:nvSpPr>
                      <p:cNvPr id="337" name=""/>
                      <p:cNvSpPr/>
                      <p:nvPr/>
                    </p:nvSpPr>
                    <p:spPr>
                      <a:xfrm>
                        <a:off x="5970600" y="226080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38" name=""/>
                      <p:cNvSpPr/>
                      <p:nvPr/>
                    </p:nvSpPr>
                    <p:spPr>
                      <a:xfrm>
                        <a:off x="597060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39" name=""/>
                      <p:cNvSpPr/>
                      <p:nvPr/>
                    </p:nvSpPr>
                    <p:spPr>
                      <a:xfrm>
                        <a:off x="600012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40" name=""/>
                    <p:cNvSpPr/>
                    <p:nvPr/>
                  </p:nvSpPr>
                  <p:spPr>
                    <a:xfrm>
                      <a:off x="59792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41" name=""/>
                  <p:cNvGrpSpPr/>
                  <p:nvPr/>
                </p:nvGrpSpPr>
                <p:grpSpPr>
                  <a:xfrm>
                    <a:off x="6606720" y="2115360"/>
                    <a:ext cx="254520" cy="171000"/>
                    <a:chOff x="6606720" y="2115360"/>
                    <a:chExt cx="254520" cy="171000"/>
                  </a:xfrm>
                </p:grpSpPr>
                <p:sp>
                  <p:nvSpPr>
                    <p:cNvPr id="342" name=""/>
                    <p:cNvSpPr/>
                    <p:nvPr/>
                  </p:nvSpPr>
                  <p:spPr>
                    <a:xfrm>
                      <a:off x="663012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3" name=""/>
                    <p:cNvSpPr/>
                    <p:nvPr/>
                  </p:nvSpPr>
                  <p:spPr>
                    <a:xfrm>
                      <a:off x="663012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4" name=""/>
                    <p:cNvSpPr/>
                    <p:nvPr/>
                  </p:nvSpPr>
                  <p:spPr>
                    <a:xfrm>
                      <a:off x="6665400" y="218880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45" name=""/>
                    <p:cNvSpPr/>
                    <p:nvPr/>
                  </p:nvSpPr>
                  <p:spPr>
                    <a:xfrm>
                      <a:off x="669600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46" name=""/>
                    <p:cNvSpPr/>
                    <p:nvPr/>
                  </p:nvSpPr>
                  <p:spPr>
                    <a:xfrm>
                      <a:off x="6614640" y="211536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47" name=""/>
                    <p:cNvSpPr/>
                    <p:nvPr/>
                  </p:nvSpPr>
                  <p:spPr>
                    <a:xfrm>
                      <a:off x="663624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48" name=""/>
                    <p:cNvSpPr/>
                    <p:nvPr/>
                  </p:nvSpPr>
                  <p:spPr>
                    <a:xfrm>
                      <a:off x="665136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49" name=""/>
                    <p:cNvSpPr/>
                    <p:nvPr/>
                  </p:nvSpPr>
                  <p:spPr>
                    <a:xfrm>
                      <a:off x="6650280" y="214128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0" name=""/>
                    <p:cNvSpPr/>
                    <p:nvPr/>
                  </p:nvSpPr>
                  <p:spPr>
                    <a:xfrm>
                      <a:off x="666000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51" name=""/>
                    <p:cNvGrpSpPr/>
                    <p:nvPr/>
                  </p:nvGrpSpPr>
                  <p:grpSpPr>
                    <a:xfrm>
                      <a:off x="6606720" y="2252880"/>
                      <a:ext cx="254520" cy="33480"/>
                      <a:chOff x="6606720" y="2252880"/>
                      <a:chExt cx="254520" cy="33480"/>
                    </a:xfrm>
                  </p:grpSpPr>
                  <p:sp>
                    <p:nvSpPr>
                      <p:cNvPr id="352" name=""/>
                      <p:cNvSpPr/>
                      <p:nvPr/>
                    </p:nvSpPr>
                    <p:spPr>
                      <a:xfrm>
                        <a:off x="6606720" y="225288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53" name=""/>
                      <p:cNvSpPr/>
                      <p:nvPr/>
                    </p:nvSpPr>
                    <p:spPr>
                      <a:xfrm>
                        <a:off x="660672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54" name=""/>
                      <p:cNvSpPr/>
                      <p:nvPr/>
                    </p:nvSpPr>
                    <p:spPr>
                      <a:xfrm>
                        <a:off x="663624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55" name=""/>
                    <p:cNvSpPr/>
                    <p:nvPr/>
                  </p:nvSpPr>
                  <p:spPr>
                    <a:xfrm>
                      <a:off x="6614640" y="211536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56" name=""/>
                  <p:cNvGrpSpPr/>
                  <p:nvPr/>
                </p:nvGrpSpPr>
                <p:grpSpPr>
                  <a:xfrm>
                    <a:off x="6598080" y="2123280"/>
                    <a:ext cx="254520" cy="171000"/>
                    <a:chOff x="6598080" y="2123280"/>
                    <a:chExt cx="254520" cy="171000"/>
                  </a:xfrm>
                </p:grpSpPr>
                <p:sp>
                  <p:nvSpPr>
                    <p:cNvPr id="357" name=""/>
                    <p:cNvSpPr/>
                    <p:nvPr/>
                  </p:nvSpPr>
                  <p:spPr>
                    <a:xfrm>
                      <a:off x="662148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58" name=""/>
                    <p:cNvSpPr/>
                    <p:nvPr/>
                  </p:nvSpPr>
                  <p:spPr>
                    <a:xfrm>
                      <a:off x="662148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59" name=""/>
                    <p:cNvSpPr/>
                    <p:nvPr/>
                  </p:nvSpPr>
                  <p:spPr>
                    <a:xfrm>
                      <a:off x="6656760" y="219672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60" name=""/>
                    <p:cNvSpPr/>
                    <p:nvPr/>
                  </p:nvSpPr>
                  <p:spPr>
                    <a:xfrm>
                      <a:off x="668736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61" name=""/>
                    <p:cNvSpPr/>
                    <p:nvPr/>
                  </p:nvSpPr>
                  <p:spPr>
                    <a:xfrm>
                      <a:off x="6606000" y="212328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62" name=""/>
                    <p:cNvSpPr/>
                    <p:nvPr/>
                  </p:nvSpPr>
                  <p:spPr>
                    <a:xfrm>
                      <a:off x="662760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3" name=""/>
                    <p:cNvSpPr/>
                    <p:nvPr/>
                  </p:nvSpPr>
                  <p:spPr>
                    <a:xfrm>
                      <a:off x="664272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4" name=""/>
                    <p:cNvSpPr/>
                    <p:nvPr/>
                  </p:nvSpPr>
                  <p:spPr>
                    <a:xfrm>
                      <a:off x="6641640" y="214920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5" name=""/>
                    <p:cNvSpPr/>
                    <p:nvPr/>
                  </p:nvSpPr>
                  <p:spPr>
                    <a:xfrm>
                      <a:off x="665136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66" name=""/>
                    <p:cNvGrpSpPr/>
                    <p:nvPr/>
                  </p:nvGrpSpPr>
                  <p:grpSpPr>
                    <a:xfrm>
                      <a:off x="6598080" y="2260800"/>
                      <a:ext cx="254520" cy="33480"/>
                      <a:chOff x="6598080" y="2260800"/>
                      <a:chExt cx="254520" cy="33480"/>
                    </a:xfrm>
                  </p:grpSpPr>
                  <p:sp>
                    <p:nvSpPr>
                      <p:cNvPr id="367" name=""/>
                      <p:cNvSpPr/>
                      <p:nvPr/>
                    </p:nvSpPr>
                    <p:spPr>
                      <a:xfrm>
                        <a:off x="6598080" y="226080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68" name=""/>
                      <p:cNvSpPr/>
                      <p:nvPr/>
                    </p:nvSpPr>
                    <p:spPr>
                      <a:xfrm>
                        <a:off x="659808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69" name=""/>
                      <p:cNvSpPr/>
                      <p:nvPr/>
                    </p:nvSpPr>
                    <p:spPr>
                      <a:xfrm>
                        <a:off x="662760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70" name=""/>
                    <p:cNvSpPr/>
                    <p:nvPr/>
                  </p:nvSpPr>
                  <p:spPr>
                    <a:xfrm>
                      <a:off x="6606000" y="212328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nvGrpSpPr>
              <p:cNvPr id="371" name=""/>
              <p:cNvGrpSpPr/>
              <p:nvPr/>
            </p:nvGrpSpPr>
            <p:grpSpPr>
              <a:xfrm>
                <a:off x="7341840" y="2115360"/>
                <a:ext cx="261720" cy="178920"/>
                <a:chOff x="7341840" y="2115360"/>
                <a:chExt cx="261720" cy="178920"/>
              </a:xfrm>
            </p:grpSpPr>
            <p:grpSp>
              <p:nvGrpSpPr>
                <p:cNvPr id="372" name=""/>
                <p:cNvGrpSpPr/>
                <p:nvPr/>
              </p:nvGrpSpPr>
              <p:grpSpPr>
                <a:xfrm>
                  <a:off x="7350480" y="2115360"/>
                  <a:ext cx="253080" cy="171000"/>
                  <a:chOff x="7350480" y="2115360"/>
                  <a:chExt cx="253080" cy="171000"/>
                </a:xfrm>
              </p:grpSpPr>
              <p:sp>
                <p:nvSpPr>
                  <p:cNvPr id="373" name=""/>
                  <p:cNvSpPr/>
                  <p:nvPr/>
                </p:nvSpPr>
                <p:spPr>
                  <a:xfrm>
                    <a:off x="7373160" y="222408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4" name=""/>
                  <p:cNvSpPr/>
                  <p:nvPr/>
                </p:nvSpPr>
                <p:spPr>
                  <a:xfrm>
                    <a:off x="7373160" y="221760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5" name=""/>
                  <p:cNvSpPr/>
                  <p:nvPr/>
                </p:nvSpPr>
                <p:spPr>
                  <a:xfrm>
                    <a:off x="7408080" y="218880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76" name=""/>
                  <p:cNvSpPr/>
                  <p:nvPr/>
                </p:nvSpPr>
                <p:spPr>
                  <a:xfrm>
                    <a:off x="7439760" y="220932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77" name=""/>
                  <p:cNvSpPr/>
                  <p:nvPr/>
                </p:nvSpPr>
                <p:spPr>
                  <a:xfrm>
                    <a:off x="7358400" y="211536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78" name=""/>
                  <p:cNvSpPr/>
                  <p:nvPr/>
                </p:nvSpPr>
                <p:spPr>
                  <a:xfrm>
                    <a:off x="7380000" y="212976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79" name=""/>
                  <p:cNvSpPr/>
                  <p:nvPr/>
                </p:nvSpPr>
                <p:spPr>
                  <a:xfrm>
                    <a:off x="739512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0" name=""/>
                  <p:cNvSpPr/>
                  <p:nvPr/>
                </p:nvSpPr>
                <p:spPr>
                  <a:xfrm>
                    <a:off x="7394040" y="214128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1" name=""/>
                  <p:cNvSpPr/>
                  <p:nvPr/>
                </p:nvSpPr>
                <p:spPr>
                  <a:xfrm>
                    <a:off x="7403760" y="214704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82" name=""/>
                  <p:cNvGrpSpPr/>
                  <p:nvPr/>
                </p:nvGrpSpPr>
                <p:grpSpPr>
                  <a:xfrm>
                    <a:off x="7350480" y="2252880"/>
                    <a:ext cx="253080" cy="33480"/>
                    <a:chOff x="7350480" y="2252880"/>
                    <a:chExt cx="253080" cy="33480"/>
                  </a:xfrm>
                </p:grpSpPr>
                <p:sp>
                  <p:nvSpPr>
                    <p:cNvPr id="383" name=""/>
                    <p:cNvSpPr/>
                    <p:nvPr/>
                  </p:nvSpPr>
                  <p:spPr>
                    <a:xfrm>
                      <a:off x="7350480" y="225288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84" name=""/>
                    <p:cNvSpPr/>
                    <p:nvPr/>
                  </p:nvSpPr>
                  <p:spPr>
                    <a:xfrm>
                      <a:off x="7350480" y="225288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85" name=""/>
                    <p:cNvSpPr/>
                    <p:nvPr/>
                  </p:nvSpPr>
                  <p:spPr>
                    <a:xfrm>
                      <a:off x="7380000" y="227880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86" name=""/>
                  <p:cNvSpPr/>
                  <p:nvPr/>
                </p:nvSpPr>
                <p:spPr>
                  <a:xfrm>
                    <a:off x="7358400" y="211536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87" name=""/>
                <p:cNvGrpSpPr/>
                <p:nvPr/>
              </p:nvGrpSpPr>
              <p:grpSpPr>
                <a:xfrm>
                  <a:off x="7341840" y="2123280"/>
                  <a:ext cx="253080" cy="171000"/>
                  <a:chOff x="7341840" y="2123280"/>
                  <a:chExt cx="253080" cy="171000"/>
                </a:xfrm>
              </p:grpSpPr>
              <p:sp>
                <p:nvSpPr>
                  <p:cNvPr id="388" name=""/>
                  <p:cNvSpPr/>
                  <p:nvPr/>
                </p:nvSpPr>
                <p:spPr>
                  <a:xfrm>
                    <a:off x="7364520" y="223200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89" name=""/>
                  <p:cNvSpPr/>
                  <p:nvPr/>
                </p:nvSpPr>
                <p:spPr>
                  <a:xfrm>
                    <a:off x="7364520" y="222552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0" name=""/>
                  <p:cNvSpPr/>
                  <p:nvPr/>
                </p:nvSpPr>
                <p:spPr>
                  <a:xfrm>
                    <a:off x="7399440" y="219672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91" name=""/>
                  <p:cNvSpPr/>
                  <p:nvPr/>
                </p:nvSpPr>
                <p:spPr>
                  <a:xfrm>
                    <a:off x="7431120" y="221724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92" name=""/>
                  <p:cNvSpPr/>
                  <p:nvPr/>
                </p:nvSpPr>
                <p:spPr>
                  <a:xfrm>
                    <a:off x="7349760" y="212328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93" name=""/>
                  <p:cNvSpPr/>
                  <p:nvPr/>
                </p:nvSpPr>
                <p:spPr>
                  <a:xfrm>
                    <a:off x="7371360" y="213768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94" name=""/>
                  <p:cNvSpPr/>
                  <p:nvPr/>
                </p:nvSpPr>
                <p:spPr>
                  <a:xfrm>
                    <a:off x="738648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5" name=""/>
                  <p:cNvSpPr/>
                  <p:nvPr/>
                </p:nvSpPr>
                <p:spPr>
                  <a:xfrm>
                    <a:off x="7385400" y="214920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6" name=""/>
                  <p:cNvSpPr/>
                  <p:nvPr/>
                </p:nvSpPr>
                <p:spPr>
                  <a:xfrm>
                    <a:off x="7395120" y="215496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97" name=""/>
                  <p:cNvGrpSpPr/>
                  <p:nvPr/>
                </p:nvGrpSpPr>
                <p:grpSpPr>
                  <a:xfrm>
                    <a:off x="7341840" y="2260800"/>
                    <a:ext cx="253080" cy="33480"/>
                    <a:chOff x="7341840" y="2260800"/>
                    <a:chExt cx="253080" cy="33480"/>
                  </a:xfrm>
                </p:grpSpPr>
                <p:sp>
                  <p:nvSpPr>
                    <p:cNvPr id="398" name=""/>
                    <p:cNvSpPr/>
                    <p:nvPr/>
                  </p:nvSpPr>
                  <p:spPr>
                    <a:xfrm>
                      <a:off x="7341840" y="226080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99" name=""/>
                    <p:cNvSpPr/>
                    <p:nvPr/>
                  </p:nvSpPr>
                  <p:spPr>
                    <a:xfrm>
                      <a:off x="7341840" y="226080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400" name=""/>
                    <p:cNvSpPr/>
                    <p:nvPr/>
                  </p:nvSpPr>
                  <p:spPr>
                    <a:xfrm>
                      <a:off x="7371360" y="228672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401" name=""/>
                  <p:cNvSpPr/>
                  <p:nvPr/>
                </p:nvSpPr>
                <p:spPr>
                  <a:xfrm>
                    <a:off x="7349760" y="212328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402" name=""/>
              <p:cNvSpPr/>
              <p:nvPr/>
            </p:nvSpPr>
            <p:spPr>
              <a:xfrm>
                <a:off x="8277480" y="2444040"/>
                <a:ext cx="699840" cy="326880"/>
              </a:xfrm>
              <a:custGeom>
                <a:avLst/>
                <a:gdLst/>
                <a:ahLst/>
                <a:rect l="l" t="t" r="r" b="b"/>
                <a:pathLst>
                  <a:path w="1596" h="795">
                    <a:moveTo>
                      <a:pt x="1063" y="264"/>
                    </a:moveTo>
                    <a:lnTo>
                      <a:pt x="1061" y="292"/>
                    </a:lnTo>
                    <a:lnTo>
                      <a:pt x="1056" y="318"/>
                    </a:lnTo>
                    <a:lnTo>
                      <a:pt x="1047" y="342"/>
                    </a:lnTo>
                    <a:lnTo>
                      <a:pt x="1035" y="368"/>
                    </a:lnTo>
                    <a:lnTo>
                      <a:pt x="1020" y="391"/>
                    </a:lnTo>
                    <a:lnTo>
                      <a:pt x="1004"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60"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7" y="731"/>
                    </a:lnTo>
                    <a:lnTo>
                      <a:pt x="1106" y="705"/>
                    </a:lnTo>
                    <a:lnTo>
                      <a:pt x="1161" y="673"/>
                    </a:lnTo>
                    <a:lnTo>
                      <a:pt x="1211" y="640"/>
                    </a:lnTo>
                    <a:lnTo>
                      <a:pt x="1256" y="602"/>
                    </a:lnTo>
                    <a:lnTo>
                      <a:pt x="1297" y="561"/>
                    </a:lnTo>
                    <a:lnTo>
                      <a:pt x="1333" y="518"/>
                    </a:lnTo>
                    <a:lnTo>
                      <a:pt x="1362" y="471"/>
                    </a:lnTo>
                    <a:lnTo>
                      <a:pt x="1387" y="423"/>
                    </a:lnTo>
                    <a:lnTo>
                      <a:pt x="1404" y="372"/>
                    </a:lnTo>
                    <a:lnTo>
                      <a:pt x="1415" y="320"/>
                    </a:lnTo>
                    <a:lnTo>
                      <a:pt x="1419" y="265"/>
                    </a:lnTo>
                    <a:lnTo>
                      <a:pt x="1419"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3" name=""/>
              <p:cNvSpPr/>
              <p:nvPr/>
            </p:nvSpPr>
            <p:spPr>
              <a:xfrm>
                <a:off x="6931080" y="2444040"/>
                <a:ext cx="699840" cy="326880"/>
              </a:xfrm>
              <a:custGeom>
                <a:avLst/>
                <a:gdLst/>
                <a:ahLst/>
                <a:rect l="l" t="t" r="r" b="b"/>
                <a:pathLst>
                  <a:path w="1596"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8" y="529"/>
                    </a:lnTo>
                    <a:lnTo>
                      <a:pt x="673" y="527"/>
                    </a:lnTo>
                    <a:lnTo>
                      <a:pt x="637"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1" y="561"/>
                    </a:lnTo>
                    <a:lnTo>
                      <a:pt x="163" y="602"/>
                    </a:lnTo>
                    <a:lnTo>
                      <a:pt x="207" y="640"/>
                    </a:lnTo>
                    <a:lnTo>
                      <a:pt x="258" y="673"/>
                    </a:lnTo>
                    <a:lnTo>
                      <a:pt x="312" y="705"/>
                    </a:lnTo>
                    <a:lnTo>
                      <a:pt x="372" y="731"/>
                    </a:lnTo>
                    <a:lnTo>
                      <a:pt x="434" y="754"/>
                    </a:lnTo>
                    <a:lnTo>
                      <a:pt x="497" y="771"/>
                    </a:lnTo>
                    <a:lnTo>
                      <a:pt x="566" y="784"/>
                    </a:lnTo>
                    <a:lnTo>
                      <a:pt x="636" y="793"/>
                    </a:lnTo>
                    <a:lnTo>
                      <a:pt x="708" y="795"/>
                    </a:lnTo>
                    <a:lnTo>
                      <a:pt x="781" y="793"/>
                    </a:lnTo>
                    <a:lnTo>
                      <a:pt x="852" y="784"/>
                    </a:lnTo>
                    <a:lnTo>
                      <a:pt x="920" y="771"/>
                    </a:lnTo>
                    <a:lnTo>
                      <a:pt x="985" y="754"/>
                    </a:lnTo>
                    <a:lnTo>
                      <a:pt x="1047" y="731"/>
                    </a:lnTo>
                    <a:lnTo>
                      <a:pt x="1107" y="705"/>
                    </a:lnTo>
                    <a:lnTo>
                      <a:pt x="1161" y="673"/>
                    </a:lnTo>
                    <a:lnTo>
                      <a:pt x="1211" y="640"/>
                    </a:lnTo>
                    <a:lnTo>
                      <a:pt x="1256" y="602"/>
                    </a:lnTo>
                    <a:lnTo>
                      <a:pt x="1297" y="561"/>
                    </a:lnTo>
                    <a:lnTo>
                      <a:pt x="1333" y="518"/>
                    </a:lnTo>
                    <a:lnTo>
                      <a:pt x="1363" y="471"/>
                    </a:lnTo>
                    <a:lnTo>
                      <a:pt x="1387" y="423"/>
                    </a:lnTo>
                    <a:lnTo>
                      <a:pt x="1404" y="372"/>
                    </a:lnTo>
                    <a:lnTo>
                      <a:pt x="1415" y="320"/>
                    </a:lnTo>
                    <a:lnTo>
                      <a:pt x="1419" y="265"/>
                    </a:lnTo>
                    <a:lnTo>
                      <a:pt x="1419" y="264"/>
                    </a:lnTo>
                    <a:lnTo>
                      <a:pt x="1596"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4" name=""/>
              <p:cNvSpPr/>
              <p:nvPr/>
            </p:nvSpPr>
            <p:spPr>
              <a:xfrm>
                <a:off x="5591880" y="2444040"/>
                <a:ext cx="699840" cy="32688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7" y="561"/>
                    </a:lnTo>
                    <a:lnTo>
                      <a:pt x="1333" y="518"/>
                    </a:lnTo>
                    <a:lnTo>
                      <a:pt x="1363" y="471"/>
                    </a:lnTo>
                    <a:lnTo>
                      <a:pt x="1387" y="423"/>
                    </a:lnTo>
                    <a:lnTo>
                      <a:pt x="1404" y="372"/>
                    </a:lnTo>
                    <a:lnTo>
                      <a:pt x="1415" y="320"/>
                    </a:lnTo>
                    <a:lnTo>
                      <a:pt x="1419" y="265"/>
                    </a:lnTo>
                    <a:lnTo>
                      <a:pt x="1419" y="264"/>
                    </a:lnTo>
                    <a:lnTo>
                      <a:pt x="1597"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aphicFrame>
            <p:nvGraphicFramePr>
              <p:cNvPr id="405" name=""/>
              <p:cNvGraphicFramePr/>
              <p:nvPr/>
            </p:nvGraphicFramePr>
            <p:xfrm>
              <a:off x="8017200" y="1913040"/>
              <a:ext cx="241920" cy="565200"/>
            </p:xfrm>
            <a:graphic>
              <a:graphicData uri="http://schemas.openxmlformats.org/presentationml/2006/ole">
                <p:oleObj r:id="rId1" spid="">
                  <p:embed/>
                  <p:pic>
                    <p:nvPicPr>
                      <p:cNvPr id="406" name="" descr=""/>
                      <p:cNvPicPr/>
                      <p:nvPr/>
                    </p:nvPicPr>
                    <p:blipFill>
                      <a:blip r:embed="rId2"/>
                      <a:stretch/>
                    </p:blipFill>
                    <p:spPr>
                      <a:xfrm>
                        <a:off x="8017200" y="1913040"/>
                        <a:ext cx="241920" cy="565200"/>
                      </a:xfrm>
                      <a:prstGeom prst="rect">
                        <a:avLst/>
                      </a:prstGeom>
                      <a:ln w="0">
                        <a:noFill/>
                      </a:ln>
                    </p:spPr>
                  </p:pic>
                </p:oleObj>
              </a:graphicData>
            </a:graphic>
          </p:graphicFrame>
          <p:sp>
            <p:nvSpPr>
              <p:cNvPr id="407" name=""/>
              <p:cNvSpPr/>
              <p:nvPr/>
            </p:nvSpPr>
            <p:spPr>
              <a:xfrm>
                <a:off x="7606440" y="2435040"/>
                <a:ext cx="699840" cy="32724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4"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8" y="561"/>
                    </a:lnTo>
                    <a:lnTo>
                      <a:pt x="1333" y="518"/>
                    </a:lnTo>
                    <a:lnTo>
                      <a:pt x="1363" y="471"/>
                    </a:lnTo>
                    <a:lnTo>
                      <a:pt x="1387" y="423"/>
                    </a:lnTo>
                    <a:lnTo>
                      <a:pt x="1404" y="372"/>
                    </a:lnTo>
                    <a:lnTo>
                      <a:pt x="1415" y="320"/>
                    </a:lnTo>
                    <a:lnTo>
                      <a:pt x="1419" y="265"/>
                    </a:lnTo>
                    <a:lnTo>
                      <a:pt x="1419" y="264"/>
                    </a:lnTo>
                    <a:lnTo>
                      <a:pt x="1597" y="264"/>
                    </a:lnTo>
                    <a:lnTo>
                      <a:pt x="1242"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408" name="" descr=""/>
              <p:cNvPicPr/>
              <p:nvPr/>
            </p:nvPicPr>
            <p:blipFill>
              <a:blip r:embed="rId3"/>
              <a:stretch/>
            </p:blipFill>
            <p:spPr>
              <a:xfrm>
                <a:off x="5685120" y="2274840"/>
                <a:ext cx="688320" cy="150480"/>
              </a:xfrm>
              <a:prstGeom prst="rect">
                <a:avLst/>
              </a:prstGeom>
              <a:ln w="0">
                <a:noFill/>
              </a:ln>
            </p:spPr>
          </p:pic>
          <p:pic>
            <p:nvPicPr>
              <p:cNvPr id="409" name="" descr=""/>
              <p:cNvPicPr/>
              <p:nvPr/>
            </p:nvPicPr>
            <p:blipFill>
              <a:blip r:embed="rId4"/>
              <a:stretch/>
            </p:blipFill>
            <p:spPr>
              <a:xfrm>
                <a:off x="6444360" y="2289240"/>
                <a:ext cx="688320" cy="153000"/>
              </a:xfrm>
              <a:prstGeom prst="rect">
                <a:avLst/>
              </a:prstGeom>
              <a:ln w="0">
                <a:noFill/>
              </a:ln>
            </p:spPr>
          </p:pic>
          <p:pic>
            <p:nvPicPr>
              <p:cNvPr id="410" name="" descr=""/>
              <p:cNvPicPr/>
              <p:nvPr/>
            </p:nvPicPr>
            <p:blipFill>
              <a:blip r:embed="rId5"/>
              <a:stretch/>
            </p:blipFill>
            <p:spPr>
              <a:xfrm>
                <a:off x="7147080" y="2297520"/>
                <a:ext cx="685440" cy="153360"/>
              </a:xfrm>
              <a:prstGeom prst="rect">
                <a:avLst/>
              </a:prstGeom>
              <a:ln w="0">
                <a:noFill/>
              </a:ln>
            </p:spPr>
          </p:pic>
          <p:pic>
            <p:nvPicPr>
              <p:cNvPr id="411" name="" descr=""/>
              <p:cNvPicPr/>
              <p:nvPr/>
            </p:nvPicPr>
            <p:blipFill>
              <a:blip r:embed="rId6"/>
              <a:stretch/>
            </p:blipFill>
            <p:spPr>
              <a:xfrm>
                <a:off x="8365320" y="2289240"/>
                <a:ext cx="685440" cy="151920"/>
              </a:xfrm>
              <a:prstGeom prst="rect">
                <a:avLst/>
              </a:prstGeom>
              <a:ln w="0">
                <a:noFill/>
              </a:ln>
            </p:spPr>
          </p:pic>
        </p:grpSp>
        <p:sp>
          <p:nvSpPr>
            <p:cNvPr id="412" name=""/>
            <p:cNvSpPr/>
            <p:nvPr/>
          </p:nvSpPr>
          <p:spPr>
            <a:xfrm>
              <a:off x="4730400" y="1382760"/>
              <a:ext cx="2930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Before Remote Management SW</a:t>
              </a:r>
              <a:endParaRPr b="0" lang="en-US" sz="1400" spc="-1" strike="noStrike">
                <a:solidFill>
                  <a:srgbClr val="000000"/>
                </a:solidFill>
                <a:latin typeface="Futura Bk"/>
              </a:endParaRPr>
            </a:p>
          </p:txBody>
        </p:sp>
      </p:grpSp>
      <p:grpSp>
        <p:nvGrpSpPr>
          <p:cNvPr id="413" name=""/>
          <p:cNvGrpSpPr/>
          <p:nvPr/>
        </p:nvGrpSpPr>
        <p:grpSpPr>
          <a:xfrm>
            <a:off x="4665600" y="3460680"/>
            <a:ext cx="4477680" cy="1542960"/>
            <a:chOff x="4665600" y="3460680"/>
            <a:chExt cx="4477680" cy="1542960"/>
          </a:xfrm>
        </p:grpSpPr>
        <p:grpSp>
          <p:nvGrpSpPr>
            <p:cNvPr id="414" name=""/>
            <p:cNvGrpSpPr/>
            <p:nvPr/>
          </p:nvGrpSpPr>
          <p:grpSpPr>
            <a:xfrm>
              <a:off x="4665600" y="3730680"/>
              <a:ext cx="4477680" cy="1272960"/>
              <a:chOff x="4665600" y="3730680"/>
              <a:chExt cx="4477680" cy="1272960"/>
            </a:xfrm>
          </p:grpSpPr>
          <p:sp>
            <p:nvSpPr>
              <p:cNvPr id="415" name=""/>
              <p:cNvSpPr/>
              <p:nvPr/>
            </p:nvSpPr>
            <p:spPr>
              <a:xfrm>
                <a:off x="4665600" y="3730680"/>
                <a:ext cx="4477680" cy="127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16" name=""/>
              <p:cNvGrpSpPr/>
              <p:nvPr/>
            </p:nvGrpSpPr>
            <p:grpSpPr>
              <a:xfrm>
                <a:off x="4975200" y="3767040"/>
                <a:ext cx="3535920" cy="1184400"/>
                <a:chOff x="4975200" y="3767040"/>
                <a:chExt cx="3535920" cy="1184400"/>
              </a:xfrm>
            </p:grpSpPr>
            <p:sp>
              <p:nvSpPr>
                <p:cNvPr id="417" name=""/>
                <p:cNvSpPr/>
                <p:nvPr/>
              </p:nvSpPr>
              <p:spPr>
                <a:xfrm>
                  <a:off x="6930720" y="4040280"/>
                  <a:ext cx="474480" cy="250560"/>
                </a:xfrm>
                <a:custGeom>
                  <a:avLst/>
                  <a:gdLst/>
                  <a:ahLst/>
                  <a:rect l="l" t="t" r="r" b="b"/>
                  <a:pathLst>
                    <a:path w="987" h="538">
                      <a:moveTo>
                        <a:pt x="0" y="0"/>
                      </a:moveTo>
                      <a:lnTo>
                        <a:pt x="987" y="262"/>
                      </a:lnTo>
                      <a:lnTo>
                        <a:pt x="987" y="277"/>
                      </a:lnTo>
                      <a:lnTo>
                        <a:pt x="0" y="538"/>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18" name=""/>
                <p:cNvGrpSpPr/>
                <p:nvPr/>
              </p:nvGrpSpPr>
              <p:grpSpPr>
                <a:xfrm>
                  <a:off x="5582880" y="4248000"/>
                  <a:ext cx="1175400" cy="463320"/>
                  <a:chOff x="5582880" y="4248000"/>
                  <a:chExt cx="1175400" cy="463320"/>
                </a:xfrm>
              </p:grpSpPr>
              <p:sp>
                <p:nvSpPr>
                  <p:cNvPr id="419" name=""/>
                  <p:cNvSpPr/>
                  <p:nvPr/>
                </p:nvSpPr>
                <p:spPr>
                  <a:xfrm flipH="1">
                    <a:off x="5640840" y="4248000"/>
                    <a:ext cx="1117440" cy="43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0" name=""/>
                  <p:cNvSpPr/>
                  <p:nvPr/>
                </p:nvSpPr>
                <p:spPr>
                  <a:xfrm>
                    <a:off x="5582880" y="4662000"/>
                    <a:ext cx="75960" cy="49320"/>
                  </a:xfrm>
                  <a:custGeom>
                    <a:avLst/>
                    <a:gdLst/>
                    <a:ahLst/>
                    <a:rect l="l" t="t" r="r" b="b"/>
                    <a:pathLst>
                      <a:path w="132" h="107">
                        <a:moveTo>
                          <a:pt x="82" y="0"/>
                        </a:moveTo>
                        <a:lnTo>
                          <a:pt x="0" y="103"/>
                        </a:lnTo>
                        <a:lnTo>
                          <a:pt x="132" y="107"/>
                        </a:lnTo>
                        <a:lnTo>
                          <a:pt x="8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Futura Bk"/>
                    </a:endParaRPr>
                  </a:p>
                </p:txBody>
              </p:sp>
            </p:grpSp>
            <p:grpSp>
              <p:nvGrpSpPr>
                <p:cNvPr id="421" name=""/>
                <p:cNvGrpSpPr/>
                <p:nvPr/>
              </p:nvGrpSpPr>
              <p:grpSpPr>
                <a:xfrm>
                  <a:off x="6457320" y="4290840"/>
                  <a:ext cx="301320" cy="419040"/>
                  <a:chOff x="6457320" y="4290840"/>
                  <a:chExt cx="301320" cy="419040"/>
                </a:xfrm>
              </p:grpSpPr>
              <p:sp>
                <p:nvSpPr>
                  <p:cNvPr id="422" name=""/>
                  <p:cNvSpPr/>
                  <p:nvPr/>
                </p:nvSpPr>
                <p:spPr>
                  <a:xfrm flipH="1">
                    <a:off x="6487920" y="4290840"/>
                    <a:ext cx="27072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3" name=""/>
                  <p:cNvSpPr/>
                  <p:nvPr/>
                </p:nvSpPr>
                <p:spPr>
                  <a:xfrm>
                    <a:off x="6457320" y="4650480"/>
                    <a:ext cx="56520" cy="59400"/>
                  </a:xfrm>
                  <a:custGeom>
                    <a:avLst/>
                    <a:gdLst/>
                    <a:ahLst/>
                    <a:rect l="l" t="t" r="r" b="b"/>
                    <a:pathLst>
                      <a:path w="118" h="129">
                        <a:moveTo>
                          <a:pt x="21" y="0"/>
                        </a:moveTo>
                        <a:lnTo>
                          <a:pt x="0" y="129"/>
                        </a:lnTo>
                        <a:lnTo>
                          <a:pt x="118" y="68"/>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Futura Bk"/>
                    </a:endParaRPr>
                  </a:p>
                </p:txBody>
              </p:sp>
            </p:grpSp>
            <p:grpSp>
              <p:nvGrpSpPr>
                <p:cNvPr id="424" name=""/>
                <p:cNvGrpSpPr/>
                <p:nvPr/>
              </p:nvGrpSpPr>
              <p:grpSpPr>
                <a:xfrm>
                  <a:off x="6845760" y="4290840"/>
                  <a:ext cx="102960" cy="419040"/>
                  <a:chOff x="6845760" y="4290840"/>
                  <a:chExt cx="102960" cy="419040"/>
                </a:xfrm>
              </p:grpSpPr>
              <p:sp>
                <p:nvSpPr>
                  <p:cNvPr id="425" name=""/>
                  <p:cNvSpPr/>
                  <p:nvPr/>
                </p:nvSpPr>
                <p:spPr>
                  <a:xfrm>
                    <a:off x="6845760" y="4290840"/>
                    <a:ext cx="74880" cy="36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6" name=""/>
                  <p:cNvSpPr/>
                  <p:nvPr/>
                </p:nvSpPr>
                <p:spPr>
                  <a:xfrm>
                    <a:off x="6892920" y="4651200"/>
                    <a:ext cx="55800" cy="58680"/>
                  </a:xfrm>
                  <a:custGeom>
                    <a:avLst/>
                    <a:gdLst/>
                    <a:ahLst/>
                    <a:rect l="l" t="t" r="r" b="b"/>
                    <a:pathLst>
                      <a:path w="116" h="125">
                        <a:moveTo>
                          <a:pt x="0" y="22"/>
                        </a:moveTo>
                        <a:lnTo>
                          <a:pt x="80" y="125"/>
                        </a:lnTo>
                        <a:lnTo>
                          <a:pt x="116"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Futura Bk"/>
                    </a:endParaRPr>
                  </a:p>
                </p:txBody>
              </p:sp>
            </p:grpSp>
            <p:grpSp>
              <p:nvGrpSpPr>
                <p:cNvPr id="427" name=""/>
                <p:cNvGrpSpPr/>
                <p:nvPr/>
              </p:nvGrpSpPr>
              <p:grpSpPr>
                <a:xfrm>
                  <a:off x="6889320" y="4290840"/>
                  <a:ext cx="644400" cy="419400"/>
                  <a:chOff x="6889320" y="4290840"/>
                  <a:chExt cx="644400" cy="419400"/>
                </a:xfrm>
              </p:grpSpPr>
              <p:sp>
                <p:nvSpPr>
                  <p:cNvPr id="428" name=""/>
                  <p:cNvSpPr/>
                  <p:nvPr/>
                </p:nvSpPr>
                <p:spPr>
                  <a:xfrm>
                    <a:off x="6889320" y="4290840"/>
                    <a:ext cx="59940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9" name=""/>
                  <p:cNvSpPr/>
                  <p:nvPr/>
                </p:nvSpPr>
                <p:spPr>
                  <a:xfrm>
                    <a:off x="7471440" y="4658040"/>
                    <a:ext cx="62280" cy="52200"/>
                  </a:xfrm>
                  <a:custGeom>
                    <a:avLst/>
                    <a:gdLst/>
                    <a:ahLst/>
                    <a:rect l="l" t="t" r="r" b="b"/>
                    <a:pathLst>
                      <a:path w="129" h="112">
                        <a:moveTo>
                          <a:pt x="0" y="97"/>
                        </a:moveTo>
                        <a:lnTo>
                          <a:pt x="129" y="112"/>
                        </a:lnTo>
                        <a:lnTo>
                          <a:pt x="63" y="0"/>
                        </a:lnTo>
                        <a:lnTo>
                          <a:pt x="0"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Futura Bk"/>
                    </a:endParaRPr>
                  </a:p>
                </p:txBody>
              </p:sp>
            </p:grpSp>
            <p:grpSp>
              <p:nvGrpSpPr>
                <p:cNvPr id="430" name=""/>
                <p:cNvGrpSpPr/>
                <p:nvPr/>
              </p:nvGrpSpPr>
              <p:grpSpPr>
                <a:xfrm>
                  <a:off x="6930720" y="4248000"/>
                  <a:ext cx="1292760" cy="469800"/>
                  <a:chOff x="6930720" y="4248000"/>
                  <a:chExt cx="1292760" cy="469800"/>
                </a:xfrm>
              </p:grpSpPr>
              <p:sp>
                <p:nvSpPr>
                  <p:cNvPr id="431" name=""/>
                  <p:cNvSpPr/>
                  <p:nvPr/>
                </p:nvSpPr>
                <p:spPr>
                  <a:xfrm>
                    <a:off x="6930720" y="4248000"/>
                    <a:ext cx="12420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2" name=""/>
                  <p:cNvSpPr/>
                  <p:nvPr/>
                </p:nvSpPr>
                <p:spPr>
                  <a:xfrm>
                    <a:off x="8161200" y="4664520"/>
                    <a:ext cx="62280" cy="53280"/>
                  </a:xfrm>
                  <a:custGeom>
                    <a:avLst/>
                    <a:gdLst/>
                    <a:ahLst/>
                    <a:rect l="l" t="t" r="r" b="b"/>
                    <a:pathLst>
                      <a:path w="129" h="112">
                        <a:moveTo>
                          <a:pt x="0" y="112"/>
                        </a:moveTo>
                        <a:lnTo>
                          <a:pt x="129" y="95"/>
                        </a:lnTo>
                        <a:lnTo>
                          <a:pt x="39" y="0"/>
                        </a:lnTo>
                        <a:lnTo>
                          <a:pt x="0" y="11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Futura Bk"/>
                    </a:endParaRPr>
                  </a:p>
                </p:txBody>
              </p:sp>
            </p:grpSp>
            <p:grpSp>
              <p:nvGrpSpPr>
                <p:cNvPr id="433" name=""/>
                <p:cNvGrpSpPr/>
                <p:nvPr/>
              </p:nvGrpSpPr>
              <p:grpSpPr>
                <a:xfrm>
                  <a:off x="6715800" y="3992400"/>
                  <a:ext cx="342000" cy="408240"/>
                  <a:chOff x="6715800" y="3992400"/>
                  <a:chExt cx="342000" cy="408240"/>
                </a:xfrm>
              </p:grpSpPr>
              <p:pic>
                <p:nvPicPr>
                  <p:cNvPr id="434" name="" descr=""/>
                  <p:cNvPicPr/>
                  <p:nvPr/>
                </p:nvPicPr>
                <p:blipFill>
                  <a:blip r:embed="rId7"/>
                  <a:stretch/>
                </p:blipFill>
                <p:spPr>
                  <a:xfrm>
                    <a:off x="6715800" y="3992400"/>
                    <a:ext cx="342000" cy="408240"/>
                  </a:xfrm>
                  <a:prstGeom prst="rect">
                    <a:avLst/>
                  </a:prstGeom>
                  <a:ln w="0">
                    <a:noFill/>
                  </a:ln>
                </p:spPr>
              </p:pic>
              <p:pic>
                <p:nvPicPr>
                  <p:cNvPr id="435" name="" descr=""/>
                  <p:cNvPicPr/>
                  <p:nvPr/>
                </p:nvPicPr>
                <p:blipFill>
                  <a:blip r:embed="rId8"/>
                  <a:stretch/>
                </p:blipFill>
                <p:spPr>
                  <a:xfrm>
                    <a:off x="6715800" y="3992400"/>
                    <a:ext cx="342000" cy="408240"/>
                  </a:xfrm>
                  <a:prstGeom prst="rect">
                    <a:avLst/>
                  </a:prstGeom>
                  <a:ln w="0">
                    <a:noFill/>
                  </a:ln>
                </p:spPr>
              </p:pic>
            </p:grpSp>
            <p:grpSp>
              <p:nvGrpSpPr>
                <p:cNvPr id="436" name=""/>
                <p:cNvGrpSpPr/>
                <p:nvPr/>
              </p:nvGrpSpPr>
              <p:grpSpPr>
                <a:xfrm>
                  <a:off x="5265360" y="4591080"/>
                  <a:ext cx="277560" cy="195120"/>
                  <a:chOff x="5265360" y="4591080"/>
                  <a:chExt cx="277560" cy="195120"/>
                </a:xfrm>
              </p:grpSpPr>
              <p:grpSp>
                <p:nvGrpSpPr>
                  <p:cNvPr id="437" name=""/>
                  <p:cNvGrpSpPr/>
                  <p:nvPr/>
                </p:nvGrpSpPr>
                <p:grpSpPr>
                  <a:xfrm>
                    <a:off x="5265360" y="4591080"/>
                    <a:ext cx="277560" cy="195120"/>
                    <a:chOff x="5265360" y="4591080"/>
                    <a:chExt cx="277560" cy="195120"/>
                  </a:xfrm>
                </p:grpSpPr>
                <p:sp>
                  <p:nvSpPr>
                    <p:cNvPr id="438" name=""/>
                    <p:cNvSpPr/>
                    <p:nvPr/>
                  </p:nvSpPr>
                  <p:spPr>
                    <a:xfrm>
                      <a:off x="5290200" y="471636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39" name=""/>
                    <p:cNvSpPr/>
                    <p:nvPr/>
                  </p:nvSpPr>
                  <p:spPr>
                    <a:xfrm>
                      <a:off x="5290200" y="470772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0" name=""/>
                    <p:cNvSpPr/>
                    <p:nvPr/>
                  </p:nvSpPr>
                  <p:spPr>
                    <a:xfrm>
                      <a:off x="5328720" y="467496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41" name=""/>
                    <p:cNvSpPr/>
                    <p:nvPr/>
                  </p:nvSpPr>
                  <p:spPr>
                    <a:xfrm>
                      <a:off x="5362200" y="469908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42" name=""/>
                    <p:cNvSpPr/>
                    <p:nvPr/>
                  </p:nvSpPr>
                  <p:spPr>
                    <a:xfrm>
                      <a:off x="5274000" y="459108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43" name=""/>
                    <p:cNvSpPr/>
                    <p:nvPr/>
                  </p:nvSpPr>
                  <p:spPr>
                    <a:xfrm>
                      <a:off x="5297760" y="460764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44" name=""/>
                    <p:cNvSpPr/>
                    <p:nvPr/>
                  </p:nvSpPr>
                  <p:spPr>
                    <a:xfrm>
                      <a:off x="5314320" y="462096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45" name=""/>
                    <p:cNvSpPr/>
                    <p:nvPr/>
                  </p:nvSpPr>
                  <p:spPr>
                    <a:xfrm>
                      <a:off x="5313240" y="462096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46" name=""/>
                    <p:cNvSpPr/>
                    <p:nvPr/>
                  </p:nvSpPr>
                  <p:spPr>
                    <a:xfrm>
                      <a:off x="5322960" y="462744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47" name=""/>
                    <p:cNvGrpSpPr/>
                    <p:nvPr/>
                  </p:nvGrpSpPr>
                  <p:grpSpPr>
                    <a:xfrm>
                      <a:off x="5265360" y="4748040"/>
                      <a:ext cx="277560" cy="38160"/>
                      <a:chOff x="5265360" y="4748040"/>
                      <a:chExt cx="277560" cy="38160"/>
                    </a:xfrm>
                  </p:grpSpPr>
                  <p:sp>
                    <p:nvSpPr>
                      <p:cNvPr id="448" name=""/>
                      <p:cNvSpPr/>
                      <p:nvPr/>
                    </p:nvSpPr>
                    <p:spPr>
                      <a:xfrm>
                        <a:off x="5265360" y="474804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49" name=""/>
                      <p:cNvSpPr/>
                      <p:nvPr/>
                    </p:nvSpPr>
                    <p:spPr>
                      <a:xfrm>
                        <a:off x="5265360" y="474804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50" name=""/>
                      <p:cNvSpPr/>
                      <p:nvPr/>
                    </p:nvSpPr>
                    <p:spPr>
                      <a:xfrm>
                        <a:off x="5297760" y="47779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51" name=""/>
                    <p:cNvSpPr/>
                    <p:nvPr/>
                  </p:nvSpPr>
                  <p:spPr>
                    <a:xfrm>
                      <a:off x="5274000" y="459108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52" name=""/>
                  <p:cNvGrpSpPr/>
                  <p:nvPr/>
                </p:nvGrpSpPr>
                <p:grpSpPr>
                  <a:xfrm>
                    <a:off x="5265360" y="4591080"/>
                    <a:ext cx="277560" cy="195120"/>
                    <a:chOff x="5265360" y="4591080"/>
                    <a:chExt cx="277560" cy="195120"/>
                  </a:xfrm>
                </p:grpSpPr>
                <p:sp>
                  <p:nvSpPr>
                    <p:cNvPr id="453" name=""/>
                    <p:cNvSpPr/>
                    <p:nvPr/>
                  </p:nvSpPr>
                  <p:spPr>
                    <a:xfrm>
                      <a:off x="5290200" y="471636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4" name=""/>
                    <p:cNvSpPr/>
                    <p:nvPr/>
                  </p:nvSpPr>
                  <p:spPr>
                    <a:xfrm>
                      <a:off x="5290200" y="470772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5" name=""/>
                    <p:cNvSpPr/>
                    <p:nvPr/>
                  </p:nvSpPr>
                  <p:spPr>
                    <a:xfrm>
                      <a:off x="5328720" y="467496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56" name=""/>
                    <p:cNvSpPr/>
                    <p:nvPr/>
                  </p:nvSpPr>
                  <p:spPr>
                    <a:xfrm>
                      <a:off x="5362200" y="469908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57" name=""/>
                    <p:cNvSpPr/>
                    <p:nvPr/>
                  </p:nvSpPr>
                  <p:spPr>
                    <a:xfrm>
                      <a:off x="5274000" y="459108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58" name=""/>
                    <p:cNvSpPr/>
                    <p:nvPr/>
                  </p:nvSpPr>
                  <p:spPr>
                    <a:xfrm>
                      <a:off x="5297760" y="460764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59" name=""/>
                    <p:cNvSpPr/>
                    <p:nvPr/>
                  </p:nvSpPr>
                  <p:spPr>
                    <a:xfrm>
                      <a:off x="5314320" y="462096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60" name=""/>
                    <p:cNvSpPr/>
                    <p:nvPr/>
                  </p:nvSpPr>
                  <p:spPr>
                    <a:xfrm>
                      <a:off x="5313240" y="462096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61" name=""/>
                    <p:cNvSpPr/>
                    <p:nvPr/>
                  </p:nvSpPr>
                  <p:spPr>
                    <a:xfrm>
                      <a:off x="5322960" y="462744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62" name=""/>
                    <p:cNvGrpSpPr/>
                    <p:nvPr/>
                  </p:nvGrpSpPr>
                  <p:grpSpPr>
                    <a:xfrm>
                      <a:off x="5265360" y="4748040"/>
                      <a:ext cx="277560" cy="38160"/>
                      <a:chOff x="5265360" y="4748040"/>
                      <a:chExt cx="277560" cy="38160"/>
                    </a:xfrm>
                  </p:grpSpPr>
                  <p:sp>
                    <p:nvSpPr>
                      <p:cNvPr id="463" name=""/>
                      <p:cNvSpPr/>
                      <p:nvPr/>
                    </p:nvSpPr>
                    <p:spPr>
                      <a:xfrm>
                        <a:off x="5265360" y="474804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64" name=""/>
                      <p:cNvSpPr/>
                      <p:nvPr/>
                    </p:nvSpPr>
                    <p:spPr>
                      <a:xfrm>
                        <a:off x="5265360" y="474804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65" name=""/>
                      <p:cNvSpPr/>
                      <p:nvPr/>
                    </p:nvSpPr>
                    <p:spPr>
                      <a:xfrm>
                        <a:off x="5297760" y="47779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66" name=""/>
                    <p:cNvSpPr/>
                    <p:nvPr/>
                  </p:nvSpPr>
                  <p:spPr>
                    <a:xfrm>
                      <a:off x="5274000" y="459108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67" name=""/>
                <p:cNvGrpSpPr/>
                <p:nvPr/>
              </p:nvGrpSpPr>
              <p:grpSpPr>
                <a:xfrm>
                  <a:off x="7564680" y="4579920"/>
                  <a:ext cx="277560" cy="193680"/>
                  <a:chOff x="7564680" y="4579920"/>
                  <a:chExt cx="277560" cy="193680"/>
                </a:xfrm>
              </p:grpSpPr>
              <p:grpSp>
                <p:nvGrpSpPr>
                  <p:cNvPr id="468" name=""/>
                  <p:cNvGrpSpPr/>
                  <p:nvPr/>
                </p:nvGrpSpPr>
                <p:grpSpPr>
                  <a:xfrm>
                    <a:off x="7564680" y="4579920"/>
                    <a:ext cx="277560" cy="193680"/>
                    <a:chOff x="7564680" y="4579920"/>
                    <a:chExt cx="277560" cy="193680"/>
                  </a:xfrm>
                </p:grpSpPr>
                <p:sp>
                  <p:nvSpPr>
                    <p:cNvPr id="469" name=""/>
                    <p:cNvSpPr/>
                    <p:nvPr/>
                  </p:nvSpPr>
                  <p:spPr>
                    <a:xfrm>
                      <a:off x="7590240" y="470412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70" name=""/>
                    <p:cNvSpPr/>
                    <p:nvPr/>
                  </p:nvSpPr>
                  <p:spPr>
                    <a:xfrm>
                      <a:off x="7590240" y="469584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71" name=""/>
                    <p:cNvSpPr/>
                    <p:nvPr/>
                  </p:nvSpPr>
                  <p:spPr>
                    <a:xfrm>
                      <a:off x="762876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72" name=""/>
                    <p:cNvSpPr/>
                    <p:nvPr/>
                  </p:nvSpPr>
                  <p:spPr>
                    <a:xfrm>
                      <a:off x="7662240" y="468720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73" name=""/>
                    <p:cNvSpPr/>
                    <p:nvPr/>
                  </p:nvSpPr>
                  <p:spPr>
                    <a:xfrm>
                      <a:off x="7572960" y="457992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74" name=""/>
                    <p:cNvSpPr/>
                    <p:nvPr/>
                  </p:nvSpPr>
                  <p:spPr>
                    <a:xfrm>
                      <a:off x="7597080" y="459648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5" name=""/>
                    <p:cNvSpPr/>
                    <p:nvPr/>
                  </p:nvSpPr>
                  <p:spPr>
                    <a:xfrm>
                      <a:off x="7613280" y="460944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76" name=""/>
                    <p:cNvSpPr/>
                    <p:nvPr/>
                  </p:nvSpPr>
                  <p:spPr>
                    <a:xfrm>
                      <a:off x="7612200" y="460944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77" name=""/>
                    <p:cNvSpPr/>
                    <p:nvPr/>
                  </p:nvSpPr>
                  <p:spPr>
                    <a:xfrm>
                      <a:off x="7623000" y="461592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78" name=""/>
                    <p:cNvGrpSpPr/>
                    <p:nvPr/>
                  </p:nvGrpSpPr>
                  <p:grpSpPr>
                    <a:xfrm>
                      <a:off x="7564680" y="4735800"/>
                      <a:ext cx="277560" cy="37800"/>
                      <a:chOff x="7564680" y="4735800"/>
                      <a:chExt cx="277560" cy="37800"/>
                    </a:xfrm>
                  </p:grpSpPr>
                  <p:sp>
                    <p:nvSpPr>
                      <p:cNvPr id="479" name=""/>
                      <p:cNvSpPr/>
                      <p:nvPr/>
                    </p:nvSpPr>
                    <p:spPr>
                      <a:xfrm>
                        <a:off x="7564680" y="473580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80" name=""/>
                      <p:cNvSpPr/>
                      <p:nvPr/>
                    </p:nvSpPr>
                    <p:spPr>
                      <a:xfrm>
                        <a:off x="7564680" y="473580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81" name=""/>
                      <p:cNvSpPr/>
                      <p:nvPr/>
                    </p:nvSpPr>
                    <p:spPr>
                      <a:xfrm>
                        <a:off x="7597080" y="47653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82" name=""/>
                    <p:cNvSpPr/>
                    <p:nvPr/>
                  </p:nvSpPr>
                  <p:spPr>
                    <a:xfrm>
                      <a:off x="7572960" y="457992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83" name=""/>
                  <p:cNvGrpSpPr/>
                  <p:nvPr/>
                </p:nvGrpSpPr>
                <p:grpSpPr>
                  <a:xfrm>
                    <a:off x="7564680" y="4579920"/>
                    <a:ext cx="277560" cy="193680"/>
                    <a:chOff x="7564680" y="4579920"/>
                    <a:chExt cx="277560" cy="193680"/>
                  </a:xfrm>
                </p:grpSpPr>
                <p:sp>
                  <p:nvSpPr>
                    <p:cNvPr id="484" name=""/>
                    <p:cNvSpPr/>
                    <p:nvPr/>
                  </p:nvSpPr>
                  <p:spPr>
                    <a:xfrm>
                      <a:off x="7590240" y="470412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85" name=""/>
                    <p:cNvSpPr/>
                    <p:nvPr/>
                  </p:nvSpPr>
                  <p:spPr>
                    <a:xfrm>
                      <a:off x="7590240" y="469584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86" name=""/>
                    <p:cNvSpPr/>
                    <p:nvPr/>
                  </p:nvSpPr>
                  <p:spPr>
                    <a:xfrm>
                      <a:off x="762876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87" name=""/>
                    <p:cNvSpPr/>
                    <p:nvPr/>
                  </p:nvSpPr>
                  <p:spPr>
                    <a:xfrm>
                      <a:off x="7662240" y="468720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88" name=""/>
                    <p:cNvSpPr/>
                    <p:nvPr/>
                  </p:nvSpPr>
                  <p:spPr>
                    <a:xfrm>
                      <a:off x="7572960" y="457992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89" name=""/>
                    <p:cNvSpPr/>
                    <p:nvPr/>
                  </p:nvSpPr>
                  <p:spPr>
                    <a:xfrm>
                      <a:off x="7597080" y="459648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0" name=""/>
                    <p:cNvSpPr/>
                    <p:nvPr/>
                  </p:nvSpPr>
                  <p:spPr>
                    <a:xfrm>
                      <a:off x="7613280" y="460944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91" name=""/>
                    <p:cNvSpPr/>
                    <p:nvPr/>
                  </p:nvSpPr>
                  <p:spPr>
                    <a:xfrm>
                      <a:off x="7612200" y="460944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92" name=""/>
                    <p:cNvSpPr/>
                    <p:nvPr/>
                  </p:nvSpPr>
                  <p:spPr>
                    <a:xfrm>
                      <a:off x="7623000" y="461592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93" name=""/>
                    <p:cNvGrpSpPr/>
                    <p:nvPr/>
                  </p:nvGrpSpPr>
                  <p:grpSpPr>
                    <a:xfrm>
                      <a:off x="7564680" y="4735800"/>
                      <a:ext cx="277560" cy="37800"/>
                      <a:chOff x="7564680" y="4735800"/>
                      <a:chExt cx="277560" cy="37800"/>
                    </a:xfrm>
                  </p:grpSpPr>
                  <p:sp>
                    <p:nvSpPr>
                      <p:cNvPr id="494" name=""/>
                      <p:cNvSpPr/>
                      <p:nvPr/>
                    </p:nvSpPr>
                    <p:spPr>
                      <a:xfrm>
                        <a:off x="7564680" y="473580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95" name=""/>
                      <p:cNvSpPr/>
                      <p:nvPr/>
                    </p:nvSpPr>
                    <p:spPr>
                      <a:xfrm>
                        <a:off x="7564680" y="473580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96" name=""/>
                      <p:cNvSpPr/>
                      <p:nvPr/>
                    </p:nvSpPr>
                    <p:spPr>
                      <a:xfrm>
                        <a:off x="7597080" y="47653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97" name=""/>
                    <p:cNvSpPr/>
                    <p:nvPr/>
                  </p:nvSpPr>
                  <p:spPr>
                    <a:xfrm>
                      <a:off x="7572960" y="457992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98" name=""/>
                <p:cNvGrpSpPr/>
                <p:nvPr/>
              </p:nvGrpSpPr>
              <p:grpSpPr>
                <a:xfrm>
                  <a:off x="6962760" y="4579920"/>
                  <a:ext cx="279360" cy="193680"/>
                  <a:chOff x="6962760" y="4579920"/>
                  <a:chExt cx="279360" cy="193680"/>
                </a:xfrm>
              </p:grpSpPr>
              <p:grpSp>
                <p:nvGrpSpPr>
                  <p:cNvPr id="499" name=""/>
                  <p:cNvGrpSpPr/>
                  <p:nvPr/>
                </p:nvGrpSpPr>
                <p:grpSpPr>
                  <a:xfrm>
                    <a:off x="6962760" y="4579920"/>
                    <a:ext cx="279360" cy="193680"/>
                    <a:chOff x="6962760" y="4579920"/>
                    <a:chExt cx="279360" cy="193680"/>
                  </a:xfrm>
                </p:grpSpPr>
                <p:sp>
                  <p:nvSpPr>
                    <p:cNvPr id="500" name=""/>
                    <p:cNvSpPr/>
                    <p:nvPr/>
                  </p:nvSpPr>
                  <p:spPr>
                    <a:xfrm>
                      <a:off x="6987600" y="470412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01" name=""/>
                    <p:cNvSpPr/>
                    <p:nvPr/>
                  </p:nvSpPr>
                  <p:spPr>
                    <a:xfrm>
                      <a:off x="6987600" y="469584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02" name=""/>
                    <p:cNvSpPr/>
                    <p:nvPr/>
                  </p:nvSpPr>
                  <p:spPr>
                    <a:xfrm>
                      <a:off x="702720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03" name=""/>
                    <p:cNvSpPr/>
                    <p:nvPr/>
                  </p:nvSpPr>
                  <p:spPr>
                    <a:xfrm>
                      <a:off x="7061040" y="468720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04" name=""/>
                    <p:cNvSpPr/>
                    <p:nvPr/>
                  </p:nvSpPr>
                  <p:spPr>
                    <a:xfrm>
                      <a:off x="6971400" y="457992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05" name=""/>
                    <p:cNvSpPr/>
                    <p:nvPr/>
                  </p:nvSpPr>
                  <p:spPr>
                    <a:xfrm>
                      <a:off x="6995520" y="459648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6" name=""/>
                    <p:cNvSpPr/>
                    <p:nvPr/>
                  </p:nvSpPr>
                  <p:spPr>
                    <a:xfrm>
                      <a:off x="7011720" y="460944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07" name=""/>
                    <p:cNvSpPr/>
                    <p:nvPr/>
                  </p:nvSpPr>
                  <p:spPr>
                    <a:xfrm>
                      <a:off x="7011000" y="460944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08" name=""/>
                    <p:cNvSpPr/>
                    <p:nvPr/>
                  </p:nvSpPr>
                  <p:spPr>
                    <a:xfrm>
                      <a:off x="7021440" y="461592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09" name=""/>
                    <p:cNvGrpSpPr/>
                    <p:nvPr/>
                  </p:nvGrpSpPr>
                  <p:grpSpPr>
                    <a:xfrm>
                      <a:off x="6962760" y="4735800"/>
                      <a:ext cx="279360" cy="37800"/>
                      <a:chOff x="6962760" y="4735800"/>
                      <a:chExt cx="279360" cy="37800"/>
                    </a:xfrm>
                  </p:grpSpPr>
                  <p:sp>
                    <p:nvSpPr>
                      <p:cNvPr id="510" name=""/>
                      <p:cNvSpPr/>
                      <p:nvPr/>
                    </p:nvSpPr>
                    <p:spPr>
                      <a:xfrm>
                        <a:off x="6962760" y="473580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11" name=""/>
                      <p:cNvSpPr/>
                      <p:nvPr/>
                    </p:nvSpPr>
                    <p:spPr>
                      <a:xfrm>
                        <a:off x="6962760" y="473580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12" name=""/>
                      <p:cNvSpPr/>
                      <p:nvPr/>
                    </p:nvSpPr>
                    <p:spPr>
                      <a:xfrm>
                        <a:off x="6995520" y="476532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13" name=""/>
                    <p:cNvSpPr/>
                    <p:nvPr/>
                  </p:nvSpPr>
                  <p:spPr>
                    <a:xfrm>
                      <a:off x="6971400" y="457992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14" name=""/>
                  <p:cNvGrpSpPr/>
                  <p:nvPr/>
                </p:nvGrpSpPr>
                <p:grpSpPr>
                  <a:xfrm>
                    <a:off x="6962760" y="4579920"/>
                    <a:ext cx="279360" cy="193680"/>
                    <a:chOff x="6962760" y="4579920"/>
                    <a:chExt cx="279360" cy="193680"/>
                  </a:xfrm>
                </p:grpSpPr>
                <p:sp>
                  <p:nvSpPr>
                    <p:cNvPr id="515" name=""/>
                    <p:cNvSpPr/>
                    <p:nvPr/>
                  </p:nvSpPr>
                  <p:spPr>
                    <a:xfrm>
                      <a:off x="6987600" y="470412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16" name=""/>
                    <p:cNvSpPr/>
                    <p:nvPr/>
                  </p:nvSpPr>
                  <p:spPr>
                    <a:xfrm>
                      <a:off x="6987600" y="469584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17" name=""/>
                    <p:cNvSpPr/>
                    <p:nvPr/>
                  </p:nvSpPr>
                  <p:spPr>
                    <a:xfrm>
                      <a:off x="702720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18" name=""/>
                    <p:cNvSpPr/>
                    <p:nvPr/>
                  </p:nvSpPr>
                  <p:spPr>
                    <a:xfrm>
                      <a:off x="7061040" y="468720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19" name=""/>
                    <p:cNvSpPr/>
                    <p:nvPr/>
                  </p:nvSpPr>
                  <p:spPr>
                    <a:xfrm>
                      <a:off x="6971400" y="457992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20" name=""/>
                    <p:cNvSpPr/>
                    <p:nvPr/>
                  </p:nvSpPr>
                  <p:spPr>
                    <a:xfrm>
                      <a:off x="6995520" y="459648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21" name=""/>
                    <p:cNvSpPr/>
                    <p:nvPr/>
                  </p:nvSpPr>
                  <p:spPr>
                    <a:xfrm>
                      <a:off x="7011720" y="460944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22" name=""/>
                    <p:cNvSpPr/>
                    <p:nvPr/>
                  </p:nvSpPr>
                  <p:spPr>
                    <a:xfrm>
                      <a:off x="7011000" y="460944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23" name=""/>
                    <p:cNvSpPr/>
                    <p:nvPr/>
                  </p:nvSpPr>
                  <p:spPr>
                    <a:xfrm>
                      <a:off x="7021440" y="461592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24" name=""/>
                    <p:cNvGrpSpPr/>
                    <p:nvPr/>
                  </p:nvGrpSpPr>
                  <p:grpSpPr>
                    <a:xfrm>
                      <a:off x="6962760" y="4735800"/>
                      <a:ext cx="279360" cy="37800"/>
                      <a:chOff x="6962760" y="4735800"/>
                      <a:chExt cx="279360" cy="37800"/>
                    </a:xfrm>
                  </p:grpSpPr>
                  <p:sp>
                    <p:nvSpPr>
                      <p:cNvPr id="525" name=""/>
                      <p:cNvSpPr/>
                      <p:nvPr/>
                    </p:nvSpPr>
                    <p:spPr>
                      <a:xfrm>
                        <a:off x="6962760" y="473580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26" name=""/>
                      <p:cNvSpPr/>
                      <p:nvPr/>
                    </p:nvSpPr>
                    <p:spPr>
                      <a:xfrm>
                        <a:off x="6962760" y="473580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27" name=""/>
                      <p:cNvSpPr/>
                      <p:nvPr/>
                    </p:nvSpPr>
                    <p:spPr>
                      <a:xfrm>
                        <a:off x="6995520" y="476532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28" name=""/>
                    <p:cNvSpPr/>
                    <p:nvPr/>
                  </p:nvSpPr>
                  <p:spPr>
                    <a:xfrm>
                      <a:off x="6971400" y="457992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aphicFrame>
              <p:nvGraphicFramePr>
                <p:cNvPr id="529" name=""/>
                <p:cNvGraphicFramePr/>
                <p:nvPr/>
              </p:nvGraphicFramePr>
              <p:xfrm>
                <a:off x="7396200" y="3767040"/>
                <a:ext cx="264600" cy="641520"/>
              </p:xfrm>
              <a:graphic>
                <a:graphicData uri="http://schemas.openxmlformats.org/presentationml/2006/ole">
                  <p:oleObj r:id="rId9" spid="">
                    <p:embed/>
                    <p:pic>
                      <p:nvPicPr>
                        <p:cNvPr id="530" name="" descr=""/>
                        <p:cNvPicPr/>
                        <p:nvPr/>
                      </p:nvPicPr>
                      <p:blipFill>
                        <a:blip r:embed="rId10"/>
                        <a:stretch/>
                      </p:blipFill>
                      <p:spPr>
                        <a:xfrm>
                          <a:off x="7396200" y="3767040"/>
                          <a:ext cx="264600" cy="641520"/>
                        </a:xfrm>
                        <a:prstGeom prst="rect">
                          <a:avLst/>
                        </a:prstGeom>
                        <a:ln w="0">
                          <a:noFill/>
                        </a:ln>
                      </p:spPr>
                    </p:pic>
                  </p:oleObj>
                </a:graphicData>
              </a:graphic>
            </p:graphicFrame>
            <p:graphicFrame>
              <p:nvGraphicFramePr>
                <p:cNvPr id="531" name=""/>
                <p:cNvGraphicFramePr/>
                <p:nvPr/>
              </p:nvGraphicFramePr>
              <p:xfrm>
                <a:off x="8246520" y="4262400"/>
                <a:ext cx="264600" cy="641520"/>
              </p:xfrm>
              <a:graphic>
                <a:graphicData uri="http://schemas.openxmlformats.org/presentationml/2006/ole">
                  <p:oleObj r:id="rId11" spid="">
                    <p:embed/>
                    <p:pic>
                      <p:nvPicPr>
                        <p:cNvPr id="532" name="" descr=""/>
                        <p:cNvPicPr/>
                        <p:nvPr/>
                      </p:nvPicPr>
                      <p:blipFill>
                        <a:blip r:embed="rId12"/>
                        <a:stretch/>
                      </p:blipFill>
                      <p:spPr>
                        <a:xfrm>
                          <a:off x="8246520" y="4262400"/>
                          <a:ext cx="264600" cy="641520"/>
                        </a:xfrm>
                        <a:prstGeom prst="rect">
                          <a:avLst/>
                        </a:prstGeom>
                        <a:ln w="0">
                          <a:noFill/>
                        </a:ln>
                      </p:spPr>
                    </p:pic>
                  </p:oleObj>
                </a:graphicData>
              </a:graphic>
            </p:graphicFrame>
            <p:pic>
              <p:nvPicPr>
                <p:cNvPr id="533" name="" descr=""/>
                <p:cNvPicPr/>
                <p:nvPr/>
              </p:nvPicPr>
              <p:blipFill>
                <a:blip r:embed="rId13"/>
                <a:stretch/>
              </p:blipFill>
              <p:spPr>
                <a:xfrm>
                  <a:off x="4975200" y="4778280"/>
                  <a:ext cx="752400" cy="173160"/>
                </a:xfrm>
                <a:prstGeom prst="rect">
                  <a:avLst/>
                </a:prstGeom>
                <a:ln w="0">
                  <a:noFill/>
                </a:ln>
              </p:spPr>
            </p:pic>
            <p:pic>
              <p:nvPicPr>
                <p:cNvPr id="534" name="" descr=""/>
                <p:cNvPicPr/>
                <p:nvPr/>
              </p:nvPicPr>
              <p:blipFill>
                <a:blip r:embed="rId14"/>
                <a:stretch/>
              </p:blipFill>
              <p:spPr>
                <a:xfrm>
                  <a:off x="5855760" y="4762440"/>
                  <a:ext cx="750600" cy="173160"/>
                </a:xfrm>
                <a:prstGeom prst="rect">
                  <a:avLst/>
                </a:prstGeom>
                <a:ln w="0">
                  <a:noFill/>
                </a:ln>
              </p:spPr>
            </p:pic>
            <p:pic>
              <p:nvPicPr>
                <p:cNvPr id="535" name="" descr=""/>
                <p:cNvPicPr/>
                <p:nvPr/>
              </p:nvPicPr>
              <p:blipFill>
                <a:blip r:embed="rId15"/>
                <a:stretch/>
              </p:blipFill>
              <p:spPr>
                <a:xfrm>
                  <a:off x="6649920" y="4776840"/>
                  <a:ext cx="750960" cy="172800"/>
                </a:xfrm>
                <a:prstGeom prst="rect">
                  <a:avLst/>
                </a:prstGeom>
                <a:ln w="0">
                  <a:noFill/>
                </a:ln>
              </p:spPr>
            </p:pic>
            <p:pic>
              <p:nvPicPr>
                <p:cNvPr id="536" name="" descr=""/>
                <p:cNvPicPr/>
                <p:nvPr/>
              </p:nvPicPr>
              <p:blipFill>
                <a:blip r:embed="rId16"/>
                <a:stretch/>
              </p:blipFill>
              <p:spPr>
                <a:xfrm>
                  <a:off x="7397640" y="4776840"/>
                  <a:ext cx="752760" cy="171360"/>
                </a:xfrm>
                <a:prstGeom prst="rect">
                  <a:avLst/>
                </a:prstGeom>
                <a:ln w="0">
                  <a:noFill/>
                </a:ln>
              </p:spPr>
            </p:pic>
            <p:grpSp>
              <p:nvGrpSpPr>
                <p:cNvPr id="537" name=""/>
                <p:cNvGrpSpPr/>
                <p:nvPr/>
              </p:nvGrpSpPr>
              <p:grpSpPr>
                <a:xfrm>
                  <a:off x="6143040" y="4557600"/>
                  <a:ext cx="275760" cy="195480"/>
                  <a:chOff x="6143040" y="4557600"/>
                  <a:chExt cx="275760" cy="195480"/>
                </a:xfrm>
              </p:grpSpPr>
              <p:grpSp>
                <p:nvGrpSpPr>
                  <p:cNvPr id="538" name=""/>
                  <p:cNvGrpSpPr/>
                  <p:nvPr/>
                </p:nvGrpSpPr>
                <p:grpSpPr>
                  <a:xfrm>
                    <a:off x="6143040" y="4557600"/>
                    <a:ext cx="275760" cy="195480"/>
                    <a:chOff x="6143040" y="4557600"/>
                    <a:chExt cx="275760" cy="195480"/>
                  </a:xfrm>
                </p:grpSpPr>
                <p:sp>
                  <p:nvSpPr>
                    <p:cNvPr id="539" name=""/>
                    <p:cNvSpPr/>
                    <p:nvPr/>
                  </p:nvSpPr>
                  <p:spPr>
                    <a:xfrm>
                      <a:off x="6167880" y="468288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40" name=""/>
                    <p:cNvSpPr/>
                    <p:nvPr/>
                  </p:nvSpPr>
                  <p:spPr>
                    <a:xfrm>
                      <a:off x="6167880" y="467460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41" name=""/>
                    <p:cNvSpPr/>
                    <p:nvPr/>
                  </p:nvSpPr>
                  <p:spPr>
                    <a:xfrm>
                      <a:off x="6205680" y="464184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42" name=""/>
                    <p:cNvSpPr/>
                    <p:nvPr/>
                  </p:nvSpPr>
                  <p:spPr>
                    <a:xfrm>
                      <a:off x="6239520" y="466596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43" name=""/>
                    <p:cNvSpPr/>
                    <p:nvPr/>
                  </p:nvSpPr>
                  <p:spPr>
                    <a:xfrm>
                      <a:off x="6151680" y="455760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44" name=""/>
                    <p:cNvSpPr/>
                    <p:nvPr/>
                  </p:nvSpPr>
                  <p:spPr>
                    <a:xfrm>
                      <a:off x="6175440" y="457416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45" name=""/>
                    <p:cNvSpPr/>
                    <p:nvPr/>
                  </p:nvSpPr>
                  <p:spPr>
                    <a:xfrm>
                      <a:off x="6191640" y="458748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46" name=""/>
                    <p:cNvSpPr/>
                    <p:nvPr/>
                  </p:nvSpPr>
                  <p:spPr>
                    <a:xfrm>
                      <a:off x="6190560" y="458748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47" name=""/>
                    <p:cNvSpPr/>
                    <p:nvPr/>
                  </p:nvSpPr>
                  <p:spPr>
                    <a:xfrm>
                      <a:off x="6200280" y="459396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48" name=""/>
                    <p:cNvGrpSpPr/>
                    <p:nvPr/>
                  </p:nvGrpSpPr>
                  <p:grpSpPr>
                    <a:xfrm>
                      <a:off x="6143040" y="4714920"/>
                      <a:ext cx="275760" cy="38160"/>
                      <a:chOff x="6143040" y="4714920"/>
                      <a:chExt cx="275760" cy="38160"/>
                    </a:xfrm>
                  </p:grpSpPr>
                  <p:sp>
                    <p:nvSpPr>
                      <p:cNvPr id="549" name=""/>
                      <p:cNvSpPr/>
                      <p:nvPr/>
                    </p:nvSpPr>
                    <p:spPr>
                      <a:xfrm>
                        <a:off x="6143040" y="471492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50" name=""/>
                      <p:cNvSpPr/>
                      <p:nvPr/>
                    </p:nvSpPr>
                    <p:spPr>
                      <a:xfrm>
                        <a:off x="6143040" y="471492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51" name=""/>
                      <p:cNvSpPr/>
                      <p:nvPr/>
                    </p:nvSpPr>
                    <p:spPr>
                      <a:xfrm>
                        <a:off x="6175440" y="474480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52" name=""/>
                    <p:cNvSpPr/>
                    <p:nvPr/>
                  </p:nvSpPr>
                  <p:spPr>
                    <a:xfrm>
                      <a:off x="6151680" y="455760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53" name=""/>
                  <p:cNvGrpSpPr/>
                  <p:nvPr/>
                </p:nvGrpSpPr>
                <p:grpSpPr>
                  <a:xfrm>
                    <a:off x="6143040" y="4557600"/>
                    <a:ext cx="275760" cy="195480"/>
                    <a:chOff x="6143040" y="4557600"/>
                    <a:chExt cx="275760" cy="195480"/>
                  </a:xfrm>
                </p:grpSpPr>
                <p:sp>
                  <p:nvSpPr>
                    <p:cNvPr id="554" name=""/>
                    <p:cNvSpPr/>
                    <p:nvPr/>
                  </p:nvSpPr>
                  <p:spPr>
                    <a:xfrm>
                      <a:off x="6167880" y="468288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55" name=""/>
                    <p:cNvSpPr/>
                    <p:nvPr/>
                  </p:nvSpPr>
                  <p:spPr>
                    <a:xfrm>
                      <a:off x="6167880" y="467460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56" name=""/>
                    <p:cNvSpPr/>
                    <p:nvPr/>
                  </p:nvSpPr>
                  <p:spPr>
                    <a:xfrm>
                      <a:off x="6205680" y="464184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57" name=""/>
                    <p:cNvSpPr/>
                    <p:nvPr/>
                  </p:nvSpPr>
                  <p:spPr>
                    <a:xfrm>
                      <a:off x="6239520" y="466596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58" name=""/>
                    <p:cNvSpPr/>
                    <p:nvPr/>
                  </p:nvSpPr>
                  <p:spPr>
                    <a:xfrm>
                      <a:off x="6151680" y="455760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59" name=""/>
                    <p:cNvSpPr/>
                    <p:nvPr/>
                  </p:nvSpPr>
                  <p:spPr>
                    <a:xfrm>
                      <a:off x="6175440" y="457416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60" name=""/>
                    <p:cNvSpPr/>
                    <p:nvPr/>
                  </p:nvSpPr>
                  <p:spPr>
                    <a:xfrm>
                      <a:off x="6191640" y="458748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61" name=""/>
                    <p:cNvSpPr/>
                    <p:nvPr/>
                  </p:nvSpPr>
                  <p:spPr>
                    <a:xfrm>
                      <a:off x="6190560" y="458748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62" name=""/>
                    <p:cNvSpPr/>
                    <p:nvPr/>
                  </p:nvSpPr>
                  <p:spPr>
                    <a:xfrm>
                      <a:off x="6200280" y="459396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63" name=""/>
                    <p:cNvGrpSpPr/>
                    <p:nvPr/>
                  </p:nvGrpSpPr>
                  <p:grpSpPr>
                    <a:xfrm>
                      <a:off x="6143040" y="4714920"/>
                      <a:ext cx="275760" cy="38160"/>
                      <a:chOff x="6143040" y="4714920"/>
                      <a:chExt cx="275760" cy="38160"/>
                    </a:xfrm>
                  </p:grpSpPr>
                  <p:sp>
                    <p:nvSpPr>
                      <p:cNvPr id="564" name=""/>
                      <p:cNvSpPr/>
                      <p:nvPr/>
                    </p:nvSpPr>
                    <p:spPr>
                      <a:xfrm>
                        <a:off x="6143040" y="471492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65" name=""/>
                      <p:cNvSpPr/>
                      <p:nvPr/>
                    </p:nvSpPr>
                    <p:spPr>
                      <a:xfrm>
                        <a:off x="6143040" y="471492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66" name=""/>
                      <p:cNvSpPr/>
                      <p:nvPr/>
                    </p:nvSpPr>
                    <p:spPr>
                      <a:xfrm>
                        <a:off x="6175440" y="474480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67" name=""/>
                    <p:cNvSpPr/>
                    <p:nvPr/>
                  </p:nvSpPr>
                  <p:spPr>
                    <a:xfrm>
                      <a:off x="6151680" y="455760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sp>
          <p:nvSpPr>
            <p:cNvPr id="568" name=""/>
            <p:cNvSpPr/>
            <p:nvPr/>
          </p:nvSpPr>
          <p:spPr>
            <a:xfrm>
              <a:off x="4743720" y="3460680"/>
              <a:ext cx="2895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With Remote Management SW</a:t>
              </a:r>
              <a:endParaRPr b="0" lang="en-US" sz="1400" spc="-1" strike="noStrike">
                <a:solidFill>
                  <a:srgbClr val="000000"/>
                </a:solidFill>
                <a:latin typeface="Futura Bk"/>
              </a:endParaRPr>
            </a:p>
          </p:txBody>
        </p:sp>
      </p:gr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1F984F01-BCC6-49BF-A633-517B075644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98160" y="9360"/>
            <a:ext cx="8583480" cy="70344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graphicFrame>
        <p:nvGraphicFramePr>
          <p:cNvPr id="570" name=""/>
          <p:cNvGraphicFramePr/>
          <p:nvPr/>
        </p:nvGraphicFramePr>
        <p:xfrm>
          <a:off x="399960" y="725400"/>
          <a:ext cx="8586720" cy="4953240"/>
        </p:xfrm>
        <a:graphic>
          <a:graphicData uri="http://schemas.openxmlformats.org/drawingml/2006/table">
            <a:tbl>
              <a:tblPr/>
              <a:tblGrid>
                <a:gridCol w="2860920"/>
                <a:gridCol w="2862000"/>
                <a:gridCol w="2863800"/>
              </a:tblGrid>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HP ML150 G5</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Dell PE SC1430</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73044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Proc. Typ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Xeon Dual or Quad-Core</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Xeon Dual or Quad-Core</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Proc. Capacit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73044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Int. Storag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p to eight (8) LFF SAS/SATA HDD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p to four (4) SAS/ SATA HDD</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1792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ax Storag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4TB SAS, </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6TB SATA</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2TB SAS,</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4TB SATA</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ax. Memor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6GB</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8GB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2912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emory Typ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DDR2-667MHz</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FBD SDRAM</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104868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Warrant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1-1</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3-1-1 (AP)</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 year limited and 1 year next business day on site service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D9C208AF-1C05-472C-A00D-D53F87C411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BOB BURDEN</cp:lastModifiedBy>
  <cp:lastPrinted>2004-09-23T21:26:26Z</cp:lastPrinted>
  <dcterms:modified xsi:type="dcterms:W3CDTF">2008-01-21T21:40:47Z</dcterms:modified>
  <cp:revision>280</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