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B8DD-C083-4827-88F9-C907FDEB09AA}"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73EC-01E8-4969-8253-E4E06917D2B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F12F-95DE-46F6-B86F-54FE12CBF20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AA4B-9604-43B4-B716-6CE24FAD6E5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A324-A73D-43C2-BDEE-0D6DF364246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649D-B4D6-426D-8B54-40778A242377}"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7983-72BD-4099-9798-B0D9C62A8A10}"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21E6-52AE-4D80-A161-75055E53C66F}"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A574-9A70-46A7-8402-67777B3FC41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A24C-7BC8-4A93-9F3D-317ADDB4BD7F}"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014FAD8-A019-444E-B1BF-1E5C2F4B2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A77635-4221-4F26-BEEA-1C261B459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961BE6-20D7-4776-B2AA-BA400DB19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C4868F9-50E1-4208-8F55-ED0F616D2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01E4A9B-99E9-45AA-8115-6F936AE52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22C5B1-788A-4C74-A61F-46353F01B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9C3206-86DB-4AD4-8251-8F82E4C71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E25139-CD72-42FD-A6CE-B3E6F0CA7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9E5989-6415-4D98-8F4A-77F77B5FB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57294D6-001E-4418-8783-EC78B53AC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93CE47-7A7A-47B0-B9B9-827A37489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DF1A34B-7142-4B08-BC40-D380DC29C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0653FD-E51D-490B-A029-663BD3ECE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CC11FD-F859-44C9-8B76-E84889723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AD68849-8077-4976-B404-DA0508369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44C5C11-884C-49EF-B5D1-4D463F73D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1D67E4C-0708-4DEB-8168-3447D1386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AF6155-9AC4-484C-8EC7-2D1927AC6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28E4AC-418B-41F8-B10D-419CF9B82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52D12A-D46B-4475-A27A-C57211FE6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0C1200D-10D2-49C3-81E3-5EFC9786F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894F99-1CAD-47FC-964B-742A2EC83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910030-77A8-48CA-9365-C0E26FFFD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7DC818-784B-4C1D-8F72-D66AE3E77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5211-0ACB-40EB-9C17-224F56A03EB0}" type="datetime">
              <a:rPr b="0" lang="es-ES_tradnl" sz="1000" spc="-1" strike="noStrike">
                <a:solidFill>
                  <a:srgbClr val="ffff66"/>
                </a:solidFill>
                <a:latin typeface="Arial"/>
              </a:rPr>
              <a:t>30/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6EA1-A5A9-425B-84A5-5EA68411A659}"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9C71-8F10-49F8-9F9A-410A7B4CEA6C}" type="datetime">
              <a:rPr b="0" lang="es-ES_tradnl"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0EF3-3497-4D98-8F36-DC8B4D0DC9C7}"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