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473-3557-4883-9DD8-B2BEA21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4C5-4436-40CE-A5DD-E83C7F81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85C-84F7-4851-8B94-ADBB5973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01D-02CD-48B5-B70C-9E7CD832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03D7B-669F-4704-BBCB-DC2C249E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AC90-986F-4AD7-8C49-501EAB93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1DB4-D65F-4956-9999-ADEE5C0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151A-BCC3-4E0E-ABB1-ADA85CC6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1C9F-3E94-4689-B86F-44180201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0FD0-FB44-4D24-B85C-11116A9A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7130-7AB6-413F-AEA5-0DB89E5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513-8365-4E33-A175-3A34DB79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5D9A-6485-4CBA-8693-DA7EA539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CCF9-1592-4E9F-8D80-19CD9EB2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B1AB-84A4-4D9D-8756-7A92FCBE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7074-4D5D-4C7F-A919-B6243FAF1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403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00560" y="19810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8052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403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00560" y="41306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35A1-C937-44A1-80DE-7A3D8A1DD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FE2-AF01-4ABA-A27B-84CD0934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3B43-369B-441E-9CDC-1B328B4A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E7F-9740-4D09-A4F2-CD4B639E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08120"/>
            <a:ext cx="777240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1A0-94B9-4977-A151-9B35E18F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6E5-7B9A-4F57-AEA4-06F3667E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14560" y="41306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AE8-887B-4406-8BE2-FD193F4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4560" y="19810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41306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F99F-A859-481C-9F0F-0578809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F37-B291-4856-A59B-182E8A2F466C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967A-DEB3-4DF5-B801-0DFB50C5E80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" name=""/>
          <p:cNvGrpSpPr/>
          <p:nvPr/>
        </p:nvGrpSpPr>
        <p:grpSpPr>
          <a:xfrm>
            <a:off x="76320" y="76320"/>
            <a:ext cx="3124080" cy="609480"/>
            <a:chOff x="76320" y="76320"/>
            <a:chExt cx="3124080" cy="609480"/>
          </a:xfrm>
        </p:grpSpPr>
        <p:graphicFrame>
          <p:nvGraphicFramePr>
            <p:cNvPr id="34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" name=""/>
            <p:cNvSpPr/>
            <p:nvPr/>
          </p:nvSpPr>
          <p:spPr>
            <a:xfrm>
              <a:off x="533520" y="152280"/>
              <a:ext cx="266688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CE9B-C787-4348-A110-71A0E8B517FD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6F86-7BC2-4BBC-B70D-5D170D0ABA64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76320"/>
            <a:ext cx="2895480" cy="609480"/>
            <a:chOff x="76320" y="76320"/>
            <a:chExt cx="2895480" cy="609480"/>
          </a:xfrm>
        </p:grpSpPr>
        <p:graphicFrame>
          <p:nvGraphicFramePr>
            <p:cNvPr id="109" name=""/>
            <p:cNvGraphicFramePr/>
            <p:nvPr/>
          </p:nvGraphicFramePr>
          <p:xfrm>
            <a:off x="76320" y="76320"/>
            <a:ext cx="563400" cy="60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76320"/>
                      <a:ext cx="56340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1" name=""/>
            <p:cNvSpPr/>
            <p:nvPr/>
          </p:nvSpPr>
          <p:spPr>
            <a:xfrm>
              <a:off x="533520" y="152640"/>
              <a:ext cx="243828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Ministerio Secretaría General de la Presidenci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Times New Roman"/>
                </a:rPr>
                <a:t>Proyecto de Reforma y Modernización del Estad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chilecompras.cl/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ramitefacil.gob.cl/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Gobierno Electrónico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440" y="44193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yecto de Reforma y Modernización del Es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sterio Secretaría General de la Presid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1E926-4BB0-45EF-A66D-05750D1B551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544F367-D8AA-4834-AF95-351884D7256A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Buen Gobier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ediseño y simplificación de procesos apoyados por las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gramas continuos de enseñanza y entre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isponer de sistemas de información que apoyen funciones internas. Permitir, facilitar y promover comunicaciones mediante uso N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servicios a otras reparticiones. Conexión y utilización de red del Ministerio d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roducir indicador de gestión de porcentaje de trámites brindados electrónica y presencial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cluir impacto en la organización producido por el desarrollo de los proyectos que usen NTICs. Enfasis en impacto en funcion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ción de estándares de la industria NTICs. Imagén común en Internet, uso progresivo de .gov.cl y .gob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gregación de demanda para conseguir eficiencia en recursos financieros. Contratación conjunta de desarrollo de proyec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1B2-A8EC-4765-97AC-B72F77DE29C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A9EFC-5C5C-4F4A-A4AB-52F5351174E3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sarrollo de la Democracia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doptar medidas para facilitar a la ciudadanía información pertinente, la consideración de sus opiniones y sugerencias, e instancias de participación ciudadana y la transpa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arrollar páginas web informativas de fácil acceso y comprensivas, vinculando esta información a portales de búsqueda generales, tanto públicos como priv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Secretaría General de Gobierno velará por estándares de contenido de las páginas web de los diversos Servicios y Ministerios, asegurando el acceso a los ciudadanos a la información general y específica sobre la acción del Gobier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BE9-93BA-4043-B086-C3F58763474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0A9E7-6C98-4133-ADE3-B34A1949182E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Arial Black"/>
              </a:rPr>
              <a:t>- Generales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4582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guimiento y Coordinación del cumplimiento de las instrucciones en SEGPRES a cargo del PR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neración de antecedentes de inversión y gasto anuales en NTICs, a cargo de la Dirección de Presupue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lan que señale cómo se aplicará Instructivo en los Servicios, a cargo de cada Jefe de Servicio. Agosto próxi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A8B9-57D3-4313-A1DB-5E357EC9E7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95818-EC9A-434F-9158-06F975D59C6F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0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Trámites en líne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Trám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ortal de Empres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13716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Gobiernode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mpuestos Inter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Aduan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48520" y="19810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Tesorer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gistro Civ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48520" y="25909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ona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hileComp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RNA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48520" y="320040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BT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Viv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Educ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8098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Min.Obras Públ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ción Via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449568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Super Isap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pre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.Mov.N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5105520"/>
            <a:ext cx="205740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irectem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715000"/>
            <a:ext cx="7925040" cy="457200"/>
          </a:xfrm>
          <a:prstGeom prst="bevel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Intranet del Estado ( Min. Interior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7A58-DB0D-473D-B6FA-38C44D51EB3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EA989-3D38-4CE3-8361-6C31012517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mentos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ara el Gobierno Electrónic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8586-7B5E-4475-97E7-B5BD65D51BF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8073AB-2E83-4415-A541-B2C76D059B6E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Legales y Administrativ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Firma Digital, presentado en Agosto 2000 y aprobado por unanimidad en la Cámara de Diput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yecto de Ley de Dirección de Compras Públicas, se firmó indicación sustitutiva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structivo Presidencial de Gobierno Electrónico, suscrito el 11 de Ma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81 – 1999 de la SEGPRES, que regula el uso de la firma digital en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.S. 1.312 – 1999, establece sistema de información compras y contrataciones públicas – </a:t>
            </a:r>
            <a:r>
              <a:rPr b="0" lang="es-CL" sz="20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www.chilecompras.c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, D.S. 54 –2001 que permite la suscripción de acuerdos mar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MG 2001, obligación de incorporación de parte los Servicios al Sistema de Comp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7FBF-14CF-415C-8413-CEEA6FF7B1F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876C5-45AF-4E3B-9425-948DF48765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Foment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cesionamiento de Infraestructura Tecnológica: se ha evaluado técnica y jurídicamente la factibilidad de concesionar Ventanillas Unicas, bajo el marco de Concesionamiento del Ministerio de Obras Públ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trocinio a eventos de empresas tecnológicas privadas orientados a mostrar soluciones a Instituciones Públicas – Oracle, elvoucher.com, ACT, empatia, Metrodigital, separende.com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5AE-8432-454B-9976-15A5908B8C1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B8782-847E-4333-AEA2-EA95B02C06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Portal del Trámites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es-ES" sz="2000" spc="-1" strike="noStrike" u="sng">
                <a:solidFill>
                  <a:srgbClr val="f98d43"/>
                </a:solidFill>
                <a:uFillTx/>
                <a:latin typeface="Trebuchet MS"/>
                <a:ea typeface="Times New Roman"/>
                <a:hlinkClick r:id="rId2"/>
              </a:rPr>
              <a:t>www.tramitefacil.gob.cl</a:t>
            </a:r>
            <a:r>
              <a:rPr b="1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,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ont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ene la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formación sobre trámites de los Servicios Públicos, con sistemas de búsqueda orientados al usuario. Se inicia con 675 trámites.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Incluye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los formularios 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digitalizados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ás utilizados en cada Servicio</a:t>
            </a:r>
            <a:r>
              <a:rPr b="0" lang="es-ES_tradnl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. Además, considera c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onexión a las transacciones en línea que actualmente tienen los Servic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Ventanilla Única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Su objetivo es realizar en una transacción una colección de trámites en forma electrónica (llamado “requerimiento”), que involucra a más de una repartición pública y puede involucrar a organismos privados, a fin de atender requerimientos de los ciudadanos. Se han identificado y estudiado más de 40 requerimientos y se decidirá prontamente con cuáles comenz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Infraestructura de Acces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e han habilitado alrededor de 200 Infocentros -públicos y privados- a lo largo del paí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147C-262D-4592-8891-D70C10389E4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8B487-BAE7-4469-8C6A-6AA5BCCD6EAD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Programa de Formación de los Recursos Humanos para el Gobierno Electrónic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Fortalecimiento de las Unidades de Gestión Electrónica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Intranet del Esta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Uso de las TI en IntraEstado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de Información para la Gestión Financiera (SIGFE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Sistema Nacional de Información Territorial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ffffff"/>
                </a:solidFill>
                <a:latin typeface="Arial"/>
              </a:rPr>
              <a:t>ChileCompr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5781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stión Intern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828-BA81-45C2-A7E4-64C02A5E9EDE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512DD-0C41-460F-99C7-FE910AAD63EB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tales Gobiernode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áginas web de los Servicio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-228600" y="578160"/>
            <a:ext cx="95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royectos Transvers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–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esarrollo de la Democracia 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D2E-0F4D-4503-A668-E3B36CF62443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1C4F5-0215-4C97-88FB-5367F31476D5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 Reformas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 Proyecto de Reforma y Modernización del Estado es parte del amplio proceso de cambios impulsado por el Presidente Lagos, que incluy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Tecnológ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Ciu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s Polí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l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eforma de la Sal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1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inuación de las Reformas Judicial y Educ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BD4-6BF5-431C-8C34-4A5646E3AB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61F64-0FE9-415E-836E-6C9A7C6107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 Black"/>
              </a:rPr>
              <a:t>Objetivo de la Reforma del Estado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El proyecto de Reforma y Modernización del Estado tiene como objetivo generar durante el mandato del Presidente Lagos, un Estado de servicio a los ciudadanos, debiendo contar para ello con una estructura flexible y con una gestión eficiente, participativa y transparen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ios orientad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democrático y participativ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transparente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unitario descentralizad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solid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lexible para enfrentar requerimientos presentes y futu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fuerte, eficiente y eficaz que asegure calidad de vida y desarrollo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ustentabl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stado normativo y subsidiari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62E-59D8-47A7-A3FE-A01CFA60437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16F15-C8C8-4F62-AEB3-7C8A7B15E7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87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nentes del Proyecto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.- Reformas Polític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.- Rediseño Institucional: área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Polít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inisterios Coordinadores, Interior, Justi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Económic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Triministerio, regulación, fomento productivo, empresas públicas, institucionalidad agrícola, ciencia y tecnología, 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Infraestructur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MOPTT y Biministerio Vivienda y Urbanismo y Bienes Nacion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Area Soci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nstitucionalidad Salud, Educación, Asuntos Sociales, Mujer y Cultu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- Descentralización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pectos institucionales y planes regionales de moderniz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- Modernización de la Gestión Pública y Gobiern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cursos Human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Nuevo Trato y Dirección Públ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alidad de servici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Programa de Trámites, Cartas de Derechos, OIRS, Prem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estión de los servicio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Unidad de sistematización de experiencias del sector públ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Gobierno Electrónic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Buen gobierno, atención a los usuarios y más democra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- Participación ciudadana y Transparencia en la Gest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s institucionales para la participación y Defensor del Ciudada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ítica de transparencia y prob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BCA3-A340-4462-B65F-10685BB076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7B318-95CC-4C5F-B385-24E8FE4BD6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OBIERNO ELECTRONICO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Definición 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o de las Tecnologías de Información y Comunicaciones para mejorar los servicios e información ofrecidos a los ciudadanos, aumentar la eficiencia y la eficacia de la gestión pública e incrementar sustantivamente la transparencia del sector público y la transparencia ciudadan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0BA-DABE-4759-9F1D-2C5554221AD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386E0-BE01-42E5-9F7C-0FBFE2AE039A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VISION ORIENTADOR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tención en cualquier oficina de un Servicio autorizado a brindarla. Independencia jurisdiccional y resid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manda de servicios sobre la base de necesidades en lugar de conocimiento de la estructura del Estado: mirada ciudada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lo se exigirá presentación de cédula de identidad y de antecedentes que </a:t>
            </a:r>
            <a:r>
              <a:rPr b="0" lang="es-CL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obren en poder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informarán al Estado sólo una vez que haya cambios relevantes de su situación de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iudadanos son libres para acceder y consultar información de actos públicos d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sistemas de información del Estado deberán estar relacionados entre sí y orientados a atender al ciudad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481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ciudadanos tienen derecho a conocer y modificar la información que de ellos posee el Est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3686-9243-4442-92E4-D52E6550416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618AF-269B-4217-98C7-AF82AAAF7F98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incipios Orientad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ransformad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cación sustantiva de los procedimientos ac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l alcance de to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quién, dónde y cuán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Fácil de us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s y senci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yor Benefic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ecto a forma presenci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eguridad, Privacidad y Registr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l del Sector priva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oyados en el sector privados mediante procesos competit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sconcentració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ción, mantención y actualización de las TI a cargo de los Servicios e interoperabilidad entre el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Jurisdicción Electrónic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aptación de los Servicios para que las transacciones puedan ser efectuadas desde cualquier punto del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volutiv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 un proceso: (1) Presencia; (2) Interacción; (3) Transacción y; (4) Trans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BC2-AF2B-46BE-A8F1-36EA7E6156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D89D00-C375-4527-B265-07352B18806F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Ámbito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 algn="just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Atención al ciudada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uevas formas de relación Gobierno / ciudadano mediante el uso de TI, que permitan al Estado brindar sus servicios en forma más eficiente, eficaz y con independencia del lugar fís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unitario, descentralizado, solidario y flexible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Buen Gobiern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stablecimiento e introducción de nuevas formas y procesos internos en la Administración del Estado que permitan la integración de los sistemas de diferentes Servicios, compartir recursos y el mejoramiento de la gestión interna de los mism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al servicio del ciudadano, flexible, transparente, unitario, descentraliz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cc00"/>
                </a:solidFill>
                <a:latin typeface="Arial"/>
              </a:rPr>
              <a:t>Desarrollo de la Democraci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reación de mecanismos que, usando TI, permitan al ciudadano jugar un rol activo en el quehacer del país, permitiendo abrir nuevos espacios y formas de particip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795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Estado más participativo, transparente y democráti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8E6-CDC5-4507-9B35-6B8392C1EB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1B794-23B9-4EC1-8893-D0A9F335B57B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strucciones Presidenciale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- Atención al Ciudadano -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so progresivo e interrelacionado de las NT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mentar y promover acceso de los ciudad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tegración entre Serv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ientación hacia Ventanillas Unicas, preferentemente privadas y con estándares de calidad defini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quisitos al desarrollar Ventanillas Un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dentificación vía cédula de identidad o clave de acceso  basada en en el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torizaciones electrónicas basadas en el nivel de seguridad que aspira o está obligado el ciudad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A9A-F509-4B7C-B368-66CEE38783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7C720-79D3-4037-AAFB-7336EF3950F8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14:53:01Z</dcterms:created>
  <dc:creator>Felipe Goya</dc:creator>
  <dc:description/>
  <dc:language>en-US</dc:language>
  <cp:lastModifiedBy>MRiera</cp:lastModifiedBy>
  <cp:lastPrinted>2001-07-16T20:54:41Z</cp:lastPrinted>
  <dcterms:modified xsi:type="dcterms:W3CDTF">2001-07-24T20:30:32Z</dcterms:modified>
  <cp:revision>158</cp:revision>
  <dc:subject/>
  <dc:title>Proyecto de Reforma y Modernización del Estado</dc:title>
</cp:coreProperties>
</file>