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7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3290-7426-4879-B43B-A58D1863FA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21407-786E-4CAC-9BD4-6512FC52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F15C-C017-4176-BFDD-98AF6FDA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CA82-5AE2-471D-949A-AF1F595E2A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CBEFF-B342-4846-9884-78D57170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D8AB6-00F9-474C-B29E-3B7FB03E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042D3-AE4A-49E9-895C-7EC72DE8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2453C-BEE2-4CEF-B128-386FB9D6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698A5-FA26-4725-B4FA-745467DC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4373E-9853-49A2-BAA3-5CFBA3E4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5FB57-FA8A-45DC-87C1-69AFD826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56FC2-F60E-4A16-BBD5-456986DF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0ED51-FCA5-49E8-88A5-E9D23BFE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49DC1-370E-45DD-BE05-606BBFA9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59198-9312-4487-808E-63265D2B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F1DDC-EFA7-4FEC-9EB9-319C0FA0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1665D-128C-4A30-86E6-1054AAAB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81210-53D7-48BF-A178-33EFE797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65AFF-AF3D-48D2-8F46-62E9BBBB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C21FF-AF91-40DB-8974-5536D1AE5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52D7-A9C3-408B-9235-4E7FC97E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BED3-4126-409E-A040-66DE596B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3A14B-C2CC-468C-92CA-A16B5C08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F95C-BF21-432D-838B-1EE92B566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2023-38A0-4E9D-814C-B91E17C6E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C48B-9C8A-4204-B097-4B091793AF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bb11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1b3f7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26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6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1.png"/><Relationship Id="rId28" Type="http://schemas.openxmlformats.org/officeDocument/2006/relationships/image" Target="../media/image11.png"/><Relationship Id="rId29" Type="http://schemas.openxmlformats.org/officeDocument/2006/relationships/image" Target="../media/image11.png"/><Relationship Id="rId30" Type="http://schemas.openxmlformats.org/officeDocument/2006/relationships/image" Target="../media/image11.png"/><Relationship Id="rId31" Type="http://schemas.openxmlformats.org/officeDocument/2006/relationships/image" Target="../media/image11.png"/><Relationship Id="rId32" Type="http://schemas.openxmlformats.org/officeDocument/2006/relationships/image" Target="../media/image11.png"/><Relationship Id="rId33" Type="http://schemas.openxmlformats.org/officeDocument/2006/relationships/image" Target="../media/image11.png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0.png"/><Relationship Id="rId20" Type="http://schemas.openxmlformats.org/officeDocument/2006/relationships/image" Target="../media/image20.png"/><Relationship Id="rId21" Type="http://schemas.openxmlformats.org/officeDocument/2006/relationships/image" Target="../media/image20.png"/><Relationship Id="rId22" Type="http://schemas.openxmlformats.org/officeDocument/2006/relationships/image" Target="../media/image20.png"/><Relationship Id="rId23" Type="http://schemas.openxmlformats.org/officeDocument/2006/relationships/image" Target="../media/image20.png"/><Relationship Id="rId24" Type="http://schemas.openxmlformats.org/officeDocument/2006/relationships/image" Target="../media/image20.png"/><Relationship Id="rId25" Type="http://schemas.openxmlformats.org/officeDocument/2006/relationships/image" Target="../media/image20.png"/><Relationship Id="rId26" Type="http://schemas.openxmlformats.org/officeDocument/2006/relationships/image" Target="../media/image21.png"/><Relationship Id="rId27" Type="http://schemas.openxmlformats.org/officeDocument/2006/relationships/image" Target="../media/image21.png"/><Relationship Id="rId28" Type="http://schemas.openxmlformats.org/officeDocument/2006/relationships/image" Target="../media/image21.png"/><Relationship Id="rId29" Type="http://schemas.openxmlformats.org/officeDocument/2006/relationships/image" Target="../media/image21.png"/><Relationship Id="rId30" Type="http://schemas.openxmlformats.org/officeDocument/2006/relationships/image" Target="../media/image21.png"/><Relationship Id="rId31" Type="http://schemas.openxmlformats.org/officeDocument/2006/relationships/image" Target="../media/image21.png"/><Relationship Id="rId32" Type="http://schemas.openxmlformats.org/officeDocument/2006/relationships/image" Target="../media/image21.png"/><Relationship Id="rId33" Type="http://schemas.openxmlformats.org/officeDocument/2006/relationships/image" Target="../media/image21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7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7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4.png"/><Relationship Id="rId20" Type="http://schemas.openxmlformats.org/officeDocument/2006/relationships/image" Target="../media/image24.png"/><Relationship Id="rId21" Type="http://schemas.openxmlformats.org/officeDocument/2006/relationships/image" Target="../media/image24.png"/><Relationship Id="rId22" Type="http://schemas.openxmlformats.org/officeDocument/2006/relationships/image" Target="../media/image24.png"/><Relationship Id="rId23" Type="http://schemas.openxmlformats.org/officeDocument/2006/relationships/image" Target="../media/image24.png"/><Relationship Id="rId24" Type="http://schemas.openxmlformats.org/officeDocument/2006/relationships/image" Target="../media/image24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5.png"/><Relationship Id="rId28" Type="http://schemas.openxmlformats.org/officeDocument/2006/relationships/image" Target="../media/image25.png"/><Relationship Id="rId29" Type="http://schemas.openxmlformats.org/officeDocument/2006/relationships/image" Target="../media/image25.png"/><Relationship Id="rId30" Type="http://schemas.openxmlformats.org/officeDocument/2006/relationships/image" Target="../media/image25.png"/><Relationship Id="rId31" Type="http://schemas.openxmlformats.org/officeDocument/2006/relationships/image" Target="../media/image25.png"/><Relationship Id="rId32" Type="http://schemas.openxmlformats.org/officeDocument/2006/relationships/image" Target="../media/image25.png"/><Relationship Id="rId33" Type="http://schemas.openxmlformats.org/officeDocument/2006/relationships/image" Target="../media/image25.png"/><Relationship Id="rId3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heckmark" descr=""/>
          <p:cNvPicPr/>
          <p:nvPr/>
        </p:nvPicPr>
        <p:blipFill>
          <a:blip r:embed="rId2"/>
          <a:stretch/>
        </p:blipFill>
        <p:spPr>
          <a:xfrm>
            <a:off x="457200" y="3556080"/>
            <a:ext cx="1219320" cy="1168200"/>
          </a:xfrm>
          <a:prstGeom prst="rect">
            <a:avLst/>
          </a:prstGeom>
          <a:ln w="0">
            <a:noFill/>
          </a:ln>
        </p:spPr>
      </p:pic>
      <p:pic>
        <p:nvPicPr>
          <p:cNvPr id="86" name="kite%20for%20ppt" descr=""/>
          <p:cNvPicPr/>
          <p:nvPr/>
        </p:nvPicPr>
        <p:blipFill>
          <a:blip r:embed="rId3"/>
          <a:stretch/>
        </p:blipFill>
        <p:spPr>
          <a:xfrm>
            <a:off x="5334120" y="93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639432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q Business Partner</a:t>
            </a: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 Program</a:t>
            </a:r>
            <a:br>
              <a:rPr sz="4000"/>
            </a:br>
            <a:r>
              <a:rPr b="1" lang="es-AR" sz="4000" spc="-1" strike="noStrike">
                <a:solidFill>
                  <a:srgbClr val="ffffff"/>
                </a:solidFill>
                <a:latin typeface="Arial"/>
              </a:rPr>
              <a:t>Paraguay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038480"/>
            <a:ext cx="748980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Training &amp; Certification Requirement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Solange Gué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Arial"/>
              </a:rPr>
              <a:t>Educ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FL00259_" descr=""/>
          <p:cNvPicPr/>
          <p:nvPr/>
        </p:nvPicPr>
        <p:blipFill>
          <a:blip r:embed="rId4"/>
          <a:stretch/>
        </p:blipFill>
        <p:spPr>
          <a:xfrm>
            <a:off x="5410080" y="1523880"/>
            <a:ext cx="1827360" cy="1187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646" name=""/>
          <p:cNvGraphicFramePr/>
          <p:nvPr/>
        </p:nvGraphicFramePr>
        <p:xfrm>
          <a:off x="76320" y="2286000"/>
          <a:ext cx="7848360" cy="4387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4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7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7924680" y="41911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51814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924680" y="3809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6095880" y="24382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28600" y="28195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8600" y="4267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228600" y="56386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6095880" y="39625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6095880" y="533412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33cc33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9" name=""/>
          <p:cNvGrpSpPr/>
          <p:nvPr/>
        </p:nvGrpSpPr>
        <p:grpSpPr>
          <a:xfrm>
            <a:off x="0" y="1219320"/>
            <a:ext cx="8169120" cy="1022400"/>
            <a:chOff x="0" y="1219320"/>
            <a:chExt cx="8169120" cy="1022400"/>
          </a:xfrm>
        </p:grpSpPr>
        <p:grpSp>
          <p:nvGrpSpPr>
            <p:cNvPr id="1660" name=""/>
            <p:cNvGrpSpPr/>
            <p:nvPr/>
          </p:nvGrpSpPr>
          <p:grpSpPr>
            <a:xfrm>
              <a:off x="47520" y="1219320"/>
              <a:ext cx="1798920" cy="991800"/>
              <a:chOff x="47520" y="1219320"/>
              <a:chExt cx="1798920" cy="991800"/>
            </a:xfrm>
          </p:grpSpPr>
          <p:sp>
            <p:nvSpPr>
              <p:cNvPr id="1661" name=""/>
              <p:cNvSpPr/>
              <p:nvPr/>
            </p:nvSpPr>
            <p:spPr>
              <a:xfrm>
                <a:off x="47520" y="129240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685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345240" y="132156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345240" y="126324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345240" y="121932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3072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06320" y="132156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06320" y="126324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06320" y="121932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99216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06740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06740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067400" y="121932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353600" y="13489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428840" y="132156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428840" y="126324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428840" y="121932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572480" y="129600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7520" y="164520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31040" y="153432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206280" y="150732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206280" y="144900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206280" y="140472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9212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6772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772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7720" y="140472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5356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928800" y="150732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928800" y="144900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928800" y="140472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214640" y="153432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291320" y="150732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291320" y="144900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291320" y="140472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96" name=""/>
            <p:cNvGrpSpPr/>
            <p:nvPr/>
          </p:nvGrpSpPr>
          <p:grpSpPr>
            <a:xfrm>
              <a:off x="1538280" y="1228680"/>
              <a:ext cx="1905120" cy="981000"/>
              <a:chOff x="1538280" y="1228680"/>
              <a:chExt cx="1905120" cy="981000"/>
            </a:xfrm>
          </p:grpSpPr>
          <p:sp>
            <p:nvSpPr>
              <p:cNvPr id="1697" name=""/>
              <p:cNvSpPr/>
              <p:nvPr/>
            </p:nvSpPr>
            <p:spPr>
              <a:xfrm>
                <a:off x="1538280" y="130104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7726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85364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85364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853640" y="122868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15604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235960" y="132948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235960" y="127224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2235960" y="122868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253872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2618640" y="13294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2618640" y="127224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2618640" y="122868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2921400" y="135612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001320" y="132948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001320" y="127224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01320" y="122868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149280" y="130608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538280" y="164916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626840" y="153900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706760" y="151272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706760" y="145512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706760" y="141156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00952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2089440" y="151272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2089440" y="145512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2089440" y="141156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9184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2471760" y="151272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2471760" y="14551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471760" y="141156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774160" y="153900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855160" y="151272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855160" y="145512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855160" y="141156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3152880" y="1219320"/>
              <a:ext cx="1990800" cy="988920"/>
              <a:chOff x="3152880" y="1219320"/>
              <a:chExt cx="1990800" cy="988920"/>
            </a:xfrm>
          </p:grpSpPr>
          <p:sp>
            <p:nvSpPr>
              <p:cNvPr id="1733" name=""/>
              <p:cNvSpPr/>
              <p:nvPr/>
            </p:nvSpPr>
            <p:spPr>
              <a:xfrm>
                <a:off x="3152880" y="129204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34" name=""/>
              <p:cNvGrpSpPr/>
              <p:nvPr/>
            </p:nvGrpSpPr>
            <p:grpSpPr>
              <a:xfrm>
                <a:off x="3398400" y="1219320"/>
                <a:ext cx="351360" cy="212760"/>
                <a:chOff x="3398400" y="1219320"/>
                <a:chExt cx="351360" cy="212760"/>
              </a:xfrm>
            </p:grpSpPr>
            <p:sp>
              <p:nvSpPr>
                <p:cNvPr id="1735" name=""/>
                <p:cNvSpPr/>
                <p:nvPr/>
              </p:nvSpPr>
              <p:spPr>
                <a:xfrm>
                  <a:off x="3398400" y="134820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36" name=""/>
                <p:cNvGrpSpPr/>
                <p:nvPr/>
              </p:nvGrpSpPr>
              <p:grpSpPr>
                <a:xfrm>
                  <a:off x="3482280" y="1219320"/>
                  <a:ext cx="263880" cy="196200"/>
                  <a:chOff x="3482280" y="1219320"/>
                  <a:chExt cx="263880" cy="196200"/>
                </a:xfrm>
              </p:grpSpPr>
              <p:sp>
                <p:nvSpPr>
                  <p:cNvPr id="1737" name=""/>
                  <p:cNvSpPr/>
                  <p:nvPr/>
                </p:nvSpPr>
                <p:spPr>
                  <a:xfrm>
                    <a:off x="3482280" y="132084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>
                    <a:off x="3482280" y="126288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>
                    <a:off x="3482280" y="121932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0" name=""/>
              <p:cNvGrpSpPr/>
              <p:nvPr/>
            </p:nvGrpSpPr>
            <p:grpSpPr>
              <a:xfrm>
                <a:off x="3798360" y="1219320"/>
                <a:ext cx="351720" cy="212760"/>
                <a:chOff x="3798360" y="1219320"/>
                <a:chExt cx="351720" cy="21276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379836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2" name=""/>
                <p:cNvGrpSpPr/>
                <p:nvPr/>
              </p:nvGrpSpPr>
              <p:grpSpPr>
                <a:xfrm>
                  <a:off x="3882240" y="1219320"/>
                  <a:ext cx="264240" cy="196200"/>
                  <a:chOff x="3882240" y="1219320"/>
                  <a:chExt cx="264240" cy="196200"/>
                </a:xfrm>
              </p:grpSpPr>
              <p:sp>
                <p:nvSpPr>
                  <p:cNvPr id="1743" name=""/>
                  <p:cNvSpPr/>
                  <p:nvPr/>
                </p:nvSpPr>
                <p:spPr>
                  <a:xfrm>
                    <a:off x="388224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4" name=""/>
                  <p:cNvSpPr/>
                  <p:nvPr/>
                </p:nvSpPr>
                <p:spPr>
                  <a:xfrm>
                    <a:off x="388224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388224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6" name=""/>
              <p:cNvGrpSpPr/>
              <p:nvPr/>
            </p:nvGrpSpPr>
            <p:grpSpPr>
              <a:xfrm>
                <a:off x="4198320" y="1219320"/>
                <a:ext cx="351720" cy="212760"/>
                <a:chOff x="4198320" y="1219320"/>
                <a:chExt cx="351720" cy="21276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419832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8" name=""/>
                <p:cNvGrpSpPr/>
                <p:nvPr/>
              </p:nvGrpSpPr>
              <p:grpSpPr>
                <a:xfrm>
                  <a:off x="4282200" y="1219320"/>
                  <a:ext cx="264240" cy="196200"/>
                  <a:chOff x="4282200" y="1219320"/>
                  <a:chExt cx="264240" cy="196200"/>
                </a:xfrm>
              </p:grpSpPr>
              <p:sp>
                <p:nvSpPr>
                  <p:cNvPr id="1749" name=""/>
                  <p:cNvSpPr/>
                  <p:nvPr/>
                </p:nvSpPr>
                <p:spPr>
                  <a:xfrm>
                    <a:off x="428220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428220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428220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2" name=""/>
              <p:cNvGrpSpPr/>
              <p:nvPr/>
            </p:nvGrpSpPr>
            <p:grpSpPr>
              <a:xfrm>
                <a:off x="4598280" y="1219320"/>
                <a:ext cx="351720" cy="212760"/>
                <a:chOff x="4598280" y="1219320"/>
                <a:chExt cx="351720" cy="21276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4598280" y="134820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4" name=""/>
                <p:cNvGrpSpPr/>
                <p:nvPr/>
              </p:nvGrpSpPr>
              <p:grpSpPr>
                <a:xfrm>
                  <a:off x="4682160" y="1219320"/>
                  <a:ext cx="264240" cy="196200"/>
                  <a:chOff x="4682160" y="1219320"/>
                  <a:chExt cx="264240" cy="196200"/>
                </a:xfrm>
              </p:grpSpPr>
              <p:sp>
                <p:nvSpPr>
                  <p:cNvPr id="1755" name=""/>
                  <p:cNvSpPr/>
                  <p:nvPr/>
                </p:nvSpPr>
                <p:spPr>
                  <a:xfrm>
                    <a:off x="4682160" y="132084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4682160" y="126288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>
                    <a:off x="4682160" y="121932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58" name=""/>
              <p:cNvSpPr/>
              <p:nvPr/>
            </p:nvSpPr>
            <p:spPr>
              <a:xfrm>
                <a:off x="4836600" y="129708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152880" y="164268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60" name=""/>
              <p:cNvGrpSpPr/>
              <p:nvPr/>
            </p:nvGrpSpPr>
            <p:grpSpPr>
              <a:xfrm>
                <a:off x="3244680" y="1404000"/>
                <a:ext cx="351720" cy="212760"/>
                <a:chOff x="3244680" y="1404000"/>
                <a:chExt cx="351720" cy="212760"/>
              </a:xfrm>
            </p:grpSpPr>
            <p:sp>
              <p:nvSpPr>
                <p:cNvPr id="1761" name=""/>
                <p:cNvSpPr/>
                <p:nvPr/>
              </p:nvSpPr>
              <p:spPr>
                <a:xfrm>
                  <a:off x="324468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2" name=""/>
                <p:cNvGrpSpPr/>
                <p:nvPr/>
              </p:nvGrpSpPr>
              <p:grpSpPr>
                <a:xfrm>
                  <a:off x="3328560" y="1404000"/>
                  <a:ext cx="264240" cy="196200"/>
                  <a:chOff x="3328560" y="1404000"/>
                  <a:chExt cx="264240" cy="196200"/>
                </a:xfrm>
              </p:grpSpPr>
              <p:sp>
                <p:nvSpPr>
                  <p:cNvPr id="1763" name=""/>
                  <p:cNvSpPr/>
                  <p:nvPr/>
                </p:nvSpPr>
                <p:spPr>
                  <a:xfrm>
                    <a:off x="332856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332856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332856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6" name=""/>
              <p:cNvGrpSpPr/>
              <p:nvPr/>
            </p:nvGrpSpPr>
            <p:grpSpPr>
              <a:xfrm>
                <a:off x="3644640" y="1404000"/>
                <a:ext cx="351720" cy="212760"/>
                <a:chOff x="3644640" y="1404000"/>
                <a:chExt cx="351720" cy="212760"/>
              </a:xfrm>
            </p:grpSpPr>
            <p:sp>
              <p:nvSpPr>
                <p:cNvPr id="1767" name=""/>
                <p:cNvSpPr/>
                <p:nvPr/>
              </p:nvSpPr>
              <p:spPr>
                <a:xfrm>
                  <a:off x="364464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68" name=""/>
                <p:cNvGrpSpPr/>
                <p:nvPr/>
              </p:nvGrpSpPr>
              <p:grpSpPr>
                <a:xfrm>
                  <a:off x="3728520" y="1404000"/>
                  <a:ext cx="264240" cy="196200"/>
                  <a:chOff x="3728520" y="1404000"/>
                  <a:chExt cx="264240" cy="196200"/>
                </a:xfrm>
              </p:grpSpPr>
              <p:sp>
                <p:nvSpPr>
                  <p:cNvPr id="1769" name=""/>
                  <p:cNvSpPr/>
                  <p:nvPr/>
                </p:nvSpPr>
                <p:spPr>
                  <a:xfrm>
                    <a:off x="372852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372852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>
                    <a:off x="372852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2" name=""/>
              <p:cNvGrpSpPr/>
              <p:nvPr/>
            </p:nvGrpSpPr>
            <p:grpSpPr>
              <a:xfrm>
                <a:off x="4044600" y="1404000"/>
                <a:ext cx="351720" cy="212760"/>
                <a:chOff x="4044600" y="1404000"/>
                <a:chExt cx="351720" cy="212760"/>
              </a:xfrm>
            </p:grpSpPr>
            <p:sp>
              <p:nvSpPr>
                <p:cNvPr id="1773" name=""/>
                <p:cNvSpPr/>
                <p:nvPr/>
              </p:nvSpPr>
              <p:spPr>
                <a:xfrm>
                  <a:off x="404460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74" name=""/>
                <p:cNvGrpSpPr/>
                <p:nvPr/>
              </p:nvGrpSpPr>
              <p:grpSpPr>
                <a:xfrm>
                  <a:off x="4128480" y="1404000"/>
                  <a:ext cx="264240" cy="196200"/>
                  <a:chOff x="4128480" y="1404000"/>
                  <a:chExt cx="264240" cy="196200"/>
                </a:xfrm>
              </p:grpSpPr>
              <p:sp>
                <p:nvSpPr>
                  <p:cNvPr id="1775" name=""/>
                  <p:cNvSpPr/>
                  <p:nvPr/>
                </p:nvSpPr>
                <p:spPr>
                  <a:xfrm>
                    <a:off x="412848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412848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412848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8" name=""/>
              <p:cNvGrpSpPr/>
              <p:nvPr/>
            </p:nvGrpSpPr>
            <p:grpSpPr>
              <a:xfrm>
                <a:off x="4444920" y="1404000"/>
                <a:ext cx="351720" cy="212760"/>
                <a:chOff x="4444920" y="1404000"/>
                <a:chExt cx="351720" cy="21276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4444920" y="153288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80" name=""/>
                <p:cNvGrpSpPr/>
                <p:nvPr/>
              </p:nvGrpSpPr>
              <p:grpSpPr>
                <a:xfrm>
                  <a:off x="4528800" y="1404000"/>
                  <a:ext cx="264240" cy="196200"/>
                  <a:chOff x="4528800" y="1404000"/>
                  <a:chExt cx="264240" cy="196200"/>
                </a:xfrm>
              </p:grpSpPr>
              <p:sp>
                <p:nvSpPr>
                  <p:cNvPr id="1781" name=""/>
                  <p:cNvSpPr/>
                  <p:nvPr/>
                </p:nvSpPr>
                <p:spPr>
                  <a:xfrm>
                    <a:off x="4528800" y="150552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>
                    <a:off x="4528800" y="144756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4528800" y="140400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84" name=""/>
            <p:cNvGrpSpPr/>
            <p:nvPr/>
          </p:nvGrpSpPr>
          <p:grpSpPr>
            <a:xfrm>
              <a:off x="4800600" y="1230480"/>
              <a:ext cx="1914480" cy="981000"/>
              <a:chOff x="4800600" y="1230480"/>
              <a:chExt cx="1914480" cy="981000"/>
            </a:xfrm>
          </p:grpSpPr>
          <p:sp>
            <p:nvSpPr>
              <p:cNvPr id="1785" name=""/>
              <p:cNvSpPr/>
              <p:nvPr/>
            </p:nvSpPr>
            <p:spPr>
              <a:xfrm>
                <a:off x="4800600" y="130248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03604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11740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11740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117400" y="123048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42160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01880" y="133128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01880" y="127368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501880" y="123048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80608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8636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8636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86360" y="123048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190560" y="135792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70840" y="133128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270840" y="127368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270840" y="123048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19520" y="130788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800600" y="165060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889520" y="154080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496980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96980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969800" y="141336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2740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35428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35428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354280" y="141336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65812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738400" y="151452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38400" y="145692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38400" y="141336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042600" y="154080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123960" y="151452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123960" y="145692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123960" y="141336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0" name=""/>
            <p:cNvSpPr/>
            <p:nvPr/>
          </p:nvSpPr>
          <p:spPr>
            <a:xfrm>
              <a:off x="154404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40956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00724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0" y="168912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4" name=""/>
            <p:cNvGrpSpPr/>
            <p:nvPr/>
          </p:nvGrpSpPr>
          <p:grpSpPr>
            <a:xfrm>
              <a:off x="6400800" y="1230480"/>
              <a:ext cx="1768320" cy="981000"/>
              <a:chOff x="6400800" y="1230480"/>
              <a:chExt cx="1768320" cy="981000"/>
            </a:xfrm>
          </p:grpSpPr>
          <p:sp>
            <p:nvSpPr>
              <p:cNvPr id="1825" name=""/>
              <p:cNvSpPr/>
              <p:nvPr/>
            </p:nvSpPr>
            <p:spPr>
              <a:xfrm>
                <a:off x="6400800" y="130284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1824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69348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669348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693480" y="123048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697428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048440" y="133164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7048440" y="127404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48440" y="123048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32960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40340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40340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403400" y="123048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684560" y="135828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758720" y="133164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58720" y="127404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758720" y="123048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99840" y="130608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400800" y="165168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482880" y="154188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557040" y="151524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557040" y="145764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57040" y="141372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683784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91200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91200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912000" y="141372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719316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267320" y="151524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7267320" y="145764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7267320" y="141372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7548120" y="154188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623360" y="151524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623360" y="145764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7623360" y="141372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60" name=""/>
            <p:cNvSpPr/>
            <p:nvPr/>
          </p:nvSpPr>
          <p:spPr>
            <a:xfrm>
              <a:off x="6537240" y="170496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1" name=""/>
          <p:cNvSpPr/>
          <p:nvPr/>
        </p:nvSpPr>
        <p:spPr>
          <a:xfrm>
            <a:off x="3812040" y="40384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2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3812040" y="5410080"/>
            <a:ext cx="19576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(minimo 3 person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3812040" y="2819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4" name=""/>
          <p:cNvGraphicFramePr/>
          <p:nvPr/>
        </p:nvGraphicFramePr>
        <p:xfrm>
          <a:off x="76320" y="2438280"/>
          <a:ext cx="7848360" cy="422604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5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2209680" y="4495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676520" y="3962520"/>
            <a:ext cx="48765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1676520" y="297180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7772400" y="2362320"/>
            <a:ext cx="1371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7924680" y="40384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7924680" y="556272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7924680" y="373392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8" name=""/>
          <p:cNvGrpSpPr/>
          <p:nvPr/>
        </p:nvGrpSpPr>
        <p:grpSpPr>
          <a:xfrm>
            <a:off x="0" y="1219320"/>
            <a:ext cx="8153280" cy="1022040"/>
            <a:chOff x="0" y="1219320"/>
            <a:chExt cx="8153280" cy="1022040"/>
          </a:xfrm>
        </p:grpSpPr>
        <p:grpSp>
          <p:nvGrpSpPr>
            <p:cNvPr id="1879" name=""/>
            <p:cNvGrpSpPr/>
            <p:nvPr/>
          </p:nvGrpSpPr>
          <p:grpSpPr>
            <a:xfrm>
              <a:off x="47520" y="1219320"/>
              <a:ext cx="1781280" cy="991800"/>
              <a:chOff x="47520" y="1219320"/>
              <a:chExt cx="1781280" cy="9918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7520" y="129240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2664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342360" y="132156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42360" y="126324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342360" y="121932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2496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99840" y="132156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699840" y="126324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99840" y="121932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98280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05768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05768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057680" y="121932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340640" y="13489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415160" y="132156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415160" y="126324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415160" y="121932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557360" y="129600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47520" y="164520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9960" y="153432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204840" y="150732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204840" y="144900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04840" y="140472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48780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6268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268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62680" y="140472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84564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920160" y="150732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920160" y="144900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920160" y="140472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203120" y="153432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279080" y="150732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279080" y="144900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279080" y="140472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5" name=""/>
            <p:cNvGrpSpPr/>
            <p:nvPr/>
          </p:nvGrpSpPr>
          <p:grpSpPr>
            <a:xfrm>
              <a:off x="1523880" y="1220760"/>
              <a:ext cx="1887480" cy="980640"/>
              <a:chOff x="1523880" y="1220760"/>
              <a:chExt cx="1887480" cy="980640"/>
            </a:xfrm>
          </p:grpSpPr>
          <p:sp>
            <p:nvSpPr>
              <p:cNvPr id="1916" name=""/>
              <p:cNvSpPr/>
              <p:nvPr/>
            </p:nvSpPr>
            <p:spPr>
              <a:xfrm>
                <a:off x="1523880" y="129312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75608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83600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83600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836000" y="122076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21362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2215080" y="132156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2215080" y="126432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2215080" y="122076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251532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2594160" y="132156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2594160" y="126432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94160" y="122076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894040" y="1348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973240" y="132156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973240" y="126432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973240" y="122076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3119760" y="129816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523880" y="164088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611720" y="153108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690920" y="150444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690920" y="144720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690920" y="140364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9908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2069640" y="150444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2069640" y="144720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2069640" y="140364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236952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448720" y="150444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2448720" y="144720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2448720" y="140364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748600" y="153108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828880" y="150444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828880" y="144720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828880" y="140364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1" name=""/>
            <p:cNvGrpSpPr/>
            <p:nvPr/>
          </p:nvGrpSpPr>
          <p:grpSpPr>
            <a:xfrm>
              <a:off x="3124080" y="1220760"/>
              <a:ext cx="1971720" cy="988920"/>
              <a:chOff x="3124080" y="1220760"/>
              <a:chExt cx="1971720" cy="988920"/>
            </a:xfrm>
          </p:grpSpPr>
          <p:sp>
            <p:nvSpPr>
              <p:cNvPr id="1952" name=""/>
              <p:cNvSpPr/>
              <p:nvPr/>
            </p:nvSpPr>
            <p:spPr>
              <a:xfrm>
                <a:off x="3124080" y="129348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53" name=""/>
              <p:cNvGrpSpPr/>
              <p:nvPr/>
            </p:nvGrpSpPr>
            <p:grpSpPr>
              <a:xfrm>
                <a:off x="3367080" y="1220760"/>
                <a:ext cx="348120" cy="212760"/>
                <a:chOff x="3367080" y="1220760"/>
                <a:chExt cx="348120" cy="21276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3367080" y="134964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5" name=""/>
                <p:cNvGrpSpPr/>
                <p:nvPr/>
              </p:nvGrpSpPr>
              <p:grpSpPr>
                <a:xfrm>
                  <a:off x="3450240" y="1220760"/>
                  <a:ext cx="261360" cy="196200"/>
                  <a:chOff x="3450240" y="1220760"/>
                  <a:chExt cx="261360" cy="196200"/>
                </a:xfrm>
              </p:grpSpPr>
              <p:sp>
                <p:nvSpPr>
                  <p:cNvPr id="1956" name=""/>
                  <p:cNvSpPr/>
                  <p:nvPr/>
                </p:nvSpPr>
                <p:spPr>
                  <a:xfrm>
                    <a:off x="3450240" y="132228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>
                    <a:off x="3450240" y="126432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3450240" y="122076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9" name=""/>
              <p:cNvGrpSpPr/>
              <p:nvPr/>
            </p:nvGrpSpPr>
            <p:grpSpPr>
              <a:xfrm>
                <a:off x="3763440" y="1220760"/>
                <a:ext cx="348480" cy="212760"/>
                <a:chOff x="3763440" y="1220760"/>
                <a:chExt cx="348480" cy="21276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3763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1" name=""/>
                <p:cNvGrpSpPr/>
                <p:nvPr/>
              </p:nvGrpSpPr>
              <p:grpSpPr>
                <a:xfrm>
                  <a:off x="3846600" y="1220760"/>
                  <a:ext cx="261720" cy="196200"/>
                  <a:chOff x="3846600" y="1220760"/>
                  <a:chExt cx="261720" cy="196200"/>
                </a:xfrm>
              </p:grpSpPr>
              <p:sp>
                <p:nvSpPr>
                  <p:cNvPr id="1962" name=""/>
                  <p:cNvSpPr/>
                  <p:nvPr/>
                </p:nvSpPr>
                <p:spPr>
                  <a:xfrm>
                    <a:off x="3846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3846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3846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5" name=""/>
              <p:cNvGrpSpPr/>
              <p:nvPr/>
            </p:nvGrpSpPr>
            <p:grpSpPr>
              <a:xfrm>
                <a:off x="4159440" y="1220760"/>
                <a:ext cx="348480" cy="212760"/>
                <a:chOff x="4159440" y="1220760"/>
                <a:chExt cx="348480" cy="21276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4159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7" name=""/>
                <p:cNvGrpSpPr/>
                <p:nvPr/>
              </p:nvGrpSpPr>
              <p:grpSpPr>
                <a:xfrm>
                  <a:off x="4242600" y="1220760"/>
                  <a:ext cx="261720" cy="196200"/>
                  <a:chOff x="4242600" y="1220760"/>
                  <a:chExt cx="261720" cy="196200"/>
                </a:xfrm>
              </p:grpSpPr>
              <p:sp>
                <p:nvSpPr>
                  <p:cNvPr id="1968" name=""/>
                  <p:cNvSpPr/>
                  <p:nvPr/>
                </p:nvSpPr>
                <p:spPr>
                  <a:xfrm>
                    <a:off x="4242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4242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>
                    <a:off x="4242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1" name=""/>
              <p:cNvGrpSpPr/>
              <p:nvPr/>
            </p:nvGrpSpPr>
            <p:grpSpPr>
              <a:xfrm>
                <a:off x="4555440" y="1220760"/>
                <a:ext cx="348480" cy="212760"/>
                <a:chOff x="4555440" y="1220760"/>
                <a:chExt cx="348480" cy="21276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4555440" y="13496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73" name=""/>
                <p:cNvGrpSpPr/>
                <p:nvPr/>
              </p:nvGrpSpPr>
              <p:grpSpPr>
                <a:xfrm>
                  <a:off x="4638600" y="1220760"/>
                  <a:ext cx="261720" cy="196200"/>
                  <a:chOff x="4638600" y="1220760"/>
                  <a:chExt cx="261720" cy="196200"/>
                </a:xfrm>
              </p:grpSpPr>
              <p:sp>
                <p:nvSpPr>
                  <p:cNvPr id="1974" name=""/>
                  <p:cNvSpPr/>
                  <p:nvPr/>
                </p:nvSpPr>
                <p:spPr>
                  <a:xfrm>
                    <a:off x="4638600" y="13222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4638600" y="12643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>
                    <a:off x="4638600" y="12207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77" name=""/>
              <p:cNvSpPr/>
              <p:nvPr/>
            </p:nvSpPr>
            <p:spPr>
              <a:xfrm>
                <a:off x="4791600" y="129852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3124080" y="164412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79" name=""/>
              <p:cNvGrpSpPr/>
              <p:nvPr/>
            </p:nvGrpSpPr>
            <p:grpSpPr>
              <a:xfrm>
                <a:off x="3215160" y="1405440"/>
                <a:ext cx="348480" cy="212760"/>
                <a:chOff x="3215160" y="1405440"/>
                <a:chExt cx="348480" cy="21276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3215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1" name=""/>
                <p:cNvGrpSpPr/>
                <p:nvPr/>
              </p:nvGrpSpPr>
              <p:grpSpPr>
                <a:xfrm>
                  <a:off x="3298320" y="1405440"/>
                  <a:ext cx="261720" cy="196200"/>
                  <a:chOff x="3298320" y="1405440"/>
                  <a:chExt cx="261720" cy="196200"/>
                </a:xfrm>
              </p:grpSpPr>
              <p:sp>
                <p:nvSpPr>
                  <p:cNvPr id="1982" name=""/>
                  <p:cNvSpPr/>
                  <p:nvPr/>
                </p:nvSpPr>
                <p:spPr>
                  <a:xfrm>
                    <a:off x="3298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>
                    <a:off x="3298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3298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5" name=""/>
              <p:cNvGrpSpPr/>
              <p:nvPr/>
            </p:nvGrpSpPr>
            <p:grpSpPr>
              <a:xfrm>
                <a:off x="3611160" y="1405440"/>
                <a:ext cx="348480" cy="212760"/>
                <a:chOff x="3611160" y="1405440"/>
                <a:chExt cx="348480" cy="21276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361116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87" name=""/>
                <p:cNvGrpSpPr/>
                <p:nvPr/>
              </p:nvGrpSpPr>
              <p:grpSpPr>
                <a:xfrm>
                  <a:off x="3694320" y="1405440"/>
                  <a:ext cx="261720" cy="196200"/>
                  <a:chOff x="3694320" y="1405440"/>
                  <a:chExt cx="261720" cy="196200"/>
                </a:xfrm>
              </p:grpSpPr>
              <p:sp>
                <p:nvSpPr>
                  <p:cNvPr id="1988" name=""/>
                  <p:cNvSpPr/>
                  <p:nvPr/>
                </p:nvSpPr>
                <p:spPr>
                  <a:xfrm>
                    <a:off x="369432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"/>
                  <p:cNvSpPr/>
                  <p:nvPr/>
                </p:nvSpPr>
                <p:spPr>
                  <a:xfrm>
                    <a:off x="369432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"/>
                  <p:cNvSpPr/>
                  <p:nvPr/>
                </p:nvSpPr>
                <p:spPr>
                  <a:xfrm>
                    <a:off x="369432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1" name=""/>
              <p:cNvGrpSpPr/>
              <p:nvPr/>
            </p:nvGrpSpPr>
            <p:grpSpPr>
              <a:xfrm>
                <a:off x="4007520" y="1405440"/>
                <a:ext cx="348480" cy="212760"/>
                <a:chOff x="4007520" y="1405440"/>
                <a:chExt cx="348480" cy="212760"/>
              </a:xfrm>
            </p:grpSpPr>
            <p:sp>
              <p:nvSpPr>
                <p:cNvPr id="1992" name=""/>
                <p:cNvSpPr/>
                <p:nvPr/>
              </p:nvSpPr>
              <p:spPr>
                <a:xfrm>
                  <a:off x="4007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3" name=""/>
                <p:cNvGrpSpPr/>
                <p:nvPr/>
              </p:nvGrpSpPr>
              <p:grpSpPr>
                <a:xfrm>
                  <a:off x="4090680" y="1405440"/>
                  <a:ext cx="261720" cy="196200"/>
                  <a:chOff x="4090680" y="1405440"/>
                  <a:chExt cx="261720" cy="19620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>
                    <a:off x="4090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4090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/>
                  <p:nvPr/>
                </p:nvSpPr>
                <p:spPr>
                  <a:xfrm>
                    <a:off x="4090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7" name=""/>
              <p:cNvGrpSpPr/>
              <p:nvPr/>
            </p:nvGrpSpPr>
            <p:grpSpPr>
              <a:xfrm>
                <a:off x="4403520" y="1405440"/>
                <a:ext cx="348480" cy="212760"/>
                <a:chOff x="4403520" y="1405440"/>
                <a:chExt cx="348480" cy="212760"/>
              </a:xfrm>
            </p:grpSpPr>
            <p:sp>
              <p:nvSpPr>
                <p:cNvPr id="1998" name=""/>
                <p:cNvSpPr/>
                <p:nvPr/>
              </p:nvSpPr>
              <p:spPr>
                <a:xfrm>
                  <a:off x="4403520" y="153432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99" name=""/>
                <p:cNvGrpSpPr/>
                <p:nvPr/>
              </p:nvGrpSpPr>
              <p:grpSpPr>
                <a:xfrm>
                  <a:off x="4486680" y="1405440"/>
                  <a:ext cx="261720" cy="196200"/>
                  <a:chOff x="4486680" y="1405440"/>
                  <a:chExt cx="261720" cy="196200"/>
                </a:xfrm>
              </p:grpSpPr>
              <p:sp>
                <p:nvSpPr>
                  <p:cNvPr id="2000" name=""/>
                  <p:cNvSpPr/>
                  <p:nvPr/>
                </p:nvSpPr>
                <p:spPr>
                  <a:xfrm>
                    <a:off x="4486680" y="150696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4486680" y="144900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4486680" y="140544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03" name=""/>
            <p:cNvGrpSpPr/>
            <p:nvPr/>
          </p:nvGrpSpPr>
          <p:grpSpPr>
            <a:xfrm>
              <a:off x="4800600" y="1230120"/>
              <a:ext cx="1897200" cy="981360"/>
              <a:chOff x="4800600" y="1230120"/>
              <a:chExt cx="1897200" cy="981360"/>
            </a:xfrm>
          </p:grpSpPr>
          <p:sp>
            <p:nvSpPr>
              <p:cNvPr id="2004" name=""/>
              <p:cNvSpPr/>
              <p:nvPr/>
            </p:nvSpPr>
            <p:spPr>
              <a:xfrm>
                <a:off x="4800600" y="130212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0338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11452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11452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114520" y="123012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41584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495400" y="133092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495400" y="127332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495400" y="123012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79708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87664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7664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876640" y="123012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6177960" y="135756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257520" y="133092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6257520" y="127332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6257520" y="123012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6405120" y="130752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800600" y="165024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88800" y="154080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968360" y="151416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968360" y="145656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968360" y="141300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26968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34924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4924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49240" y="141300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65056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730120" y="151416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730120" y="145656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730120" y="141300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6031440" y="154080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112080" y="151416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6112080" y="145656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6112080" y="141300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39" name=""/>
            <p:cNvSpPr/>
            <p:nvPr/>
          </p:nvSpPr>
          <p:spPr>
            <a:xfrm>
              <a:off x="1523160" y="1728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373200" y="1728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955040" y="1728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0" y="168912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3" name=""/>
            <p:cNvGrpSpPr/>
            <p:nvPr/>
          </p:nvGrpSpPr>
          <p:grpSpPr>
            <a:xfrm>
              <a:off x="6400800" y="1230120"/>
              <a:ext cx="1752480" cy="981000"/>
              <a:chOff x="6400800" y="1230120"/>
              <a:chExt cx="1752480" cy="981000"/>
            </a:xfrm>
          </p:grpSpPr>
          <p:sp>
            <p:nvSpPr>
              <p:cNvPr id="2044" name=""/>
              <p:cNvSpPr/>
              <p:nvPr/>
            </p:nvSpPr>
            <p:spPr>
              <a:xfrm>
                <a:off x="6400800" y="130248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661608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669060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669060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6690600" y="123012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69692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7042680" y="133128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7042680" y="127368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7042680" y="123012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732132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9440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39440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394400" y="123012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673040" y="135792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746480" y="133128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7746480" y="127368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7746480" y="123012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7886160" y="130572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400800" y="165132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482160" y="154152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555600" y="151488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555600" y="145728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555600" y="141372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83388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90732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690732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6907320" y="141372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718596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7259400" y="151488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7259400" y="145728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7259400" y="141372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7538040" y="154152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612560" y="151488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7612560" y="145728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7612560" y="141372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79" name=""/>
            <p:cNvSpPr/>
            <p:nvPr/>
          </p:nvSpPr>
          <p:spPr>
            <a:xfrm>
              <a:off x="6477120" y="17049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0" name=""/>
          <p:cNvSpPr/>
          <p:nvPr/>
        </p:nvSpPr>
        <p:spPr>
          <a:xfrm>
            <a:off x="7924680" y="2666880"/>
            <a:ext cx="121932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1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Generalidades del CBP Program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rquitectura de Programa “SIMPL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identificados por:</a:t>
            </a:r>
            <a:br>
              <a:rPr sz="2600"/>
            </a:b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Cinco Grupos de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“C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ompetencia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Canales diferenciados en:</a:t>
            </a:r>
            <a:br>
              <a:rPr sz="2600"/>
            </a:b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Cuatro</a:t>
            </a:r>
            <a:r>
              <a:rPr b="0" lang="en-US" sz="26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Niveles</a:t>
            </a: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600" spc="-1" strike="noStrike">
                <a:solidFill>
                  <a:srgbClr val="ebb11f"/>
                </a:solidFill>
                <a:latin typeface="Arial"/>
              </a:rPr>
              <a:t>de “Especialización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52280" y="4419720"/>
            <a:ext cx="6782040" cy="1523520"/>
            <a:chOff x="152280" y="4419720"/>
            <a:chExt cx="6782040" cy="1523520"/>
          </a:xfrm>
        </p:grpSpPr>
        <p:grpSp>
          <p:nvGrpSpPr>
            <p:cNvPr id="93" name=""/>
            <p:cNvGrpSpPr/>
            <p:nvPr/>
          </p:nvGrpSpPr>
          <p:grpSpPr>
            <a:xfrm>
              <a:off x="192240" y="4419720"/>
              <a:ext cx="1492200" cy="1523520"/>
              <a:chOff x="192240" y="4419720"/>
              <a:chExt cx="1492200" cy="1523520"/>
            </a:xfrm>
          </p:grpSpPr>
          <p:sp>
            <p:nvSpPr>
              <p:cNvPr id="94" name=""/>
              <p:cNvSpPr/>
              <p:nvPr/>
            </p:nvSpPr>
            <p:spPr>
              <a:xfrm>
                <a:off x="192240" y="4532400"/>
                <a:ext cx="1492200" cy="5468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920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3920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9200" y="4419720"/>
                <a:ext cx="197280" cy="1458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760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38720" y="4577040"/>
                <a:ext cx="1972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8720" y="4487400"/>
                <a:ext cx="19728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38720" y="4419720"/>
                <a:ext cx="197280" cy="14580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7596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3824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3824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38240" y="4419720"/>
                <a:ext cx="198360" cy="1458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275480" y="461844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338120" y="4577040"/>
                <a:ext cx="1983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338120" y="4487400"/>
                <a:ext cx="198360" cy="1674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8120" y="4419720"/>
                <a:ext cx="198360" cy="14580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457280" y="4537440"/>
                <a:ext cx="224280" cy="14058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92240" y="5073840"/>
                <a:ext cx="1265760" cy="8694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1360" y="4903200"/>
                <a:ext cx="26280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24000" y="4704480"/>
                <a:ext cx="197280" cy="1454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124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352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352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3520" y="4704480"/>
                <a:ext cx="198360" cy="1454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6076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923040" y="4862160"/>
                <a:ext cx="19836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23040" y="4772520"/>
                <a:ext cx="19836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923040" y="4704480"/>
                <a:ext cx="198360" cy="1454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60280" y="4903200"/>
                <a:ext cx="263880" cy="130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4000" y="4862160"/>
                <a:ext cx="197280" cy="147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224000" y="4772520"/>
                <a:ext cx="197280" cy="1688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224000" y="4704480"/>
                <a:ext cx="197280" cy="1454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428840" y="4433760"/>
              <a:ext cx="1582560" cy="1506240"/>
              <a:chOff x="1428840" y="4433760"/>
              <a:chExt cx="1582560" cy="1506240"/>
            </a:xfrm>
          </p:grpSpPr>
          <p:sp>
            <p:nvSpPr>
              <p:cNvPr id="130" name=""/>
              <p:cNvSpPr/>
              <p:nvPr/>
            </p:nvSpPr>
            <p:spPr>
              <a:xfrm>
                <a:off x="1428840" y="4544640"/>
                <a:ext cx="1582560" cy="5371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62324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69056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9056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690560" y="4433760"/>
                <a:ext cx="209160" cy="1436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94220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08440" y="4588920"/>
                <a:ext cx="20916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008440" y="4500720"/>
                <a:ext cx="20916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08440" y="4433760"/>
                <a:ext cx="209160" cy="1436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6008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326320" y="4588920"/>
                <a:ext cx="21024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326320" y="4500720"/>
                <a:ext cx="21024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326320" y="4433760"/>
                <a:ext cx="210240" cy="1436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77960" y="4629600"/>
                <a:ext cx="27972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644200" y="4588920"/>
                <a:ext cx="209880" cy="1436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44200" y="4500720"/>
                <a:ext cx="209880" cy="16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44200" y="4433760"/>
                <a:ext cx="209880" cy="1436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6960" y="4552920"/>
                <a:ext cx="238680" cy="13870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428840" y="5078880"/>
                <a:ext cx="1342440" cy="8575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02280" y="4910400"/>
                <a:ext cx="27864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568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568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568880" y="4714560"/>
                <a:ext cx="209160" cy="1436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8201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886400" y="4869720"/>
                <a:ext cx="20988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86400" y="4781520"/>
                <a:ext cx="20988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886400" y="4714560"/>
                <a:ext cx="209880" cy="1436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3768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204280" y="4869720"/>
                <a:ext cx="21024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04280" y="478152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04280" y="4714560"/>
                <a:ext cx="210240" cy="1436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455560" y="4910400"/>
                <a:ext cx="27972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522880" y="4869720"/>
                <a:ext cx="209160" cy="1454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22880" y="4781520"/>
                <a:ext cx="209160" cy="1666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22880" y="4714560"/>
                <a:ext cx="209160" cy="1436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770200" y="4419720"/>
              <a:ext cx="1652400" cy="1519200"/>
              <a:chOff x="2770200" y="4419720"/>
              <a:chExt cx="1652400" cy="1519200"/>
            </a:xfrm>
          </p:grpSpPr>
          <p:sp>
            <p:nvSpPr>
              <p:cNvPr id="166" name=""/>
              <p:cNvSpPr/>
              <p:nvPr/>
            </p:nvSpPr>
            <p:spPr>
              <a:xfrm>
                <a:off x="2770200" y="4531680"/>
                <a:ext cx="1652400" cy="5421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2973960" y="4419720"/>
                <a:ext cx="291600" cy="327240"/>
                <a:chOff x="2973960" y="4419720"/>
                <a:chExt cx="291600" cy="3272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973960" y="4617720"/>
                  <a:ext cx="29160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3043440" y="4419720"/>
                  <a:ext cx="218880" cy="302040"/>
                  <a:chOff x="3043440" y="4419720"/>
                  <a:chExt cx="218880" cy="302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3043440" y="4575960"/>
                    <a:ext cx="21888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043440" y="4486680"/>
                    <a:ext cx="21888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043440" y="4419720"/>
                    <a:ext cx="21888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" name=""/>
              <p:cNvGrpSpPr/>
              <p:nvPr/>
            </p:nvGrpSpPr>
            <p:grpSpPr>
              <a:xfrm>
                <a:off x="3305880" y="4419720"/>
                <a:ext cx="291960" cy="327240"/>
                <a:chOff x="3305880" y="4419720"/>
                <a:chExt cx="291960" cy="3272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0588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3375360" y="4419720"/>
                  <a:ext cx="219240" cy="302040"/>
                  <a:chOff x="3375360" y="4419720"/>
                  <a:chExt cx="219240" cy="3020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37536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37536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37536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"/>
              <p:cNvGrpSpPr/>
              <p:nvPr/>
            </p:nvGrpSpPr>
            <p:grpSpPr>
              <a:xfrm>
                <a:off x="3637800" y="4419720"/>
                <a:ext cx="291960" cy="327240"/>
                <a:chOff x="3637800" y="4419720"/>
                <a:chExt cx="291960" cy="3272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63780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3707280" y="4419720"/>
                  <a:ext cx="219240" cy="302040"/>
                  <a:chOff x="3707280" y="4419720"/>
                  <a:chExt cx="219240" cy="30204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>
                    <a:off x="370728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70728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70728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3969720" y="4419720"/>
                <a:ext cx="291960" cy="327240"/>
                <a:chOff x="3969720" y="4419720"/>
                <a:chExt cx="291960" cy="3272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3969720" y="461772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4039200" y="4419720"/>
                  <a:ext cx="219240" cy="302040"/>
                  <a:chOff x="4039200" y="4419720"/>
                  <a:chExt cx="219240" cy="30204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4039200" y="457596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039200" y="448668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4039200" y="441972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4167720" y="4539240"/>
                <a:ext cx="249480" cy="1399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770200" y="5070240"/>
                <a:ext cx="1401840" cy="8647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846520" y="4703400"/>
                <a:ext cx="291960" cy="327240"/>
                <a:chOff x="2846520" y="4703400"/>
                <a:chExt cx="291960" cy="3272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84652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2916000" y="4703400"/>
                  <a:ext cx="219240" cy="302040"/>
                  <a:chOff x="2916000" y="4703400"/>
                  <a:chExt cx="219240" cy="30204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291600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91600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91600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3178440" y="4703400"/>
                <a:ext cx="291960" cy="327240"/>
                <a:chOff x="3178440" y="4703400"/>
                <a:chExt cx="291960" cy="327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31784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3247920" y="4703400"/>
                  <a:ext cx="219240" cy="302040"/>
                  <a:chOff x="3247920" y="4703400"/>
                  <a:chExt cx="219240" cy="30204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32479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2479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2479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" name=""/>
              <p:cNvGrpSpPr/>
              <p:nvPr/>
            </p:nvGrpSpPr>
            <p:grpSpPr>
              <a:xfrm>
                <a:off x="3510360" y="4703400"/>
                <a:ext cx="291960" cy="327240"/>
                <a:chOff x="3510360" y="4703400"/>
                <a:chExt cx="291960" cy="327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51036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3579840" y="4703400"/>
                  <a:ext cx="219240" cy="302040"/>
                  <a:chOff x="3579840" y="4703400"/>
                  <a:chExt cx="219240" cy="3020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357984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57984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57984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" name=""/>
              <p:cNvGrpSpPr/>
              <p:nvPr/>
            </p:nvGrpSpPr>
            <p:grpSpPr>
              <a:xfrm>
                <a:off x="3842640" y="4703400"/>
                <a:ext cx="291960" cy="327240"/>
                <a:chOff x="3842640" y="4703400"/>
                <a:chExt cx="291960" cy="327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3842640" y="4901400"/>
                  <a:ext cx="291960" cy="12924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3912120" y="4703400"/>
                  <a:ext cx="219240" cy="302040"/>
                  <a:chOff x="3912120" y="4703400"/>
                  <a:chExt cx="219240" cy="30204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912120" y="4859640"/>
                    <a:ext cx="219240" cy="14580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912120" y="4770360"/>
                    <a:ext cx="219240" cy="16704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912120" y="4703400"/>
                    <a:ext cx="219240" cy="14580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4137120" y="4437000"/>
              <a:ext cx="1590480" cy="1506240"/>
              <a:chOff x="4137120" y="4437000"/>
              <a:chExt cx="1590480" cy="1506240"/>
            </a:xfrm>
          </p:grpSpPr>
          <p:sp>
            <p:nvSpPr>
              <p:cNvPr id="218" name=""/>
              <p:cNvSpPr/>
              <p:nvPr/>
            </p:nvSpPr>
            <p:spPr>
              <a:xfrm>
                <a:off x="4137120" y="4547520"/>
                <a:ext cx="1590480" cy="5374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326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0028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40028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00280" y="4437000"/>
                <a:ext cx="210240" cy="1436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53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19600" y="4591800"/>
                <a:ext cx="21024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719600" y="4503600"/>
                <a:ext cx="21024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19600" y="4437000"/>
                <a:ext cx="210240" cy="1436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97232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3892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03892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038920" y="4437000"/>
                <a:ext cx="211320" cy="1436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292000" y="4632840"/>
                <a:ext cx="2811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58600" y="4591800"/>
                <a:ext cx="211320" cy="1440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358600" y="4503600"/>
                <a:ext cx="211320" cy="16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358600" y="4437000"/>
                <a:ext cx="211320" cy="1436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482080" y="4555800"/>
                <a:ext cx="239760" cy="1387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137120" y="5082120"/>
                <a:ext cx="1349280" cy="85788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210920" y="4913640"/>
                <a:ext cx="28008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27788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7788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277880" y="4717800"/>
                <a:ext cx="210240" cy="1436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53060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9720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9720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597200" y="4717800"/>
                <a:ext cx="211320" cy="1436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4956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16160" y="4872960"/>
                <a:ext cx="21132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16160" y="4784760"/>
                <a:ext cx="21132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916160" y="4717800"/>
                <a:ext cx="211320" cy="1436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8880" y="4913640"/>
                <a:ext cx="281160" cy="129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236560" y="4872960"/>
                <a:ext cx="210240" cy="1450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236560" y="4784760"/>
                <a:ext cx="210240" cy="1666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36560" y="4717800"/>
                <a:ext cx="210240" cy="1436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305720" y="5202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6920" y="5202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00840" y="5202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2280" y="5141880"/>
              <a:ext cx="129564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5465880" y="4437000"/>
              <a:ext cx="1468440" cy="1506240"/>
              <a:chOff x="5465880" y="4437000"/>
              <a:chExt cx="1468440" cy="1506240"/>
            </a:xfrm>
          </p:grpSpPr>
          <p:sp>
            <p:nvSpPr>
              <p:cNvPr id="258" name=""/>
              <p:cNvSpPr/>
              <p:nvPr/>
            </p:nvSpPr>
            <p:spPr>
              <a:xfrm>
                <a:off x="5465880" y="4548240"/>
                <a:ext cx="1468440" cy="54000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462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70888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0888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08880" y="4437000"/>
                <a:ext cx="194040" cy="1440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421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03720" y="4592520"/>
                <a:ext cx="19404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003720" y="4503960"/>
                <a:ext cx="19404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03720" y="4437000"/>
                <a:ext cx="194040" cy="1440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23736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29856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29856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8560" y="4437000"/>
                <a:ext cx="195120" cy="1440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1840" y="4633200"/>
                <a:ext cx="259560" cy="1296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93400" y="4592520"/>
                <a:ext cx="195120" cy="1440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93400" y="4503960"/>
                <a:ext cx="195120" cy="16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593400" y="4437000"/>
                <a:ext cx="195120" cy="1440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10760" y="4552920"/>
                <a:ext cx="220680" cy="13903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65880" y="5083560"/>
                <a:ext cx="1245960" cy="85968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34280" y="4915080"/>
                <a:ext cx="25848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595480" y="4874400"/>
                <a:ext cx="19440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95480" y="4785840"/>
                <a:ext cx="19440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595480" y="4718520"/>
                <a:ext cx="194400" cy="1440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287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903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903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90320" y="4718520"/>
                <a:ext cx="195120" cy="1440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2396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85520" y="4874400"/>
                <a:ext cx="19512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85520" y="4785840"/>
                <a:ext cx="19512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185520" y="4718520"/>
                <a:ext cx="195120" cy="1440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418800" y="4915080"/>
                <a:ext cx="259560" cy="128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481080" y="4874400"/>
                <a:ext cx="194040" cy="1454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81080" y="4785840"/>
                <a:ext cx="194040" cy="1666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481080" y="4718520"/>
                <a:ext cx="194040" cy="1440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5580000" y="5165640"/>
              <a:ext cx="10494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6858000" y="4572000"/>
            <a:ext cx="228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8eb6e"/>
                </a:solidFill>
                <a:latin typeface="Arial"/>
              </a:rPr>
              <a:t>CBP Prefered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8eb6e"/>
                </a:solidFill>
                <a:latin typeface="Arial"/>
              </a:rPr>
              <a:t>CBP Premier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ebb11f"/>
                </a:solidFill>
                <a:latin typeface="Arial"/>
              </a:rPr>
              <a:t>CBP Strategi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jetiv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o de Educación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xtender un Programa de Certificación y Entrenamiento Integral, Homogéneo y Customizado al mismo tiempo. Que le permita al Canal profesionalizar su Fuerza de Trabajo, tanto en las áreas de Venta como de Tecnología,  generando los niveles de conocimiento y las herramientas necesarias para desarrollar su nego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302" name=""/>
            <p:cNvSpPr/>
            <p:nvPr/>
          </p:nvSpPr>
          <p:spPr>
            <a:xfrm>
              <a:off x="7848720" y="28638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br>
                <a:rPr sz="1600"/>
              </a:b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311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315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0" y="1219320"/>
            <a:ext cx="8229240" cy="1022400"/>
            <a:chOff x="0" y="1219320"/>
            <a:chExt cx="8229240" cy="1022400"/>
          </a:xfrm>
        </p:grpSpPr>
        <p:grpSp>
          <p:nvGrpSpPr>
            <p:cNvPr id="321" name=""/>
            <p:cNvGrpSpPr/>
            <p:nvPr/>
          </p:nvGrpSpPr>
          <p:grpSpPr>
            <a:xfrm>
              <a:off x="47520" y="1219320"/>
              <a:ext cx="1811880" cy="991800"/>
              <a:chOff x="47520" y="1219320"/>
              <a:chExt cx="1811880" cy="991800"/>
            </a:xfrm>
          </p:grpSpPr>
          <p:sp>
            <p:nvSpPr>
              <p:cNvPr id="322" name=""/>
              <p:cNvSpPr/>
              <p:nvPr/>
            </p:nvSpPr>
            <p:spPr>
              <a:xfrm>
                <a:off x="47520" y="129240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0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7400" y="132156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7400" y="126324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7400" y="121932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4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11000" y="132156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11000" y="126324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11000" y="121932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9900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496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496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4960" y="121932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62960" y="13489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438920" y="132156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438920" y="126324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438920" y="121932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583280" y="129600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7520" y="164520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1400" y="153432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7360" y="150732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7360" y="144900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7360" y="140472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536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13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713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1320" y="140472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93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934920" y="150732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934920" y="144900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34920" y="140472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222920" y="153432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00320" y="150732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00320" y="144900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00320" y="140472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549440" y="1228680"/>
              <a:ext cx="1919160" cy="981000"/>
              <a:chOff x="1549440" y="1228680"/>
              <a:chExt cx="1919160" cy="981000"/>
            </a:xfrm>
          </p:grpSpPr>
          <p:sp>
            <p:nvSpPr>
              <p:cNvPr id="358" name=""/>
              <p:cNvSpPr/>
              <p:nvPr/>
            </p:nvSpPr>
            <p:spPr>
              <a:xfrm>
                <a:off x="1549440" y="130104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852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86696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86696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866960" y="122868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17188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252520" y="132948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52520" y="127224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252520" y="122868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5574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3772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3772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37720" y="122868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42640" y="135612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23280" y="132948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23280" y="127224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23280" y="122868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72320" y="130608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549440" y="164916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638720" y="153900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19000" y="151272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19000" y="145512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719000" y="141156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0239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1045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1045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104560" y="141156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0912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489760" y="151272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89760" y="14551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489760" y="141156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4680" y="153900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876040" y="151272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76040" y="145512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876040" y="141156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3175920" y="1219320"/>
              <a:ext cx="2005200" cy="988920"/>
              <a:chOff x="3175920" y="1219320"/>
              <a:chExt cx="2005200" cy="988920"/>
            </a:xfrm>
          </p:grpSpPr>
          <p:sp>
            <p:nvSpPr>
              <p:cNvPr id="394" name=""/>
              <p:cNvSpPr/>
              <p:nvPr/>
            </p:nvSpPr>
            <p:spPr>
              <a:xfrm>
                <a:off x="3175920" y="129204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95" name=""/>
              <p:cNvGrpSpPr/>
              <p:nvPr/>
            </p:nvGrpSpPr>
            <p:grpSpPr>
              <a:xfrm>
                <a:off x="3423240" y="1219320"/>
                <a:ext cx="353880" cy="212760"/>
                <a:chOff x="3423240" y="1219320"/>
                <a:chExt cx="353880" cy="21276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3423240" y="134820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"/>
                <p:cNvGrpSpPr/>
                <p:nvPr/>
              </p:nvGrpSpPr>
              <p:grpSpPr>
                <a:xfrm>
                  <a:off x="3507480" y="1219320"/>
                  <a:ext cx="265680" cy="196200"/>
                  <a:chOff x="3507480" y="1219320"/>
                  <a:chExt cx="265680" cy="196200"/>
                </a:xfrm>
              </p:grpSpPr>
              <p:sp>
                <p:nvSpPr>
                  <p:cNvPr id="398" name=""/>
                  <p:cNvSpPr/>
                  <p:nvPr/>
                </p:nvSpPr>
                <p:spPr>
                  <a:xfrm>
                    <a:off x="3507480" y="132084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507480" y="126288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507480" y="121932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1" name=""/>
              <p:cNvGrpSpPr/>
              <p:nvPr/>
            </p:nvGrpSpPr>
            <p:grpSpPr>
              <a:xfrm>
                <a:off x="3826080" y="1219320"/>
                <a:ext cx="354240" cy="212760"/>
                <a:chOff x="3826080" y="1219320"/>
                <a:chExt cx="354240" cy="2127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82608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3" name=""/>
                <p:cNvGrpSpPr/>
                <p:nvPr/>
              </p:nvGrpSpPr>
              <p:grpSpPr>
                <a:xfrm>
                  <a:off x="3910680" y="1219320"/>
                  <a:ext cx="266040" cy="196200"/>
                  <a:chOff x="3910680" y="1219320"/>
                  <a:chExt cx="266040" cy="19620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391068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91068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1068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7" name=""/>
              <p:cNvGrpSpPr/>
              <p:nvPr/>
            </p:nvGrpSpPr>
            <p:grpSpPr>
              <a:xfrm>
                <a:off x="4228920" y="1219320"/>
                <a:ext cx="354240" cy="212760"/>
                <a:chOff x="4228920" y="1219320"/>
                <a:chExt cx="354240" cy="2127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422892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09" name=""/>
                <p:cNvGrpSpPr/>
                <p:nvPr/>
              </p:nvGrpSpPr>
              <p:grpSpPr>
                <a:xfrm>
                  <a:off x="4313520" y="1219320"/>
                  <a:ext cx="266040" cy="196200"/>
                  <a:chOff x="4313520" y="1219320"/>
                  <a:chExt cx="266040" cy="196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431352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31352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431352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4631760" y="1219320"/>
                <a:ext cx="354240" cy="212760"/>
                <a:chOff x="4631760" y="1219320"/>
                <a:chExt cx="354240" cy="2127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4631760" y="134820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4716360" y="1219320"/>
                  <a:ext cx="266040" cy="196200"/>
                  <a:chOff x="4716360" y="1219320"/>
                  <a:chExt cx="266040" cy="19620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4716360" y="132084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4716360" y="126288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4716360" y="121932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9" name=""/>
              <p:cNvSpPr/>
              <p:nvPr/>
            </p:nvSpPr>
            <p:spPr>
              <a:xfrm>
                <a:off x="4871880" y="129708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175920" y="164268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3268440" y="1404000"/>
                <a:ext cx="354240" cy="212760"/>
                <a:chOff x="3268440" y="1404000"/>
                <a:chExt cx="354240" cy="212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326844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3" name=""/>
                <p:cNvGrpSpPr/>
                <p:nvPr/>
              </p:nvGrpSpPr>
              <p:grpSpPr>
                <a:xfrm>
                  <a:off x="3353040" y="1404000"/>
                  <a:ext cx="266040" cy="196200"/>
                  <a:chOff x="3353040" y="1404000"/>
                  <a:chExt cx="266040" cy="19620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>
                    <a:off x="335304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335304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335304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671280" y="1404000"/>
                <a:ext cx="354240" cy="212760"/>
                <a:chOff x="3671280" y="1404000"/>
                <a:chExt cx="354240" cy="2127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67128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755880" y="1404000"/>
                  <a:ext cx="266040" cy="196200"/>
                  <a:chOff x="3755880" y="1404000"/>
                  <a:chExt cx="266040" cy="19620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>
                    <a:off x="375588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375588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75588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3" name=""/>
              <p:cNvGrpSpPr/>
              <p:nvPr/>
            </p:nvGrpSpPr>
            <p:grpSpPr>
              <a:xfrm>
                <a:off x="4074120" y="1404000"/>
                <a:ext cx="354240" cy="212760"/>
                <a:chOff x="4074120" y="1404000"/>
                <a:chExt cx="354240" cy="2127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0741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4158720" y="1404000"/>
                  <a:ext cx="266040" cy="196200"/>
                  <a:chOff x="4158720" y="1404000"/>
                  <a:chExt cx="266040" cy="1962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>
                    <a:off x="41587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41587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41587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477320" y="1404000"/>
                <a:ext cx="354240" cy="212760"/>
                <a:chOff x="4477320" y="1404000"/>
                <a:chExt cx="354240" cy="2127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77320" y="153288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4561920" y="1404000"/>
                  <a:ext cx="266040" cy="196200"/>
                  <a:chOff x="4561920" y="1404000"/>
                  <a:chExt cx="266040" cy="19620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4561920" y="150552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4561920" y="144756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4561920" y="140400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5" name=""/>
            <p:cNvGrpSpPr/>
            <p:nvPr/>
          </p:nvGrpSpPr>
          <p:grpSpPr>
            <a:xfrm>
              <a:off x="4835880" y="1230480"/>
              <a:ext cx="1928520" cy="981000"/>
              <a:chOff x="4835880" y="1230480"/>
              <a:chExt cx="1928520" cy="981000"/>
            </a:xfrm>
          </p:grpSpPr>
          <p:sp>
            <p:nvSpPr>
              <p:cNvPr id="446" name=""/>
              <p:cNvSpPr/>
              <p:nvPr/>
            </p:nvSpPr>
            <p:spPr>
              <a:xfrm>
                <a:off x="4835880" y="130248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0731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15484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15484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54840" y="123048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461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42200" y="133128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42200" y="127368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42200" y="123048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4856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92956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2956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29560" y="123048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35920" y="135792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316920" y="133128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16920" y="127368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316920" y="123048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466680" y="130788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835880" y="165060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925520" y="154080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06520" y="151452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06520" y="145692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06520" y="141336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2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393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393520" y="141336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9988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80520" y="151452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80520" y="145692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0520" y="141336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087240" y="154080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168960" y="151452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68960" y="145692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68960" y="141336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1559880" y="172908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38000" y="172908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9000" y="172908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0" y="168912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6447960" y="1230480"/>
              <a:ext cx="1781280" cy="981000"/>
              <a:chOff x="6447960" y="1230480"/>
              <a:chExt cx="1781280" cy="981000"/>
            </a:xfrm>
          </p:grpSpPr>
          <p:sp>
            <p:nvSpPr>
              <p:cNvPr id="486" name=""/>
              <p:cNvSpPr/>
              <p:nvPr/>
            </p:nvSpPr>
            <p:spPr>
              <a:xfrm>
                <a:off x="6447960" y="130284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66684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74280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74280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742800" y="123048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02576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100640" y="133164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00640" y="127404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100640" y="123048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8360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45812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45812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458120" y="123048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741080" y="135828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815600" y="133164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815600" y="127404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815600" y="123048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957800" y="130608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447960" y="165168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530760" y="154188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605280" y="151524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605280" y="145764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605280" y="141372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88824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96312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96312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963120" y="141372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24608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320600" y="151524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20600" y="145764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20600" y="141372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03920" y="154188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79520" y="151524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79520" y="145764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679520" y="141372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6585480" y="170496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6119640" y="2590920"/>
            <a:ext cx="1729080" cy="4190760"/>
            <a:chOff x="6119640" y="2590920"/>
            <a:chExt cx="1729080" cy="4190760"/>
          </a:xfrm>
        </p:grpSpPr>
        <p:sp>
          <p:nvSpPr>
            <p:cNvPr id="523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"/>
          <p:cNvSpPr/>
          <p:nvPr/>
        </p:nvSpPr>
        <p:spPr>
          <a:xfrm>
            <a:off x="7916760" y="26668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916760" y="396252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916760" y="503064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16760" y="373536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752480" y="25146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6320" y="31240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6320" y="44197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6320" y="57150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52480" y="380988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752480" y="5257800"/>
            <a:ext cx="172908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Servi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541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542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578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614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5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1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3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624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7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9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630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3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5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9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9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650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656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9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5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666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1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706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1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777240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772400" y="39625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772400" y="54720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924680" y="50292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924680" y="3657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0" y="38862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2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42670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46483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753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858000" y="5257800"/>
            <a:ext cx="762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3 A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705720" y="601992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705720" y="6400800"/>
            <a:ext cx="9903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t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623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1295280"/>
            <a:ext cx="8153280" cy="982080"/>
            <a:chOff x="0" y="1295280"/>
            <a:chExt cx="8153280" cy="982080"/>
          </a:xfrm>
        </p:grpSpPr>
        <p:grpSp>
          <p:nvGrpSpPr>
            <p:cNvPr id="761" name=""/>
            <p:cNvGrpSpPr/>
            <p:nvPr/>
          </p:nvGrpSpPr>
          <p:grpSpPr>
            <a:xfrm>
              <a:off x="47520" y="1295280"/>
              <a:ext cx="1781280" cy="914760"/>
              <a:chOff x="47520" y="1295280"/>
              <a:chExt cx="1781280" cy="914760"/>
            </a:xfrm>
          </p:grpSpPr>
          <p:sp>
            <p:nvSpPr>
              <p:cNvPr id="762" name=""/>
              <p:cNvSpPr/>
              <p:nvPr/>
            </p:nvSpPr>
            <p:spPr>
              <a:xfrm>
                <a:off x="47520" y="136260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664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42360" y="138960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2360" y="133596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42360" y="129528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2496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699840" y="138960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9840" y="133596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99840" y="129528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98280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05768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05768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057680" y="129528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340640" y="141480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1415160" y="138960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415160" y="133596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415160" y="129528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557360" y="136584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7520" y="168804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29960" y="158544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4840" y="156060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04840" y="150696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04840" y="146628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780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6268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6268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62680" y="146628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4564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0160" y="156060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920160" y="150696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920160" y="146628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203120" y="1585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279080" y="156060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279080" y="150696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279080" y="146628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1523880" y="1296360"/>
              <a:ext cx="1887480" cy="903960"/>
              <a:chOff x="1523880" y="1296360"/>
              <a:chExt cx="1887480" cy="903960"/>
            </a:xfrm>
          </p:grpSpPr>
          <p:sp>
            <p:nvSpPr>
              <p:cNvPr id="798" name=""/>
              <p:cNvSpPr/>
              <p:nvPr/>
            </p:nvSpPr>
            <p:spPr>
              <a:xfrm>
                <a:off x="1523880" y="136296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75608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83600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83600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36000" y="129636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1362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15080" y="138924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215080" y="133632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215080" y="129636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51532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594160" y="138924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94160" y="133632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94160" y="129636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894040" y="141372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973240" y="138924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973240" y="133632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973240" y="129636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119760" y="136764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23880" y="168372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611720" y="158256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690920" y="155808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690920" y="150516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690920" y="146484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9908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069640" y="155808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069640" y="150516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069640" y="146484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36952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448720" y="155808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448720" y="150516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448720" y="146484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48600" y="15825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828880" y="155808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828880" y="150516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828880" y="146484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3124080" y="1296360"/>
              <a:ext cx="1971720" cy="911880"/>
              <a:chOff x="3124080" y="1296360"/>
              <a:chExt cx="1971720" cy="911880"/>
            </a:xfrm>
          </p:grpSpPr>
          <p:sp>
            <p:nvSpPr>
              <p:cNvPr id="834" name=""/>
              <p:cNvSpPr/>
              <p:nvPr/>
            </p:nvSpPr>
            <p:spPr>
              <a:xfrm>
                <a:off x="3124080" y="136332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5" name=""/>
              <p:cNvGrpSpPr/>
              <p:nvPr/>
            </p:nvGrpSpPr>
            <p:grpSpPr>
              <a:xfrm>
                <a:off x="3367080" y="1296360"/>
                <a:ext cx="348120" cy="196200"/>
                <a:chOff x="3367080" y="1296360"/>
                <a:chExt cx="348120" cy="19620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3367080" y="141516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37" name=""/>
                <p:cNvGrpSpPr/>
                <p:nvPr/>
              </p:nvGrpSpPr>
              <p:grpSpPr>
                <a:xfrm>
                  <a:off x="3450240" y="1296360"/>
                  <a:ext cx="261360" cy="181080"/>
                  <a:chOff x="3450240" y="1296360"/>
                  <a:chExt cx="261360" cy="181080"/>
                </a:xfrm>
              </p:grpSpPr>
              <p:sp>
                <p:nvSpPr>
                  <p:cNvPr id="838" name=""/>
                  <p:cNvSpPr/>
                  <p:nvPr/>
                </p:nvSpPr>
                <p:spPr>
                  <a:xfrm>
                    <a:off x="3450240" y="138996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450240" y="133668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450240" y="129636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1" name=""/>
              <p:cNvGrpSpPr/>
              <p:nvPr/>
            </p:nvGrpSpPr>
            <p:grpSpPr>
              <a:xfrm>
                <a:off x="3763440" y="1296360"/>
                <a:ext cx="348480" cy="196200"/>
                <a:chOff x="3763440" y="1296360"/>
                <a:chExt cx="348480" cy="19620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3763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"/>
                <p:cNvGrpSpPr/>
                <p:nvPr/>
              </p:nvGrpSpPr>
              <p:grpSpPr>
                <a:xfrm>
                  <a:off x="3846600" y="1296360"/>
                  <a:ext cx="261720" cy="181080"/>
                  <a:chOff x="3846600" y="1296360"/>
                  <a:chExt cx="261720" cy="181080"/>
                </a:xfrm>
              </p:grpSpPr>
              <p:sp>
                <p:nvSpPr>
                  <p:cNvPr id="844" name=""/>
                  <p:cNvSpPr/>
                  <p:nvPr/>
                </p:nvSpPr>
                <p:spPr>
                  <a:xfrm>
                    <a:off x="3846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46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846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7" name=""/>
              <p:cNvGrpSpPr/>
              <p:nvPr/>
            </p:nvGrpSpPr>
            <p:grpSpPr>
              <a:xfrm>
                <a:off x="4159440" y="1296360"/>
                <a:ext cx="348480" cy="196200"/>
                <a:chOff x="4159440" y="1296360"/>
                <a:chExt cx="348480" cy="19620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4159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9" name=""/>
                <p:cNvGrpSpPr/>
                <p:nvPr/>
              </p:nvGrpSpPr>
              <p:grpSpPr>
                <a:xfrm>
                  <a:off x="4242600" y="1296360"/>
                  <a:ext cx="261720" cy="181080"/>
                  <a:chOff x="4242600" y="1296360"/>
                  <a:chExt cx="261720" cy="181080"/>
                </a:xfrm>
              </p:grpSpPr>
              <p:sp>
                <p:nvSpPr>
                  <p:cNvPr id="850" name=""/>
                  <p:cNvSpPr/>
                  <p:nvPr/>
                </p:nvSpPr>
                <p:spPr>
                  <a:xfrm>
                    <a:off x="4242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242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242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3" name=""/>
              <p:cNvGrpSpPr/>
              <p:nvPr/>
            </p:nvGrpSpPr>
            <p:grpSpPr>
              <a:xfrm>
                <a:off x="4555440" y="1296360"/>
                <a:ext cx="348480" cy="196200"/>
                <a:chOff x="4555440" y="1296360"/>
                <a:chExt cx="348480" cy="19620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555440" y="141516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4638600" y="1296360"/>
                  <a:ext cx="261720" cy="181080"/>
                  <a:chOff x="4638600" y="1296360"/>
                  <a:chExt cx="261720" cy="18108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4638600" y="138996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638600" y="133668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638600" y="129636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9" name=""/>
              <p:cNvSpPr/>
              <p:nvPr/>
            </p:nvSpPr>
            <p:spPr>
              <a:xfrm>
                <a:off x="4791600" y="136800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124080" y="168696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3215160" y="1466640"/>
                <a:ext cx="348480" cy="196200"/>
                <a:chOff x="3215160" y="1466640"/>
                <a:chExt cx="348480" cy="19620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3215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"/>
                <p:cNvGrpSpPr/>
                <p:nvPr/>
              </p:nvGrpSpPr>
              <p:grpSpPr>
                <a:xfrm>
                  <a:off x="3298320" y="1466640"/>
                  <a:ext cx="261720" cy="181080"/>
                  <a:chOff x="3298320" y="1466640"/>
                  <a:chExt cx="261720" cy="181080"/>
                </a:xfrm>
              </p:grpSpPr>
              <p:sp>
                <p:nvSpPr>
                  <p:cNvPr id="864" name=""/>
                  <p:cNvSpPr/>
                  <p:nvPr/>
                </p:nvSpPr>
                <p:spPr>
                  <a:xfrm>
                    <a:off x="3298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3298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298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7" name=""/>
              <p:cNvGrpSpPr/>
              <p:nvPr/>
            </p:nvGrpSpPr>
            <p:grpSpPr>
              <a:xfrm>
                <a:off x="3611160" y="1466640"/>
                <a:ext cx="348480" cy="196200"/>
                <a:chOff x="3611160" y="1466640"/>
                <a:chExt cx="348480" cy="19620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361116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9" name=""/>
                <p:cNvGrpSpPr/>
                <p:nvPr/>
              </p:nvGrpSpPr>
              <p:grpSpPr>
                <a:xfrm>
                  <a:off x="3694320" y="1466640"/>
                  <a:ext cx="261720" cy="181080"/>
                  <a:chOff x="3694320" y="1466640"/>
                  <a:chExt cx="261720" cy="18108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>
                    <a:off x="369432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69432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69432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3" name=""/>
              <p:cNvGrpSpPr/>
              <p:nvPr/>
            </p:nvGrpSpPr>
            <p:grpSpPr>
              <a:xfrm>
                <a:off x="4007520" y="1466640"/>
                <a:ext cx="348480" cy="196200"/>
                <a:chOff x="4007520" y="1466640"/>
                <a:chExt cx="348480" cy="19620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007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4090680" y="1466640"/>
                  <a:ext cx="261720" cy="181080"/>
                  <a:chOff x="4090680" y="1466640"/>
                  <a:chExt cx="261720" cy="18108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4090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4090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4090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9" name=""/>
              <p:cNvGrpSpPr/>
              <p:nvPr/>
            </p:nvGrpSpPr>
            <p:grpSpPr>
              <a:xfrm>
                <a:off x="4403520" y="1466640"/>
                <a:ext cx="348480" cy="196200"/>
                <a:chOff x="4403520" y="1466640"/>
                <a:chExt cx="348480" cy="19620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4403520" y="158544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1" name=""/>
                <p:cNvGrpSpPr/>
                <p:nvPr/>
              </p:nvGrpSpPr>
              <p:grpSpPr>
                <a:xfrm>
                  <a:off x="4486680" y="1466640"/>
                  <a:ext cx="261720" cy="181080"/>
                  <a:chOff x="4486680" y="1466640"/>
                  <a:chExt cx="261720" cy="181080"/>
                </a:xfrm>
              </p:grpSpPr>
              <p:sp>
                <p:nvSpPr>
                  <p:cNvPr id="882" name=""/>
                  <p:cNvSpPr/>
                  <p:nvPr/>
                </p:nvSpPr>
                <p:spPr>
                  <a:xfrm>
                    <a:off x="4486680" y="156024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4486680" y="150696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4486680" y="146664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5" name=""/>
            <p:cNvGrpSpPr/>
            <p:nvPr/>
          </p:nvGrpSpPr>
          <p:grpSpPr>
            <a:xfrm>
              <a:off x="4800600" y="1305000"/>
              <a:ext cx="1897200" cy="904320"/>
              <a:chOff x="4800600" y="1305000"/>
              <a:chExt cx="1897200" cy="904320"/>
            </a:xfrm>
          </p:grpSpPr>
          <p:sp>
            <p:nvSpPr>
              <p:cNvPr id="886" name=""/>
              <p:cNvSpPr/>
              <p:nvPr/>
            </p:nvSpPr>
            <p:spPr>
              <a:xfrm>
                <a:off x="4800600" y="137124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338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11452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11452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114520" y="130500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41584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495400" y="139788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495400" y="134496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495400" y="130500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9708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7664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7664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76640" y="130500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177960" y="142272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57520" y="139788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57520" y="134496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57520" y="130500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05120" y="137628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800600" y="169236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888800" y="159120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968360" y="1566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68360" y="1513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968360" y="147348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26968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34924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34924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349240" y="147348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65056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730120" y="156672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730120" y="151380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30120" y="147348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031440" y="159120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112080" y="1566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12080" y="1513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112080" y="147348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1" name=""/>
            <p:cNvSpPr/>
            <p:nvPr/>
          </p:nvSpPr>
          <p:spPr>
            <a:xfrm>
              <a:off x="1524960" y="176472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73200" y="176472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955040" y="176472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0" y="172836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5" name=""/>
            <p:cNvGrpSpPr/>
            <p:nvPr/>
          </p:nvGrpSpPr>
          <p:grpSpPr>
            <a:xfrm>
              <a:off x="6400800" y="1305000"/>
              <a:ext cx="1752480" cy="904680"/>
              <a:chOff x="6400800" y="1305000"/>
              <a:chExt cx="1752480" cy="904680"/>
            </a:xfrm>
          </p:grpSpPr>
          <p:sp>
            <p:nvSpPr>
              <p:cNvPr id="926" name=""/>
              <p:cNvSpPr/>
              <p:nvPr/>
            </p:nvSpPr>
            <p:spPr>
              <a:xfrm>
                <a:off x="6400800" y="137160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08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9060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69060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690600" y="130500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69692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042680" y="139824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7042680" y="134532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042680" y="130500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32132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9440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39440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94400" y="130500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73040" y="142272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46480" y="139824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46480" y="134532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746480" y="130500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886160" y="137448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400800" y="169344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82160" y="159192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555600" y="156744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555600" y="151452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555600" y="147420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83388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0732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0732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907320" y="147420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18596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259400" y="156744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259400" y="151452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259400" y="147420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538040" y="159192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612560" y="156744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612560" y="151452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612560" y="147420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6477120" y="174276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19720" y="5334120"/>
            <a:ext cx="17524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1460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(1) 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04920" y="5334120"/>
            <a:ext cx="18288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705720" y="5638680"/>
            <a:ext cx="99036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.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8" name=""/>
          <p:cNvGraphicFramePr/>
          <p:nvPr/>
        </p:nvGraphicFramePr>
        <p:xfrm>
          <a:off x="76320" y="2666880"/>
          <a:ext cx="7924680" cy="41799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9" name=""/>
          <p:cNvSpPr/>
          <p:nvPr/>
        </p:nvSpPr>
        <p:spPr>
          <a:xfrm>
            <a:off x="7916760" y="29718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916760" y="43434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916760" y="56386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053560" y="533412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053560" y="4038480"/>
            <a:ext cx="109044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977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978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014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9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050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3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054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7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058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5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9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1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5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7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3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9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01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102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142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2717640" y="2286000"/>
            <a:ext cx="2718000" cy="533520"/>
          </a:xfrm>
          <a:prstGeom prst="downArrowCallout">
            <a:avLst>
              <a:gd name="adj1" fmla="val 127373"/>
              <a:gd name="adj2" fmla="val 127362"/>
              <a:gd name="adj3" fmla="val 16667"/>
              <a:gd name="adj4" fmla="val 66667"/>
            </a:avLst>
          </a:prstGeom>
          <a:gradFill rotWithShape="0">
            <a:gsLst>
              <a:gs pos="0">
                <a:srgbClr val="d05a3a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971800" y="43434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971800" y="3124080"/>
            <a:ext cx="213372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Alpha 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1371600" y="5715000"/>
            <a:ext cx="21337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Associate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4876920" y="5715000"/>
            <a:ext cx="213336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</a:t>
            </a: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9067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186" name=""/>
          <p:cNvGraphicFramePr/>
          <p:nvPr/>
        </p:nvGraphicFramePr>
        <p:xfrm>
          <a:off x="76320" y="2362320"/>
          <a:ext cx="7848360" cy="4189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7" name=""/>
          <p:cNvSpPr/>
          <p:nvPr/>
        </p:nvSpPr>
        <p:spPr>
          <a:xfrm>
            <a:off x="7916760" y="274320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916760" y="40384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916760" y="5410080"/>
            <a:ext cx="122724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7916760" y="502920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7916760" y="3733920"/>
            <a:ext cx="10908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900600" y="25146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28600" y="28954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28600" y="411480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28600" y="541008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900600" y="380988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900600" y="5257800"/>
            <a:ext cx="18144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S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0" y="1295280"/>
            <a:ext cx="8169120" cy="1022400"/>
            <a:chOff x="0" y="1295280"/>
            <a:chExt cx="8169120" cy="1022400"/>
          </a:xfrm>
        </p:grpSpPr>
        <p:grpSp>
          <p:nvGrpSpPr>
            <p:cNvPr id="1200" name=""/>
            <p:cNvGrpSpPr/>
            <p:nvPr/>
          </p:nvGrpSpPr>
          <p:grpSpPr>
            <a:xfrm>
              <a:off x="47520" y="1295280"/>
              <a:ext cx="1798920" cy="991800"/>
              <a:chOff x="47520" y="1295280"/>
              <a:chExt cx="1798920" cy="9918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7520" y="1368360"/>
                <a:ext cx="179892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685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45240" y="1397520"/>
                <a:ext cx="2376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45240" y="1339200"/>
                <a:ext cx="2376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5240" y="1295280"/>
                <a:ext cx="2376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3072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06320" y="1397520"/>
                <a:ext cx="2379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06320" y="1339200"/>
                <a:ext cx="2379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06320" y="1295280"/>
                <a:ext cx="2379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99216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06740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06740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067400" y="1295280"/>
                <a:ext cx="2390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353600" y="14248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428840" y="1397520"/>
                <a:ext cx="2390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428840" y="1339200"/>
                <a:ext cx="2390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428840" y="1295280"/>
                <a:ext cx="2390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572480" y="1371960"/>
                <a:ext cx="2703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7520" y="1721160"/>
                <a:ext cx="15260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31040" y="1610280"/>
                <a:ext cx="3168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06280" y="1583280"/>
                <a:ext cx="2379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06280" y="1524960"/>
                <a:ext cx="2379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06280" y="1480680"/>
                <a:ext cx="2379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9212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6772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72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7720" y="1480680"/>
                <a:ext cx="2390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85356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928800" y="1583280"/>
                <a:ext cx="2390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928800" y="1524960"/>
                <a:ext cx="2390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928800" y="1480680"/>
                <a:ext cx="2390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214640" y="1610280"/>
                <a:ext cx="31788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291320" y="1583280"/>
                <a:ext cx="2376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291320" y="1524960"/>
                <a:ext cx="2376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1291320" y="1480680"/>
                <a:ext cx="2376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1538280" y="1304640"/>
              <a:ext cx="1905120" cy="981000"/>
              <a:chOff x="1538280" y="1304640"/>
              <a:chExt cx="1905120" cy="981000"/>
            </a:xfrm>
          </p:grpSpPr>
          <p:sp>
            <p:nvSpPr>
              <p:cNvPr id="1237" name=""/>
              <p:cNvSpPr/>
              <p:nvPr/>
            </p:nvSpPr>
            <p:spPr>
              <a:xfrm>
                <a:off x="1538280" y="1377000"/>
                <a:ext cx="19051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7726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85364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85364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853640" y="1304640"/>
                <a:ext cx="2520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15604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2235960" y="14054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2235960" y="1348200"/>
                <a:ext cx="2520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35960" y="1304640"/>
                <a:ext cx="2520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253872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618640" y="14054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2618640" y="1348200"/>
                <a:ext cx="2530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618640" y="1304640"/>
                <a:ext cx="2530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2921400" y="1432080"/>
                <a:ext cx="3366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001320" y="1405440"/>
                <a:ext cx="2527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3001320" y="1348200"/>
                <a:ext cx="2527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001320" y="1304640"/>
                <a:ext cx="25272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149280" y="1382040"/>
                <a:ext cx="2872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538280" y="1725120"/>
                <a:ext cx="161604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626840" y="1614960"/>
                <a:ext cx="3355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706760" y="1588680"/>
                <a:ext cx="2516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760" y="1531080"/>
                <a:ext cx="2516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706760" y="1487520"/>
                <a:ext cx="2516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200952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089440" y="1588680"/>
                <a:ext cx="2527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2089440" y="1531080"/>
                <a:ext cx="2527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2089440" y="1487520"/>
                <a:ext cx="25272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39184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471760" y="1588680"/>
                <a:ext cx="2530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471760" y="15310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2471760" y="1487520"/>
                <a:ext cx="2530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774160" y="1614960"/>
                <a:ext cx="3366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855160" y="1588680"/>
                <a:ext cx="2520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855160" y="15310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2855160" y="1487520"/>
                <a:ext cx="2520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2" name=""/>
            <p:cNvGrpSpPr/>
            <p:nvPr/>
          </p:nvGrpSpPr>
          <p:grpSpPr>
            <a:xfrm>
              <a:off x="3152880" y="1295280"/>
              <a:ext cx="1990800" cy="988920"/>
              <a:chOff x="3152880" y="1295280"/>
              <a:chExt cx="1990800" cy="988920"/>
            </a:xfrm>
          </p:grpSpPr>
          <p:sp>
            <p:nvSpPr>
              <p:cNvPr id="1273" name=""/>
              <p:cNvSpPr/>
              <p:nvPr/>
            </p:nvSpPr>
            <p:spPr>
              <a:xfrm>
                <a:off x="3152880" y="1368000"/>
                <a:ext cx="19908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3398400" y="1295280"/>
                <a:ext cx="351360" cy="212760"/>
                <a:chOff x="3398400" y="1295280"/>
                <a:chExt cx="351360" cy="212760"/>
              </a:xfrm>
            </p:grpSpPr>
            <p:sp>
              <p:nvSpPr>
                <p:cNvPr id="1275" name=""/>
                <p:cNvSpPr/>
                <p:nvPr/>
              </p:nvSpPr>
              <p:spPr>
                <a:xfrm>
                  <a:off x="3398400" y="1424160"/>
                  <a:ext cx="35136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76" name=""/>
                <p:cNvGrpSpPr/>
                <p:nvPr/>
              </p:nvGrpSpPr>
              <p:grpSpPr>
                <a:xfrm>
                  <a:off x="3482280" y="1295280"/>
                  <a:ext cx="263880" cy="196200"/>
                  <a:chOff x="3482280" y="1295280"/>
                  <a:chExt cx="263880" cy="196200"/>
                </a:xfrm>
              </p:grpSpPr>
              <p:sp>
                <p:nvSpPr>
                  <p:cNvPr id="1277" name=""/>
                  <p:cNvSpPr/>
                  <p:nvPr/>
                </p:nvSpPr>
                <p:spPr>
                  <a:xfrm>
                    <a:off x="3482280" y="1396800"/>
                    <a:ext cx="2638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3482280" y="1338840"/>
                    <a:ext cx="2638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3482280" y="1295280"/>
                    <a:ext cx="2638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0" name=""/>
              <p:cNvGrpSpPr/>
              <p:nvPr/>
            </p:nvGrpSpPr>
            <p:grpSpPr>
              <a:xfrm>
                <a:off x="3798360" y="1295280"/>
                <a:ext cx="351720" cy="212760"/>
                <a:chOff x="3798360" y="1295280"/>
                <a:chExt cx="351720" cy="212760"/>
              </a:xfrm>
            </p:grpSpPr>
            <p:sp>
              <p:nvSpPr>
                <p:cNvPr id="1281" name=""/>
                <p:cNvSpPr/>
                <p:nvPr/>
              </p:nvSpPr>
              <p:spPr>
                <a:xfrm>
                  <a:off x="379836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2" name=""/>
                <p:cNvGrpSpPr/>
                <p:nvPr/>
              </p:nvGrpSpPr>
              <p:grpSpPr>
                <a:xfrm>
                  <a:off x="3882240" y="1295280"/>
                  <a:ext cx="264240" cy="196200"/>
                  <a:chOff x="3882240" y="1295280"/>
                  <a:chExt cx="264240" cy="196200"/>
                </a:xfrm>
              </p:grpSpPr>
              <p:sp>
                <p:nvSpPr>
                  <p:cNvPr id="1283" name=""/>
                  <p:cNvSpPr/>
                  <p:nvPr/>
                </p:nvSpPr>
                <p:spPr>
                  <a:xfrm>
                    <a:off x="388224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"/>
                  <p:cNvSpPr/>
                  <p:nvPr/>
                </p:nvSpPr>
                <p:spPr>
                  <a:xfrm>
                    <a:off x="388224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388224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6" name=""/>
              <p:cNvGrpSpPr/>
              <p:nvPr/>
            </p:nvGrpSpPr>
            <p:grpSpPr>
              <a:xfrm>
                <a:off x="4198320" y="1295280"/>
                <a:ext cx="351720" cy="212760"/>
                <a:chOff x="4198320" y="1295280"/>
                <a:chExt cx="351720" cy="212760"/>
              </a:xfrm>
            </p:grpSpPr>
            <p:sp>
              <p:nvSpPr>
                <p:cNvPr id="1287" name=""/>
                <p:cNvSpPr/>
                <p:nvPr/>
              </p:nvSpPr>
              <p:spPr>
                <a:xfrm>
                  <a:off x="419832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88" name=""/>
                <p:cNvGrpSpPr/>
                <p:nvPr/>
              </p:nvGrpSpPr>
              <p:grpSpPr>
                <a:xfrm>
                  <a:off x="4282200" y="1295280"/>
                  <a:ext cx="264240" cy="196200"/>
                  <a:chOff x="4282200" y="1295280"/>
                  <a:chExt cx="264240" cy="196200"/>
                </a:xfrm>
              </p:grpSpPr>
              <p:sp>
                <p:nvSpPr>
                  <p:cNvPr id="1289" name=""/>
                  <p:cNvSpPr/>
                  <p:nvPr/>
                </p:nvSpPr>
                <p:spPr>
                  <a:xfrm>
                    <a:off x="428220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428220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428220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2" name=""/>
              <p:cNvGrpSpPr/>
              <p:nvPr/>
            </p:nvGrpSpPr>
            <p:grpSpPr>
              <a:xfrm>
                <a:off x="4598280" y="1295280"/>
                <a:ext cx="351720" cy="212760"/>
                <a:chOff x="4598280" y="1295280"/>
                <a:chExt cx="351720" cy="21276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4598280" y="142416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4" name=""/>
                <p:cNvGrpSpPr/>
                <p:nvPr/>
              </p:nvGrpSpPr>
              <p:grpSpPr>
                <a:xfrm>
                  <a:off x="4682160" y="1295280"/>
                  <a:ext cx="264240" cy="196200"/>
                  <a:chOff x="4682160" y="1295280"/>
                  <a:chExt cx="264240" cy="196200"/>
                </a:xfrm>
              </p:grpSpPr>
              <p:sp>
                <p:nvSpPr>
                  <p:cNvPr id="1295" name=""/>
                  <p:cNvSpPr/>
                  <p:nvPr/>
                </p:nvSpPr>
                <p:spPr>
                  <a:xfrm>
                    <a:off x="4682160" y="139680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4682160" y="133884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4682160" y="129528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8" name=""/>
              <p:cNvSpPr/>
              <p:nvPr/>
            </p:nvSpPr>
            <p:spPr>
              <a:xfrm>
                <a:off x="4836600" y="1373040"/>
                <a:ext cx="30060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152880" y="1718640"/>
                <a:ext cx="168876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0" name=""/>
              <p:cNvGrpSpPr/>
              <p:nvPr/>
            </p:nvGrpSpPr>
            <p:grpSpPr>
              <a:xfrm>
                <a:off x="3244680" y="1479960"/>
                <a:ext cx="351720" cy="212760"/>
                <a:chOff x="3244680" y="1479960"/>
                <a:chExt cx="351720" cy="21276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324468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2" name=""/>
                <p:cNvGrpSpPr/>
                <p:nvPr/>
              </p:nvGrpSpPr>
              <p:grpSpPr>
                <a:xfrm>
                  <a:off x="3328560" y="1479960"/>
                  <a:ext cx="264240" cy="196200"/>
                  <a:chOff x="3328560" y="1479960"/>
                  <a:chExt cx="264240" cy="19620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>
                    <a:off x="332856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332856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332856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6" name=""/>
              <p:cNvGrpSpPr/>
              <p:nvPr/>
            </p:nvGrpSpPr>
            <p:grpSpPr>
              <a:xfrm>
                <a:off x="3644640" y="1479960"/>
                <a:ext cx="351720" cy="212760"/>
                <a:chOff x="3644640" y="1479960"/>
                <a:chExt cx="351720" cy="212760"/>
              </a:xfrm>
            </p:grpSpPr>
            <p:sp>
              <p:nvSpPr>
                <p:cNvPr id="1307" name=""/>
                <p:cNvSpPr/>
                <p:nvPr/>
              </p:nvSpPr>
              <p:spPr>
                <a:xfrm>
                  <a:off x="364464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08" name=""/>
                <p:cNvGrpSpPr/>
                <p:nvPr/>
              </p:nvGrpSpPr>
              <p:grpSpPr>
                <a:xfrm>
                  <a:off x="3728520" y="1479960"/>
                  <a:ext cx="264240" cy="196200"/>
                  <a:chOff x="3728520" y="1479960"/>
                  <a:chExt cx="264240" cy="196200"/>
                </a:xfrm>
              </p:grpSpPr>
              <p:sp>
                <p:nvSpPr>
                  <p:cNvPr id="1309" name=""/>
                  <p:cNvSpPr/>
                  <p:nvPr/>
                </p:nvSpPr>
                <p:spPr>
                  <a:xfrm>
                    <a:off x="372852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372852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372852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2" name=""/>
              <p:cNvGrpSpPr/>
              <p:nvPr/>
            </p:nvGrpSpPr>
            <p:grpSpPr>
              <a:xfrm>
                <a:off x="4044600" y="1479960"/>
                <a:ext cx="351720" cy="212760"/>
                <a:chOff x="4044600" y="1479960"/>
                <a:chExt cx="351720" cy="212760"/>
              </a:xfrm>
            </p:grpSpPr>
            <p:sp>
              <p:nvSpPr>
                <p:cNvPr id="1313" name=""/>
                <p:cNvSpPr/>
                <p:nvPr/>
              </p:nvSpPr>
              <p:spPr>
                <a:xfrm>
                  <a:off x="404460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4" name=""/>
                <p:cNvGrpSpPr/>
                <p:nvPr/>
              </p:nvGrpSpPr>
              <p:grpSpPr>
                <a:xfrm>
                  <a:off x="4128480" y="1479960"/>
                  <a:ext cx="264240" cy="196200"/>
                  <a:chOff x="4128480" y="1479960"/>
                  <a:chExt cx="264240" cy="196200"/>
                </a:xfrm>
              </p:grpSpPr>
              <p:sp>
                <p:nvSpPr>
                  <p:cNvPr id="1315" name=""/>
                  <p:cNvSpPr/>
                  <p:nvPr/>
                </p:nvSpPr>
                <p:spPr>
                  <a:xfrm>
                    <a:off x="412848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412848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412848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8" name=""/>
              <p:cNvGrpSpPr/>
              <p:nvPr/>
            </p:nvGrpSpPr>
            <p:grpSpPr>
              <a:xfrm>
                <a:off x="4444920" y="1479960"/>
                <a:ext cx="351720" cy="212760"/>
                <a:chOff x="4444920" y="1479960"/>
                <a:chExt cx="351720" cy="21276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4444920" y="1608840"/>
                  <a:ext cx="3517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4528800" y="1479960"/>
                  <a:ext cx="264240" cy="196200"/>
                  <a:chOff x="4528800" y="1479960"/>
                  <a:chExt cx="264240" cy="19620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>
                    <a:off x="4528800" y="1581480"/>
                    <a:ext cx="2642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4528800" y="1523520"/>
                    <a:ext cx="2642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4528800" y="1479960"/>
                    <a:ext cx="2642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4" name=""/>
            <p:cNvGrpSpPr/>
            <p:nvPr/>
          </p:nvGrpSpPr>
          <p:grpSpPr>
            <a:xfrm>
              <a:off x="4800600" y="1306440"/>
              <a:ext cx="1914480" cy="981000"/>
              <a:chOff x="4800600" y="1306440"/>
              <a:chExt cx="1914480" cy="981000"/>
            </a:xfrm>
          </p:grpSpPr>
          <p:sp>
            <p:nvSpPr>
              <p:cNvPr id="1325" name=""/>
              <p:cNvSpPr/>
              <p:nvPr/>
            </p:nvSpPr>
            <p:spPr>
              <a:xfrm>
                <a:off x="4800600" y="1378440"/>
                <a:ext cx="191448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3604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11740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11740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117400" y="1306440"/>
                <a:ext cx="25308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42160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501880" y="1407240"/>
                <a:ext cx="25308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501880" y="1349640"/>
                <a:ext cx="25308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501880" y="1306440"/>
                <a:ext cx="25308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80608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8636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8636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86360" y="1306440"/>
                <a:ext cx="2545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190560" y="143388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270840" y="1407240"/>
                <a:ext cx="2545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840" y="1349640"/>
                <a:ext cx="2545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270840" y="1306440"/>
                <a:ext cx="2545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419520" y="1383840"/>
                <a:ext cx="28872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800600" y="1726560"/>
                <a:ext cx="162396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89520" y="1616760"/>
                <a:ext cx="3373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96980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96980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969800" y="1489320"/>
                <a:ext cx="2530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2740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428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35428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354280" y="1489320"/>
                <a:ext cx="2545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65812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738400" y="1590480"/>
                <a:ext cx="2545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738400" y="1532880"/>
                <a:ext cx="2545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738400" y="1489320"/>
                <a:ext cx="2545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42600" y="1616760"/>
                <a:ext cx="338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123960" y="1590480"/>
                <a:ext cx="2530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23960" y="1532880"/>
                <a:ext cx="2530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23960" y="1489320"/>
                <a:ext cx="25308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1544040" y="18050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409560" y="18050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007240" y="18050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0" y="1765080"/>
              <a:ext cx="1560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4" name=""/>
            <p:cNvGrpSpPr/>
            <p:nvPr/>
          </p:nvGrpSpPr>
          <p:grpSpPr>
            <a:xfrm>
              <a:off x="6400800" y="1306440"/>
              <a:ext cx="1768320" cy="981000"/>
              <a:chOff x="6400800" y="1306440"/>
              <a:chExt cx="1768320" cy="981000"/>
            </a:xfrm>
          </p:grpSpPr>
          <p:sp>
            <p:nvSpPr>
              <p:cNvPr id="1365" name=""/>
              <p:cNvSpPr/>
              <p:nvPr/>
            </p:nvSpPr>
            <p:spPr>
              <a:xfrm>
                <a:off x="6400800" y="1378800"/>
                <a:ext cx="176832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24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69348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69348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693480" y="1306440"/>
                <a:ext cx="2336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97428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048440" y="1407600"/>
                <a:ext cx="2336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048440" y="1350000"/>
                <a:ext cx="2336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048440" y="1306440"/>
                <a:ext cx="2336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32960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0340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40340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403400" y="1306440"/>
                <a:ext cx="2350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684560" y="1434240"/>
                <a:ext cx="3124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758720" y="1407600"/>
                <a:ext cx="2350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758720" y="1350000"/>
                <a:ext cx="2350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758720" y="1306440"/>
                <a:ext cx="2350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899840" y="1382040"/>
                <a:ext cx="2656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400800" y="1727640"/>
                <a:ext cx="150012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482880" y="1617840"/>
                <a:ext cx="3114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57040" y="1591200"/>
                <a:ext cx="2340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557040" y="1533600"/>
                <a:ext cx="2340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557040" y="1489680"/>
                <a:ext cx="2340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83784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1200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200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12000" y="1489680"/>
                <a:ext cx="2350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19316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7267320" y="1591200"/>
                <a:ext cx="2350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7267320" y="1533600"/>
                <a:ext cx="2350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267320" y="1489680"/>
                <a:ext cx="2350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548120" y="1617840"/>
                <a:ext cx="31248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623360" y="1591200"/>
                <a:ext cx="2336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23360" y="1533600"/>
                <a:ext cx="2336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623360" y="1489680"/>
                <a:ext cx="2336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0" name=""/>
            <p:cNvSpPr/>
            <p:nvPr/>
          </p:nvSpPr>
          <p:spPr>
            <a:xfrm>
              <a:off x="6537240" y="1780920"/>
              <a:ext cx="120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1" name=""/>
          <p:cNvSpPr/>
          <p:nvPr/>
        </p:nvSpPr>
        <p:spPr>
          <a:xfrm>
            <a:off x="1833120" y="38098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3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2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1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833120" y="5181480"/>
            <a:ext cx="1758240" cy="10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60% de la fuerz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de v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(minimo 3 person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2 Proliant / 1 Stor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830960" y="28954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1 Perso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4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5" name=""/>
          <p:cNvSpPr/>
          <p:nvPr/>
        </p:nvSpPr>
        <p:spPr>
          <a:xfrm>
            <a:off x="8305920" y="27432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7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1408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1409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1445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80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1481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82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1483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1485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8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1489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0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1491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4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496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1497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0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02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1503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06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8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0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1511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4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16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0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2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28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2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1533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68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72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1573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8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09" name=""/>
          <p:cNvSpPr/>
          <p:nvPr/>
        </p:nvSpPr>
        <p:spPr>
          <a:xfrm>
            <a:off x="6019920" y="4114800"/>
            <a:ext cx="2057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 Full 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1612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16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533520" y="56386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304920" y="6095880"/>
            <a:ext cx="13716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2209680" y="6324480"/>
            <a:ext cx="1524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2209680" y="4419720"/>
            <a:ext cx="15242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2209680" y="297180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2209680" y="39625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209680" y="57913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4114800" y="4191120"/>
            <a:ext cx="167652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114800" y="5410080"/>
            <a:ext cx="167652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209680" y="5334120"/>
            <a:ext cx="1524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304920" y="22096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Obligato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4115520" y="220968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(Solo Alpha CB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114800" y="6019920"/>
            <a:ext cx="167652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5050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6019920" y="6248520"/>
            <a:ext cx="213336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6019920" y="57913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559-560-561 S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olutions Fast Tra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5334120"/>
            <a:ext cx="213336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441 Storage Fa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rack 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152280" y="5105520"/>
            <a:ext cx="80010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8305920" y="58672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Str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8305920" y="4267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erinS</cp:lastModifiedBy>
  <cp:lastPrinted>2000-08-21T15:23:38Z</cp:lastPrinted>
  <dcterms:modified xsi:type="dcterms:W3CDTF">2001-11-21T14:52:29Z</dcterms:modified>
  <cp:revision>565</cp:revision>
  <dc:subject/>
  <dc:title>Michael Capellas</dc:title>
</cp:coreProperties>
</file>